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27.wmf" ContentType="image/x-wmf"/>
  <Override PartName="/ppt/media/image26.wmf" ContentType="image/x-wmf"/>
  <Override PartName="/ppt/media/image20.wmf" ContentType="image/x-wmf"/>
  <Override PartName="/ppt/media/image18.wmf" ContentType="image/x-wmf"/>
  <Override PartName="/ppt/media/image7.gif" ContentType="image/gif"/>
  <Override PartName="/ppt/media/image6.png" ContentType="image/png"/>
  <Override PartName="/ppt/media/image14.wmf" ContentType="image/x-wmf"/>
  <Override PartName="/ppt/media/image32.wmf" ContentType="image/x-wmf"/>
  <Override PartName="/ppt/media/image29.png" ContentType="image/png"/>
  <Override PartName="/ppt/media/image22.wmf" ContentType="image/x-wmf"/>
  <Override PartName="/ppt/media/image9.gif" ContentType="image/gif"/>
  <Override PartName="/ppt/media/image10.gif" ContentType="image/gif"/>
  <Override PartName="/ppt/media/image11.gif" ContentType="image/gif"/>
  <Override PartName="/ppt/media/image12.wmf" ContentType="image/x-wmf"/>
  <Override PartName="/ppt/media/image30.wmf" ContentType="image/x-wmf"/>
  <Override PartName="/ppt/media/image31.wmf" ContentType="image/x-wmf"/>
  <Override PartName="/ppt/media/image13.gif" ContentType="image/gif"/>
  <Override PartName="/ppt/media/image8.gif" ContentType="image/gif"/>
  <Override PartName="/ppt/media/image19.wmf" ContentType="image/x-wmf"/>
  <Override PartName="/ppt/media/image21.wmf" ContentType="image/x-wmf"/>
  <Override PartName="/ppt/media/image4.jpeg" ContentType="image/jpeg"/>
  <Override PartName="/ppt/media/image2.png" ContentType="image/png"/>
  <Override PartName="/ppt/media/image3.png" ContentType="image/png"/>
  <Override PartName="/ppt/media/image5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wmf" ContentType="image/x-wmf"/>
  <Override PartName="/ppt/media/image23.jpeg" ContentType="image/jpeg"/>
  <Override PartName="/ppt/media/image25.wmf" ContentType="image/x-wmf"/>
  <Override PartName="/ppt/media/image24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BC34-DF5F-463F-846B-E41651A13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6381-A39A-41AB-BD66-984768534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7089-8D64-44B6-9D67-741B421D5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2CFC-011C-4075-B8A9-E8901A01B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BD63C-E6A9-4394-9CD9-03937FCD3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ABB3C-FC3A-44E3-A759-E3C195330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38006-27B2-411D-8CE7-57707B462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04184-D167-4C2F-B4E8-3E7B75A5E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B7813-0B0B-48FC-937E-7DD7FAA0E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DA3FB-DB9D-4E5D-867D-BD9311B40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018FC-FD07-415E-84D5-44C2A529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61B0-5507-43F5-8B70-47090BF20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7F1B8-EBBC-472E-9F02-86AD4BCF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CE920-35FF-430D-A32C-6189653C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FC26D-9529-4A5E-AA83-9006CC67D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F6A87-7232-4293-9DF8-782CC9E28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DE7AB-3197-4586-B448-08FEAAA01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C5583-EFDA-4016-AD5A-C88168281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1EFAA-2222-40A3-82B6-A96C60555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96290-68B9-4016-B068-D0092E9A0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950CF-1FAE-4A6A-8E9B-FB67AD470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AE126-97A3-4E3F-83BD-5A6526A72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6781-B18E-415E-9EB6-1CB82C423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9C1E5-73DF-4A56-B9DA-2E0B37B8E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8A362-30F7-4853-A995-0B267E8F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51C13-1D8A-4B30-AE0C-B89C92DD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A827B-DBD5-4F38-82DF-41264DA1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EBDD5-6D15-4876-A176-69C72F6AC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D94A0-CB00-44D3-945D-DDA632324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EB0C0-C576-4FDA-A339-74F5767BF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021DC-FA72-4B31-BCE6-9FBEEE885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8C49A-61EC-4268-8C72-D417ED154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7C0F0-C3B1-4D37-AE61-C68857CAB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E6B1-E012-4101-BA2A-E4615BE38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9F479-9763-4271-83F2-AEBB08942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BF8B1-3742-4106-93D6-EAB3C5610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023D8-8F68-42BA-A0ED-61712E19E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C9223-FC38-4F97-B3EF-A7F02B59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8F2D3-E5D0-4DBE-88B1-1F5E1611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6D4ED-CE1B-4682-97B3-2C07F9AD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DE09B-8313-4CB0-A6B3-B2A3DCA0D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4A246-DEF1-4A2B-B4AE-554D54D1A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AE440-5914-4F21-A4F0-40E49127A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2E2C-049B-4D92-BC64-3E7424BF9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F0ED-E7BB-478C-9E60-41195E907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5519-24F7-4BC9-9CC6-751B444C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AE18-CD61-4408-B11D-C413DFE3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D1E1-EEA0-43C1-854B-2BD566E9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93868-B90D-4BE3-86A8-279FB2315ED4}" type="slidenum">
              <a:rPr b="0" lang="en-A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59E1E-CB7A-46B5-B94D-9998DE60B8A2}" type="slidenum">
              <a:rPr b="0" lang="en-A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DCB02-BD4C-4513-BEF8-A95859541995}" type="slidenum">
              <a:rPr b="0" lang="en-A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DFBC8-DB87-47FF-9AF2-A6C14C4165E8}" type="slidenum">
              <a:rPr b="0" lang="en-A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781200" y="835200"/>
            <a:ext cx="7783200" cy="17985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C:\Program Files\Microsoft Office\Media\CntCD1\Animated\j0282738.gif"/>
          <p:cNvPicPr/>
          <p:nvPr/>
        </p:nvPicPr>
        <p:blipFill>
          <a:blip r:embed="rId2"/>
          <a:stretch/>
        </p:blipFill>
        <p:spPr>
          <a:xfrm>
            <a:off x="8077320" y="5578560"/>
            <a:ext cx="787320" cy="7873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C:\Program Files\Microsoft Office\Media\CntCD1\Animated\j0282740.gif"/>
          <p:cNvPicPr/>
          <p:nvPr/>
        </p:nvPicPr>
        <p:blipFill>
          <a:blip r:embed="rId3"/>
          <a:stretch/>
        </p:blipFill>
        <p:spPr>
          <a:xfrm>
            <a:off x="5500800" y="5643720"/>
            <a:ext cx="955440" cy="9554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C:\Program Files\Microsoft Office\Media\CntCD1\Animated\j0282742.gif"/>
          <p:cNvPicPr/>
          <p:nvPr/>
        </p:nvPicPr>
        <p:blipFill>
          <a:blip r:embed="rId4"/>
          <a:stretch/>
        </p:blipFill>
        <p:spPr>
          <a:xfrm>
            <a:off x="3143160" y="5643720"/>
            <a:ext cx="965160" cy="9651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C:\Program Files\Microsoft Office\Media\CntCD1\Animated\j0282750.gif"/>
          <p:cNvPicPr/>
          <p:nvPr/>
        </p:nvPicPr>
        <p:blipFill>
          <a:blip r:embed="rId5"/>
          <a:stretch/>
        </p:blipFill>
        <p:spPr>
          <a:xfrm>
            <a:off x="928800" y="5643720"/>
            <a:ext cx="847440" cy="847440"/>
          </a:xfrm>
          <a:prstGeom prst="rect">
            <a:avLst/>
          </a:prstGeom>
          <a:ln w="0">
            <a:noFill/>
          </a:ln>
        </p:spPr>
      </p:pic>
      <p:sp>
        <p:nvSpPr>
          <p:cNvPr id="200" name="TextBox 7"/>
          <p:cNvSpPr/>
          <p:nvPr/>
        </p:nvSpPr>
        <p:spPr>
          <a:xfrm>
            <a:off x="500040" y="27147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Term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8"/>
          <p:cNvSpPr/>
          <p:nvPr/>
        </p:nvSpPr>
        <p:spPr>
          <a:xfrm>
            <a:off x="4214880" y="3071880"/>
            <a:ext cx="25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Term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1"/>
          <p:cNvSpPr/>
          <p:nvPr/>
        </p:nvSpPr>
        <p:spPr>
          <a:xfrm>
            <a:off x="214200" y="142920"/>
            <a:ext cx="235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Term 1-2010 </a:t>
            </a:r>
            <a:br>
              <a:rPr sz="2400"/>
            </a:b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Week  4 </a:t>
            </a:r>
            <a:br>
              <a:rPr sz="2400"/>
            </a:b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 ay-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Activit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2"/>
          <p:cNvSpPr/>
          <p:nvPr/>
        </p:nvSpPr>
        <p:spPr>
          <a:xfrm>
            <a:off x="1643040" y="2714760"/>
            <a:ext cx="678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ttp://www.gamequarium.com/spelling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3"/>
          <p:cNvSpPr/>
          <p:nvPr/>
        </p:nvSpPr>
        <p:spPr>
          <a:xfrm>
            <a:off x="1928880" y="1571760"/>
            <a:ext cx="564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ndalus"/>
                <a:ea typeface="Andalus"/>
              </a:rPr>
              <a:t>Go to the following web site, insert your words and choose some games to 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214200" y="14292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Term 1-2010 </a:t>
            </a:r>
            <a:br>
              <a:rPr sz="2400"/>
            </a:b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Week  6</a:t>
            </a:r>
            <a:br>
              <a:rPr sz="2400"/>
            </a:b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 ee-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3"/>
          <p:cNvSpPr/>
          <p:nvPr/>
        </p:nvSpPr>
        <p:spPr>
          <a:xfrm>
            <a:off x="1785960" y="1643040"/>
            <a:ext cx="4786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t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ree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bl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quee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kn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off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nee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eg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ee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C:\Program Files\Microsoft Office\Media\CntCD1\ClipArt2\j0232730.wmf"/>
          <p:cNvPicPr/>
          <p:nvPr/>
        </p:nvPicPr>
        <p:blipFill>
          <a:blip r:embed="rId1"/>
          <a:stretch/>
        </p:blipFill>
        <p:spPr>
          <a:xfrm>
            <a:off x="6300720" y="1584360"/>
            <a:ext cx="148932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1"/>
          <p:cNvSpPr/>
          <p:nvPr/>
        </p:nvSpPr>
        <p:spPr>
          <a:xfrm>
            <a:off x="214200" y="214200"/>
            <a:ext cx="221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Term 1-2010</a:t>
            </a:r>
            <a:br>
              <a:rPr sz="2400"/>
            </a:b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Week 6</a:t>
            </a:r>
            <a:br>
              <a:rPr sz="2400"/>
            </a:b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 ee-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Activit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2"/>
          <p:cNvSpPr/>
          <p:nvPr/>
        </p:nvSpPr>
        <p:spPr>
          <a:xfrm>
            <a:off x="1214280" y="1643040"/>
            <a:ext cx="700092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Unjumble the word in each sente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fog acted as a (recsen) for the smuggl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en you have a cold you often (neseez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soldier had to (neelk) before the Queen when he was knigh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truck delivered a lot of (tesel) for the new build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f you want to crack walnuts you can (ueszqee) 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temperature has only dropped 1 (greede) in the last ho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en Jan cut her finger it started to (lbdee) all over the flo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old women is too (eeefbl) to do her own shopp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t was so cold outside I thought my blood was going to (zeefe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or our school festival I helped Dad make a tray of (feetof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2" descr="C:\Program Files\Microsoft Office\Media\CntCD1\ClipArt5\j0281200.wmf"/>
          <p:cNvPicPr/>
          <p:nvPr/>
        </p:nvPicPr>
        <p:blipFill>
          <a:blip r:embed="rId1"/>
          <a:stretch/>
        </p:blipFill>
        <p:spPr>
          <a:xfrm>
            <a:off x="7072200" y="260280"/>
            <a:ext cx="141444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1"/>
          <p:cNvSpPr/>
          <p:nvPr/>
        </p:nvSpPr>
        <p:spPr>
          <a:xfrm>
            <a:off x="142920" y="214200"/>
            <a:ext cx="228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Term 1-2010</a:t>
            </a:r>
            <a:br>
              <a:rPr sz="2400"/>
            </a:b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Week 6</a:t>
            </a:r>
            <a:br>
              <a:rPr sz="2400"/>
            </a:b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 ee-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Activit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2"/>
          <p:cNvSpPr/>
          <p:nvPr/>
        </p:nvSpPr>
        <p:spPr>
          <a:xfrm>
            <a:off x="0" y="2714760"/>
            <a:ext cx="892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http://www.lancsngfl.ac.uk/curriculum/literacyresources/files/alpha/alpha.htm?s=44244157da7db97e428926bb9be4936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3"/>
          <p:cNvSpPr/>
          <p:nvPr/>
        </p:nvSpPr>
        <p:spPr>
          <a:xfrm>
            <a:off x="714240" y="2000160"/>
            <a:ext cx="66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o to the following web site and play hang 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2" descr="C:\Program Files\Microsoft Office\Media\CntCD1\ClipArt5\j0286885.wmf"/>
          <p:cNvPicPr/>
          <p:nvPr/>
        </p:nvPicPr>
        <p:blipFill>
          <a:blip r:embed="rId1"/>
          <a:stretch/>
        </p:blipFill>
        <p:spPr>
          <a:xfrm>
            <a:off x="5929200" y="4357800"/>
            <a:ext cx="219888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"/>
          <p:cNvSpPr/>
          <p:nvPr/>
        </p:nvSpPr>
        <p:spPr>
          <a:xfrm>
            <a:off x="214200" y="28584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Term 1-2010</a:t>
            </a:r>
            <a:br>
              <a:rPr sz="2400"/>
            </a:b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Week 7</a:t>
            </a:r>
            <a:br>
              <a:rPr sz="2400"/>
            </a:b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 are-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2"/>
          <p:cNvSpPr/>
          <p:nvPr/>
        </p:nvSpPr>
        <p:spPr>
          <a:xfrm>
            <a:off x="2857680" y="1428840"/>
            <a:ext cx="3286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ndalus"/>
                <a:ea typeface="Andalus"/>
              </a:rPr>
              <a:t>sc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ndalus"/>
                <a:ea typeface="Andalus"/>
              </a:rPr>
              <a:t>st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ndalus"/>
                <a:ea typeface="Andalus"/>
              </a:rPr>
              <a:t>be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ndalus"/>
                <a:ea typeface="Andalus"/>
              </a:rPr>
              <a:t>b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ndalus"/>
                <a:ea typeface="Andalus"/>
              </a:rPr>
              <a:t>sp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ndalus"/>
                <a:ea typeface="Andalus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ndalus"/>
                <a:ea typeface="Andalus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ndalus"/>
                <a:ea typeface="Andalus"/>
              </a:rPr>
              <a:t>prep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ndalus"/>
                <a:ea typeface="Andalus"/>
              </a:rPr>
              <a:t>comp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ndalus"/>
                <a:ea typeface="Andalus"/>
              </a:rPr>
              <a:t>declar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3" descr="C:\Program Files\Microsoft Office\MEDIA\CAGCAT10\j0302827.jpg"/>
          <p:cNvPicPr/>
          <p:nvPr/>
        </p:nvPicPr>
        <p:blipFill>
          <a:blip r:embed="rId1"/>
          <a:stretch/>
        </p:blipFill>
        <p:spPr>
          <a:xfrm>
            <a:off x="6315120" y="428760"/>
            <a:ext cx="1936800" cy="27144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C:\Program Files\Microsoft Office\MEDIA\CAGCAT10\j0252349.wmf"/>
          <p:cNvPicPr/>
          <p:nvPr/>
        </p:nvPicPr>
        <p:blipFill>
          <a:blip r:embed="rId2"/>
          <a:stretch/>
        </p:blipFill>
        <p:spPr>
          <a:xfrm>
            <a:off x="428760" y="4643280"/>
            <a:ext cx="281916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"/>
          <p:cNvSpPr/>
          <p:nvPr/>
        </p:nvSpPr>
        <p:spPr>
          <a:xfrm>
            <a:off x="214200" y="214200"/>
            <a:ext cx="235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Term 1-2010</a:t>
            </a:r>
            <a:br>
              <a:rPr sz="2400"/>
            </a:b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Week 7</a:t>
            </a:r>
            <a:br>
              <a:rPr sz="2400"/>
            </a:b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 are-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Activit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2"/>
          <p:cNvSpPr/>
          <p:nvPr/>
        </p:nvSpPr>
        <p:spPr>
          <a:xfrm>
            <a:off x="1643040" y="1571760"/>
            <a:ext cx="642924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Use the clues to complete each word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The father and mother of a person_ are_ _ _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To have fear of something _ _ are_ _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Bunnings sells  _ _ _ _ _ar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To be careful _ _ _ ar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To make known or official _ _ _ _ are_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To look at someone for longer than needed _ _ 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To be ready _ _ _ _are_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Naked, uncovered or empty _ ar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To be judged against someone else _ _ _ _are_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A second object of the same kind that is kept for possible use _ _ are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Program Files\Microsoft Office\Media\CntCD1\ClipArt1\j0150150.wmf"/>
          <p:cNvPicPr/>
          <p:nvPr/>
        </p:nvPicPr>
        <p:blipFill>
          <a:blip r:embed="rId1"/>
          <a:stretch/>
        </p:blipFill>
        <p:spPr>
          <a:xfrm>
            <a:off x="7215120" y="285840"/>
            <a:ext cx="171612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1"/>
          <p:cNvSpPr/>
          <p:nvPr/>
        </p:nvSpPr>
        <p:spPr>
          <a:xfrm>
            <a:off x="285840" y="214200"/>
            <a:ext cx="207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Term 1-2010</a:t>
            </a:r>
            <a:br>
              <a:rPr sz="2400"/>
            </a:b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Week 7</a:t>
            </a:r>
            <a:br>
              <a:rPr sz="2400"/>
            </a:b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 are-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Activit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"/>
          <p:cNvSpPr/>
          <p:nvPr/>
        </p:nvSpPr>
        <p:spPr>
          <a:xfrm>
            <a:off x="785880" y="2286000"/>
            <a:ext cx="721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Fancy Letters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- Use old magazines, catalogues, or newspapers to cut out letters and glue them down to spell your word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1"/>
          <p:cNvSpPr/>
          <p:nvPr/>
        </p:nvSpPr>
        <p:spPr>
          <a:xfrm>
            <a:off x="428760" y="357120"/>
            <a:ext cx="1928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Term 1-2010</a:t>
            </a:r>
            <a:br>
              <a:rPr sz="2400"/>
            </a:b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Week 8</a:t>
            </a:r>
            <a:br>
              <a:rPr sz="2400"/>
            </a:b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 y = e-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2"/>
          <p:cNvSpPr/>
          <p:nvPr/>
        </p:nvSpPr>
        <p:spPr>
          <a:xfrm>
            <a:off x="2428920" y="1785960"/>
            <a:ext cx="314316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nal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ung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urg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on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eme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uth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nnu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equ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2" descr="C:\Program Files\Microsoft Office\MEDIA\CAGCAT10\j0240719.wmf"/>
          <p:cNvPicPr/>
          <p:nvPr/>
        </p:nvPicPr>
        <p:blipFill>
          <a:blip r:embed="rId1"/>
          <a:stretch/>
        </p:blipFill>
        <p:spPr>
          <a:xfrm>
            <a:off x="6286680" y="3857760"/>
            <a:ext cx="1577880" cy="24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"/>
          <p:cNvSpPr/>
          <p:nvPr/>
        </p:nvSpPr>
        <p:spPr>
          <a:xfrm>
            <a:off x="214200" y="214200"/>
            <a:ext cx="2643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Term 1-2010</a:t>
            </a:r>
            <a:br>
              <a:rPr sz="2400"/>
            </a:b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Week 8</a:t>
            </a:r>
            <a:br>
              <a:rPr sz="2400"/>
            </a:b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 y = e-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Activit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2"/>
          <p:cNvSpPr/>
          <p:nvPr/>
        </p:nvSpPr>
        <p:spPr>
          <a:xfrm>
            <a:off x="1214280" y="2000160"/>
            <a:ext cx="671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ake a word find or crossword containing your spelling wo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rint it out and swap with a friend to comple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dd 10 more words to the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3" descr="C:\Program Files\Microsoft Office\Media\CntCD1\ClipArt1\j0078786.wmf"/>
          <p:cNvPicPr/>
          <p:nvPr/>
        </p:nvPicPr>
        <p:blipFill>
          <a:blip r:embed="rId1"/>
          <a:stretch/>
        </p:blipFill>
        <p:spPr>
          <a:xfrm>
            <a:off x="6072120" y="4143240"/>
            <a:ext cx="271296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"/>
          <p:cNvSpPr/>
          <p:nvPr/>
        </p:nvSpPr>
        <p:spPr>
          <a:xfrm>
            <a:off x="214200" y="214200"/>
            <a:ext cx="2643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Term 1-2010</a:t>
            </a:r>
            <a:br>
              <a:rPr sz="2400"/>
            </a:b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Week 8</a:t>
            </a:r>
            <a:br>
              <a:rPr sz="2400"/>
            </a:b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 y = e-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Activit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2"/>
          <p:cNvSpPr/>
          <p:nvPr/>
        </p:nvSpPr>
        <p:spPr>
          <a:xfrm>
            <a:off x="1500120" y="2071800"/>
            <a:ext cx="5656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Go to the following web site and complete the ac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 dictionary may be requir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428760" y="4071960"/>
            <a:ext cx="84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ttp://teachingtreasures.com.au/teaching-tools/English6-8/spelling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C:\Program Files\Microsoft Office\MEDIA\CAGCAT10\j0195384.wmf"/>
          <p:cNvPicPr/>
          <p:nvPr/>
        </p:nvPicPr>
        <p:blipFill>
          <a:blip r:embed="rId1"/>
          <a:stretch/>
        </p:blipFill>
        <p:spPr>
          <a:xfrm>
            <a:off x="7143840" y="1500120"/>
            <a:ext cx="1515960" cy="15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95280" y="16300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Christm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eggno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snowflak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Decemb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Santa Clau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snowma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pres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chimne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reinde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stocking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AU" sz="2400" spc="-1" strike="noStrike">
                <a:solidFill>
                  <a:srgbClr val="04617b"/>
                </a:solidFill>
                <a:latin typeface="Andalus"/>
                <a:ea typeface="Andalus"/>
              </a:rPr>
              <a:t>Term 1- 2010</a:t>
            </a:r>
            <a:br>
              <a:rPr sz="2400"/>
            </a:br>
            <a:r>
              <a:rPr b="1" lang="en-AU" sz="2400" spc="-1" strike="noStrike">
                <a:solidFill>
                  <a:srgbClr val="04617b"/>
                </a:solidFill>
                <a:latin typeface="Andalus"/>
                <a:ea typeface="Andalus"/>
              </a:rPr>
              <a:t>Week  2</a:t>
            </a:r>
            <a:br>
              <a:rPr sz="2400"/>
            </a:br>
            <a:r>
              <a:rPr b="1" lang="en-AU" sz="2400" spc="-1" strike="noStrike">
                <a:solidFill>
                  <a:srgbClr val="04617b"/>
                </a:solidFill>
                <a:latin typeface="Andalus"/>
                <a:ea typeface="Andalus"/>
              </a:rPr>
              <a:t> Holiday words</a:t>
            </a:r>
            <a:br>
              <a:rPr sz="4900"/>
            </a:b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4" name="Picture 4" descr="C:\Program Files\Microsoft Office\Media\CntCD1\Animated\j0213478.gif"/>
          <p:cNvPicPr/>
          <p:nvPr/>
        </p:nvPicPr>
        <p:blipFill>
          <a:blip r:embed="rId1"/>
          <a:stretch/>
        </p:blipFill>
        <p:spPr>
          <a:xfrm>
            <a:off x="6929280" y="3929040"/>
            <a:ext cx="1162080" cy="17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Rectangle 2" descr=""/>
          <p:cNvPicPr/>
          <p:nvPr/>
        </p:nvPicPr>
        <p:blipFill>
          <a:blip r:embed="rId1"/>
          <a:stretch/>
        </p:blipFill>
        <p:spPr>
          <a:xfrm>
            <a:off x="2120760" y="1712880"/>
            <a:ext cx="4121280" cy="22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1"/>
          <p:cNvSpPr/>
          <p:nvPr/>
        </p:nvSpPr>
        <p:spPr>
          <a:xfrm>
            <a:off x="428760" y="357120"/>
            <a:ext cx="2000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Term 2-2010</a:t>
            </a:r>
            <a:br>
              <a:rPr sz="2400"/>
            </a:b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Week 1</a:t>
            </a:r>
            <a:br>
              <a:rPr sz="2400"/>
            </a:b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 soft c-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2"/>
          <p:cNvSpPr/>
          <p:nvPr/>
        </p:nvSpPr>
        <p:spPr>
          <a:xfrm>
            <a:off x="2428920" y="1714680"/>
            <a:ext cx="378612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o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ir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e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roced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emb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il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once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2" descr="C:\Program Files\Microsoft Office\Media\CntCD1\ClipArt7\j0324618.wmf"/>
          <p:cNvPicPr/>
          <p:nvPr/>
        </p:nvPicPr>
        <p:blipFill>
          <a:blip r:embed="rId1"/>
          <a:stretch/>
        </p:blipFill>
        <p:spPr>
          <a:xfrm>
            <a:off x="6357960" y="3867120"/>
            <a:ext cx="184140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1"/>
          <p:cNvSpPr/>
          <p:nvPr/>
        </p:nvSpPr>
        <p:spPr>
          <a:xfrm>
            <a:off x="428760" y="357120"/>
            <a:ext cx="2000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Term 2-2010</a:t>
            </a:r>
            <a:br>
              <a:rPr sz="2400"/>
            </a:b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Week 2</a:t>
            </a:r>
            <a:br>
              <a:rPr sz="2400"/>
            </a:b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 soft c-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Activit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2"/>
          <p:cNvSpPr/>
          <p:nvPr/>
        </p:nvSpPr>
        <p:spPr>
          <a:xfrm>
            <a:off x="928800" y="2000160"/>
            <a:ext cx="657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rite a newspaper report on an incident and include 6 of your wo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cord your script using your web cam and show it to the cla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2" descr="C:\Program Files\Microsoft Office\Media\CntCD1\ClipArt4\j0240651.wmf"/>
          <p:cNvPicPr/>
          <p:nvPr/>
        </p:nvPicPr>
        <p:blipFill>
          <a:blip r:embed="rId1"/>
          <a:stretch/>
        </p:blipFill>
        <p:spPr>
          <a:xfrm>
            <a:off x="6054840" y="4403880"/>
            <a:ext cx="223200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1"/>
          <p:cNvSpPr/>
          <p:nvPr/>
        </p:nvSpPr>
        <p:spPr>
          <a:xfrm>
            <a:off x="214200" y="357120"/>
            <a:ext cx="228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Term 2-2010</a:t>
            </a:r>
            <a:br>
              <a:rPr sz="2400"/>
            </a:b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Week 2</a:t>
            </a:r>
            <a:br>
              <a:rPr sz="2400"/>
            </a:b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 soft c-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Activit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2"/>
          <p:cNvSpPr/>
          <p:nvPr/>
        </p:nvSpPr>
        <p:spPr>
          <a:xfrm>
            <a:off x="1928880" y="3214800"/>
            <a:ext cx="507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ttp://www.eastoftheweb.com/game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3"/>
          <p:cNvSpPr/>
          <p:nvPr/>
        </p:nvSpPr>
        <p:spPr>
          <a:xfrm>
            <a:off x="2143080" y="2071800"/>
            <a:ext cx="507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lay some of the following spelling games on East of the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3" descr="C:\Program Files\Microsoft Office\Media\CntCD1\ClipArt1\j0174133.wmf"/>
          <p:cNvPicPr/>
          <p:nvPr/>
        </p:nvPicPr>
        <p:blipFill>
          <a:blip r:embed="rId1"/>
          <a:stretch/>
        </p:blipFill>
        <p:spPr>
          <a:xfrm>
            <a:off x="6454800" y="4316400"/>
            <a:ext cx="182232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04617b"/>
                </a:solidFill>
                <a:latin typeface="Andalus"/>
                <a:ea typeface="Andalus"/>
              </a:rPr>
              <a:t>Term 1- 2010</a:t>
            </a:r>
            <a:br>
              <a:rPr sz="2200"/>
            </a:br>
            <a:r>
              <a:rPr b="1" lang="en-AU" sz="2200" spc="-1" strike="noStrike">
                <a:solidFill>
                  <a:srgbClr val="04617b"/>
                </a:solidFill>
                <a:latin typeface="Andalus"/>
                <a:ea typeface="Andalus"/>
              </a:rPr>
              <a:t>Week  2</a:t>
            </a:r>
            <a:br>
              <a:rPr sz="2200"/>
            </a:br>
            <a:r>
              <a:rPr b="1" lang="en-AU" sz="2200" spc="-1" strike="noStrike">
                <a:solidFill>
                  <a:srgbClr val="04617b"/>
                </a:solidFill>
                <a:latin typeface="Andalus"/>
                <a:ea typeface="Andalus"/>
              </a:rPr>
              <a:t> Holiday words</a:t>
            </a:r>
            <a:br>
              <a:rPr sz="2200"/>
            </a:br>
            <a:r>
              <a:rPr b="1" lang="en-AU" sz="2200" spc="-1" strike="noStrike">
                <a:solidFill>
                  <a:srgbClr val="04617b"/>
                </a:solidFill>
                <a:latin typeface="Andalus"/>
                <a:ea typeface="Andalus"/>
              </a:rPr>
              <a:t>Activity 1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28400" y="1714320"/>
            <a:ext cx="825804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Write a sentence for each of your spelling words and underline the word in your favourite colour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2" descr="C:\Program Files\Microsoft Office\Media\CntCD1\ClipArt2\j0230885.wmf"/>
          <p:cNvPicPr/>
          <p:nvPr/>
        </p:nvPicPr>
        <p:blipFill>
          <a:blip r:embed="rId1"/>
          <a:stretch/>
        </p:blipFill>
        <p:spPr>
          <a:xfrm>
            <a:off x="6211800" y="3929040"/>
            <a:ext cx="24019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4617b"/>
                </a:solidFill>
                <a:latin typeface="Andalus"/>
                <a:ea typeface="Andalus"/>
              </a:rPr>
              <a:t>Term 1- 2010</a:t>
            </a:r>
            <a:br>
              <a:rPr sz="2400"/>
            </a:br>
            <a:r>
              <a:rPr b="1" lang="en-AU" sz="2400" spc="-1" strike="noStrike">
                <a:solidFill>
                  <a:srgbClr val="04617b"/>
                </a:solidFill>
                <a:latin typeface="Andalus"/>
                <a:ea typeface="Andalus"/>
              </a:rPr>
              <a:t>Week  2</a:t>
            </a:r>
            <a:br>
              <a:rPr sz="2400"/>
            </a:br>
            <a:r>
              <a:rPr b="1" lang="en-AU" sz="2400" spc="-1" strike="noStrike">
                <a:solidFill>
                  <a:srgbClr val="04617b"/>
                </a:solidFill>
                <a:latin typeface="Andalus"/>
                <a:ea typeface="Andalus"/>
              </a:rPr>
              <a:t> Holiday words</a:t>
            </a:r>
            <a:br>
              <a:rPr sz="2400"/>
            </a:br>
            <a:r>
              <a:rPr b="1" lang="en-AU" sz="2400" spc="-1" strike="noStrike">
                <a:solidFill>
                  <a:srgbClr val="04617b"/>
                </a:solidFill>
                <a:latin typeface="Andalus"/>
                <a:ea typeface="Andalus"/>
              </a:rPr>
              <a:t>Activity 2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Go to the web site below, custom add your spelling words and then play 'Missing Letter Match'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http://www.kidsspell.com/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2" descr="C:\Program Files\Microsoft Office\Media\CntCD1\Animated\j0283646.gif"/>
          <p:cNvPicPr/>
          <p:nvPr/>
        </p:nvPicPr>
        <p:blipFill>
          <a:blip r:embed="rId1"/>
          <a:stretch/>
        </p:blipFill>
        <p:spPr>
          <a:xfrm>
            <a:off x="5857920" y="4500720"/>
            <a:ext cx="2617920" cy="19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3"/>
          <p:cNvSpPr/>
          <p:nvPr/>
        </p:nvSpPr>
        <p:spPr>
          <a:xfrm>
            <a:off x="285840" y="500040"/>
            <a:ext cx="214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Term 1- 2010</a:t>
            </a:r>
            <a:br>
              <a:rPr sz="2400"/>
            </a:b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Week  3</a:t>
            </a:r>
            <a:br>
              <a:rPr sz="2400"/>
            </a:b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 a-e word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4"/>
          <p:cNvSpPr/>
          <p:nvPr/>
        </p:nvSpPr>
        <p:spPr>
          <a:xfrm>
            <a:off x="2281320" y="2031840"/>
            <a:ext cx="4037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br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esc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voy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cabb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mist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vill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band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" descr="C:\Program Files\Microsoft Office\Media\CntCD1\ClipArt6\j0287591.wmf"/>
          <p:cNvPicPr/>
          <p:nvPr/>
        </p:nvPicPr>
        <p:blipFill>
          <a:blip r:embed="rId1"/>
          <a:stretch/>
        </p:blipFill>
        <p:spPr>
          <a:xfrm>
            <a:off x="6500880" y="357120"/>
            <a:ext cx="1797120" cy="21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1"/>
          <p:cNvSpPr/>
          <p:nvPr/>
        </p:nvSpPr>
        <p:spPr>
          <a:xfrm>
            <a:off x="285840" y="214200"/>
            <a:ext cx="207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Term 1- 2010</a:t>
            </a:r>
            <a:br>
              <a:rPr sz="2400"/>
            </a:b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Week  3</a:t>
            </a:r>
            <a:br>
              <a:rPr sz="2400"/>
            </a:b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 a-e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Activit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2"/>
          <p:cNvSpPr/>
          <p:nvPr/>
        </p:nvSpPr>
        <p:spPr>
          <a:xfrm>
            <a:off x="500040" y="2071800"/>
            <a:ext cx="7643880" cy="44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Use the clues to complete these list wor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A collection of houses and buildings in the country _ _ _ _ a _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The part of a vehicle which slows it down _ _ a _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A vegetable with green (sometimes purple) leaves _ _ _ _ a _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A long journey by sea _ _ _ a _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A strip of cloth used on a wound _ _ _ _ a _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An error _ _ _ _ a _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A small hard flake found on the skin of fish and snakes _ _ a _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To get free or run away _ _ _ a _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" descr="C:\Program Files\Microsoft Office\Media\CntCD1\ClipArt1\j0200501.wmf"/>
          <p:cNvPicPr/>
          <p:nvPr/>
        </p:nvPicPr>
        <p:blipFill>
          <a:blip r:embed="rId1"/>
          <a:stretch/>
        </p:blipFill>
        <p:spPr>
          <a:xfrm>
            <a:off x="6929280" y="5000760"/>
            <a:ext cx="1592280" cy="15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"/>
          <p:cNvSpPr/>
          <p:nvPr/>
        </p:nvSpPr>
        <p:spPr>
          <a:xfrm>
            <a:off x="214200" y="214200"/>
            <a:ext cx="2000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Term 1- 2010</a:t>
            </a:r>
            <a:br>
              <a:rPr sz="2400"/>
            </a:b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Week  3</a:t>
            </a:r>
            <a:br>
              <a:rPr sz="2400"/>
            </a:b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 a-e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Activit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2"/>
          <p:cNvSpPr/>
          <p:nvPr/>
        </p:nvSpPr>
        <p:spPr>
          <a:xfrm>
            <a:off x="642960" y="2143080"/>
            <a:ext cx="70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ut your words into alphabetical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C:\Program Files\Microsoft Office\Media\CntCD1\ClipArt5\j0283385.wmf"/>
          <p:cNvPicPr/>
          <p:nvPr/>
        </p:nvPicPr>
        <p:blipFill>
          <a:blip r:embed="rId1"/>
          <a:stretch/>
        </p:blipFill>
        <p:spPr>
          <a:xfrm>
            <a:off x="285840" y="3000240"/>
            <a:ext cx="1827000" cy="1806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C:\Program Files\Microsoft Office\Media\CntCD1\ClipArt5\j0283435.wmf"/>
          <p:cNvPicPr/>
          <p:nvPr/>
        </p:nvPicPr>
        <p:blipFill>
          <a:blip r:embed="rId2"/>
          <a:stretch/>
        </p:blipFill>
        <p:spPr>
          <a:xfrm>
            <a:off x="5835600" y="3909960"/>
            <a:ext cx="18273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1"/>
          <p:cNvSpPr/>
          <p:nvPr/>
        </p:nvSpPr>
        <p:spPr>
          <a:xfrm>
            <a:off x="214200" y="50004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Term 1-2010 </a:t>
            </a:r>
            <a:br>
              <a:rPr sz="2400"/>
            </a:b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Week  4 </a:t>
            </a:r>
            <a:br>
              <a:rPr sz="2400"/>
            </a:b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 ay-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2"/>
          <p:cNvSpPr/>
          <p:nvPr/>
        </p:nvSpPr>
        <p:spPr>
          <a:xfrm>
            <a:off x="2500200" y="1928880"/>
            <a:ext cx="278604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ting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ispla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ail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ree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eca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betra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wa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rch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elay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otor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" descr="C:\Program Files\Microsoft Office\MEDIA\CAGCAT10\j0212957.wmf"/>
          <p:cNvPicPr/>
          <p:nvPr/>
        </p:nvPicPr>
        <p:blipFill>
          <a:blip r:embed="rId1"/>
          <a:stretch/>
        </p:blipFill>
        <p:spPr>
          <a:xfrm>
            <a:off x="6143760" y="4429080"/>
            <a:ext cx="217152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1"/>
          <p:cNvSpPr/>
          <p:nvPr/>
        </p:nvSpPr>
        <p:spPr>
          <a:xfrm>
            <a:off x="214200" y="214200"/>
            <a:ext cx="257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Term 1-2010 </a:t>
            </a:r>
            <a:br>
              <a:rPr sz="2400"/>
            </a:b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Week  4 </a:t>
            </a:r>
            <a:br>
              <a:rPr sz="2400"/>
            </a:b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 ay-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Activit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2"/>
          <p:cNvSpPr/>
          <p:nvPr/>
        </p:nvSpPr>
        <p:spPr>
          <a:xfrm>
            <a:off x="1285920" y="2187720"/>
            <a:ext cx="6885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rite a short story ( In your English Book) containing all of your spelling words. Highlight your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3" descr="C:\Program Files\Microsoft Office\Media\CntCD1\ClipArt1\j0196200.wmf"/>
          <p:cNvPicPr/>
          <p:nvPr/>
        </p:nvPicPr>
        <p:blipFill>
          <a:blip r:embed="rId1"/>
          <a:stretch/>
        </p:blipFill>
        <p:spPr>
          <a:xfrm>
            <a:off x="6000840" y="4214880"/>
            <a:ext cx="220500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03:50:40Z</dcterms:created>
  <dc:creator>Education</dc:creator>
  <dc:description/>
  <dc:language>en-US</dc:language>
  <cp:lastModifiedBy>02101783</cp:lastModifiedBy>
  <dcterms:modified xsi:type="dcterms:W3CDTF">2010-02-17T05:25:09Z</dcterms:modified>
  <cp:revision>35</cp:revision>
  <dc:subject/>
  <dc:title>Blue Spelling Group Members:</dc:title>
</cp:coreProperties>
</file>