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0.wmf" ContentType="image/x-wmf"/>
  <Override PartName="/ppt/media/image18.wmf" ContentType="image/x-wmf"/>
  <Override PartName="/ppt/media/image7.gif" ContentType="image/gi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22.wmf" ContentType="image/x-wmf"/>
  <Override PartName="/ppt/media/image9.gif" ContentType="image/gif"/>
  <Override PartName="/ppt/media/image10.gif" ContentType="image/gif"/>
  <Override PartName="/ppt/media/image11.gif" ContentType="image/gif"/>
  <Override PartName="/ppt/media/image12.wmf" ContentType="image/x-wmf"/>
  <Override PartName="/ppt/media/image30.wmf" ContentType="image/x-wmf"/>
  <Override PartName="/ppt/media/image31.wmf" ContentType="image/x-wmf"/>
  <Override PartName="/ppt/media/image13.gif" ContentType="image/gif"/>
  <Override PartName="/ppt/media/image8.gif" ContentType="image/gif"/>
  <Override PartName="/ppt/media/image19.wmf" ContentType="image/x-wmf"/>
  <Override PartName="/ppt/media/image2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3.jpeg" ContentType="image/jpeg"/>
  <Override PartName="/ppt/media/image25.wmf" ContentType="image/x-wmf"/>
  <Override PartName="/ppt/media/image2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D00-A684-4BA4-890A-8BBA6D98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D71-9525-4760-A4E7-9F89094D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AF2-5934-4693-AB08-D381A471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506-3FDB-4419-89E8-720F1A05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A471-572B-4637-A6F4-B5C80795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FD23-DBC9-473E-B29F-7D14628D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E3D8-D95A-4C53-B741-2AEBE0B8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FD8B-9583-44F7-924A-F2738345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3DF1-B94A-49DB-A637-F59AFA83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13CA-1E04-4BEC-B9A5-D4BABDB0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FC28-29F0-4B6A-BDA9-515C4CD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D50-8926-41ED-A9D5-68CFE624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62DA-9476-45EA-9B9B-7BF1822B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F158-D967-45F9-A000-1EBECC64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58A9-6096-4EA1-B68A-56A35751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3CEA-A61C-4972-B1F5-E695C957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A479-11A8-43D4-BD48-B4D1F6EC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0972-31A9-42E1-878C-02DC8689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91CD-4C72-4B90-AC3D-3112B72E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9118B-D4D9-425C-BB4E-D1405C18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E59F-12FC-4CF3-90AF-1470CD5F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4B68-C663-472B-9C0A-E70A47CE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D35-8E41-402E-8274-4432C956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8B05-B916-41B8-8E3E-E7DA6CC0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376E0-0A4A-48E4-B3B0-3D2084F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F13F-1AE6-4E99-84CA-8A3CEBC6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E998-C9C7-4ADB-AC18-C09AA47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7301-4025-4012-ABF6-16C155B2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FCFF-A59B-46CC-B08D-D2CE3CB6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C1C0-78F0-4277-B27A-64C4DAEF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DA12-0454-48A0-9CC6-5B365F4A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162A-A99B-4E95-AC32-4222900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12D3-03D0-49E8-B167-80C1D2A6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28F-CEF4-4020-B512-26DFD51C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6E99-1428-4794-9698-8DF118B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ACE3-F6AE-456B-9A12-82652D81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0E39-2657-4C0A-B59E-1F4A2C8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2228-6F93-4806-8E1F-16AFF06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B00B-B8BA-4993-9C39-1C1CCEAC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30CE-1E55-4C61-A102-BCCAA06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47C0-F18E-4E05-9BFC-ED0F33E8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7460-8597-49D5-8A27-CDE51246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F86D-2A61-46B7-A456-BAC3AFD1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0D1-04EA-4C52-8254-6C3AC0CA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2C3-21A0-4354-A21A-62FD0E6C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D2E-7DB6-4D05-A854-97B552B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56B-6828-4424-9CEF-7936D8E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664-590E-4674-BAF9-17A8062B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3B59-1B65-407E-A36E-C2CF56C8554D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B7E2-849B-44F9-AB68-D5CD8DD56DF4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391E-6883-44FE-8CF1-B0731102AC88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0250-4B85-4DD8-BB06-C008AD700074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81200" y="835200"/>
            <a:ext cx="7783200" cy="179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Program Files\Microsoft Office\Media\CntCD1\Animated\j0282738.gif"/>
          <p:cNvPicPr/>
          <p:nvPr/>
        </p:nvPicPr>
        <p:blipFill>
          <a:blip r:embed="rId2"/>
          <a:stretch/>
        </p:blipFill>
        <p:spPr>
          <a:xfrm>
            <a:off x="8077320" y="557856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Program Files\Microsoft Office\Media\CntCD1\Animated\j0282740.gif"/>
          <p:cNvPicPr/>
          <p:nvPr/>
        </p:nvPicPr>
        <p:blipFill>
          <a:blip r:embed="rId3"/>
          <a:stretch/>
        </p:blipFill>
        <p:spPr>
          <a:xfrm>
            <a:off x="5500800" y="5643720"/>
            <a:ext cx="955440" cy="955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Program Files\Microsoft Office\Media\CntCD1\Animated\j0282742.gif"/>
          <p:cNvPicPr/>
          <p:nvPr/>
        </p:nvPicPr>
        <p:blipFill>
          <a:blip r:embed="rId4"/>
          <a:stretch/>
        </p:blipFill>
        <p:spPr>
          <a:xfrm>
            <a:off x="3143160" y="564372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Program Files\Microsoft Office\Media\CntCD1\Animated\j0282750.gif"/>
          <p:cNvPicPr/>
          <p:nvPr/>
        </p:nvPicPr>
        <p:blipFill>
          <a:blip r:embed="rId5"/>
          <a:stretch/>
        </p:blipFill>
        <p:spPr>
          <a:xfrm>
            <a:off x="928800" y="5643720"/>
            <a:ext cx="847440" cy="847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7"/>
          <p:cNvSpPr/>
          <p:nvPr/>
        </p:nvSpPr>
        <p:spPr>
          <a:xfrm>
            <a:off x="500040" y="27147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rm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214880" y="30718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r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214200" y="142920"/>
            <a:ext cx="235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1643040" y="2714760"/>
            <a:ext cx="67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gamequarium.com/spelling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1928880" y="157176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Go to the following web site, insert your words and choose some games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14200" y="1429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6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e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785960" y="1643040"/>
            <a:ext cx="47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l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qu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n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ee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Program Files\Microsoft Office\Media\CntCD1\ClipArt2\j0232730.wmf"/>
          <p:cNvPicPr/>
          <p:nvPr/>
        </p:nvPicPr>
        <p:blipFill>
          <a:blip r:embed="rId1"/>
          <a:stretch/>
        </p:blipFill>
        <p:spPr>
          <a:xfrm>
            <a:off x="6300720" y="1584360"/>
            <a:ext cx="14893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14200" y="214200"/>
            <a:ext cx="22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6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e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214280" y="1643040"/>
            <a:ext cx="700092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jumble the word in each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g acted as a (recsen) for the smugg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you have a cold you often (nesee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soldier had to (neelk) before the Queen when he was knigh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truck delivered a lot of (tesel) for the new buil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you want to crack walnuts you can (ueszqee)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temperature has only dropped 1 (greede) in the last h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Jan cut her finger it started to (lbdee) all over the fl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old women is too (eeefbl) to do her own sho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was so cold outside I thought my blood was going to (zeef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 our school festival I helped Dad make a tray of (feeto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Program Files\Microsoft Office\Media\CntCD1\ClipArt5\j0281200.wmf"/>
          <p:cNvPicPr/>
          <p:nvPr/>
        </p:nvPicPr>
        <p:blipFill>
          <a:blip r:embed="rId1"/>
          <a:stretch/>
        </p:blipFill>
        <p:spPr>
          <a:xfrm>
            <a:off x="7072200" y="260280"/>
            <a:ext cx="1414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42920" y="2142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6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e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0" y="2714760"/>
            <a:ext cx="892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ttp://www.lancsngfl.ac.uk/curriculum/literacyresources/files/alpha/alpha.htm?s=44244157da7db97e428926bb9be49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714240" y="200016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o to the following web site and play hang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Program Files\Microsoft Office\Media\CntCD1\ClipArt5\j0286885.wmf"/>
          <p:cNvPicPr/>
          <p:nvPr/>
        </p:nvPicPr>
        <p:blipFill>
          <a:blip r:embed="rId1"/>
          <a:stretch/>
        </p:blipFill>
        <p:spPr>
          <a:xfrm>
            <a:off x="5929200" y="4357800"/>
            <a:ext cx="21988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14200" y="285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7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r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2857680" y="1428840"/>
            <a:ext cx="328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sc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st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b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b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comp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ndalus"/>
                <a:ea typeface="Andalus"/>
              </a:rPr>
              <a:t>decl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C:\Program Files\Microsoft Office\MEDIA\CAGCAT10\j0302827.jpg"/>
          <p:cNvPicPr/>
          <p:nvPr/>
        </p:nvPicPr>
        <p:blipFill>
          <a:blip r:embed="rId1"/>
          <a:stretch/>
        </p:blipFill>
        <p:spPr>
          <a:xfrm>
            <a:off x="6315120" y="428760"/>
            <a:ext cx="1936800" cy="2714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Program Files\Microsoft Office\MEDIA\CAGCAT10\j0252349.wmf"/>
          <p:cNvPicPr/>
          <p:nvPr/>
        </p:nvPicPr>
        <p:blipFill>
          <a:blip r:embed="rId2"/>
          <a:stretch/>
        </p:blipFill>
        <p:spPr>
          <a:xfrm>
            <a:off x="428760" y="4643280"/>
            <a:ext cx="2819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214200" y="214200"/>
            <a:ext cx="235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7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r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1643040" y="1571760"/>
            <a:ext cx="64292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Use the clues to complete each word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father and mother of a person_ are_ _ 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have fear of something _ _ are_ 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Bunnings sells  _ _ _ _ _a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be careful _ _ _ a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make known or official _ _ _ _ are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look at someone for longer than needed _ _ 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be ready _ _ _ _are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Naked, uncovered or empty _ a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o be judged against someone else _ _ _ _are_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A second object of the same kind that is kept for possible use _ _ are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Program Files\Microsoft Office\Media\CntCD1\ClipArt1\j0150150.wmf"/>
          <p:cNvPicPr/>
          <p:nvPr/>
        </p:nvPicPr>
        <p:blipFill>
          <a:blip r:embed="rId1"/>
          <a:stretch/>
        </p:blipFill>
        <p:spPr>
          <a:xfrm>
            <a:off x="7215120" y="285840"/>
            <a:ext cx="1716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285840" y="214200"/>
            <a:ext cx="20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7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r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785880" y="22860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ancy Letter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Use old magazines, catalogues, or newspapers to cut out letters and glue them down to spell your wor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428760" y="357120"/>
            <a:ext cx="192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8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y = 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2428920" y="1785960"/>
            <a:ext cx="3143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n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eme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q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286680" y="3857760"/>
            <a:ext cx="157788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214200" y="214200"/>
            <a:ext cx="26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8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y = 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1214280" y="2000160"/>
            <a:ext cx="67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ke a word find or crossword containing your spelling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int it out and swap with a friend to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d 10 more words to the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C:\Program Files\Microsoft Office\Media\CntCD1\ClipArt1\j0078786.wmf"/>
          <p:cNvPicPr/>
          <p:nvPr/>
        </p:nvPicPr>
        <p:blipFill>
          <a:blip r:embed="rId1"/>
          <a:stretch/>
        </p:blipFill>
        <p:spPr>
          <a:xfrm>
            <a:off x="6072120" y="4143240"/>
            <a:ext cx="27129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214200" y="214200"/>
            <a:ext cx="26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8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y = e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500120" y="2071800"/>
            <a:ext cx="565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o to the following web site and complete the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dictionary may b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28760" y="407196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teachingtreasures.com.au/teaching-tools/English6-8/spell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7143840" y="1500120"/>
            <a:ext cx="1515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28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gno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nowflak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Dece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anta Cla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now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es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himn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inde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tocking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 Holiday words</a:t>
            </a:r>
            <a:br>
              <a:rPr sz="49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Program Files\Microsoft Office\Media\CntCD1\Animated\j0213478.gif"/>
          <p:cNvPicPr/>
          <p:nvPr/>
        </p:nvPicPr>
        <p:blipFill>
          <a:blip r:embed="rId1"/>
          <a:stretch/>
        </p:blipFill>
        <p:spPr>
          <a:xfrm>
            <a:off x="6929280" y="3929040"/>
            <a:ext cx="11620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2120760" y="1712880"/>
            <a:ext cx="41212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428760" y="357120"/>
            <a:ext cx="200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2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1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soft c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2428920" y="1714680"/>
            <a:ext cx="3786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c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Program Files\Microsoft Office\Media\CntCD1\ClipArt7\j0324618.wmf"/>
          <p:cNvPicPr/>
          <p:nvPr/>
        </p:nvPicPr>
        <p:blipFill>
          <a:blip r:embed="rId1"/>
          <a:stretch/>
        </p:blipFill>
        <p:spPr>
          <a:xfrm>
            <a:off x="6357960" y="3867120"/>
            <a:ext cx="184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428760" y="357120"/>
            <a:ext cx="200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2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2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soft c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928800" y="20001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e a newspaper report on an incident and include 6 of your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rd your script using your web cam and show it to the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Program Files\Microsoft Office\Media\CntCD1\ClipArt4\j0240651.wmf"/>
          <p:cNvPicPr/>
          <p:nvPr/>
        </p:nvPicPr>
        <p:blipFill>
          <a:blip r:embed="rId1"/>
          <a:stretch/>
        </p:blipFill>
        <p:spPr>
          <a:xfrm>
            <a:off x="6054840" y="4403880"/>
            <a:ext cx="223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214200" y="3571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2-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2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soft c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928880" y="321480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ttp://www.eastoftheweb.com/gam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143080" y="207180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ay some of the following spelling games on East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C:\Program Files\Microsoft Office\Media\CntCD1\ClipArt1\j0174133.wmf"/>
          <p:cNvPicPr/>
          <p:nvPr/>
        </p:nvPicPr>
        <p:blipFill>
          <a:blip r:embed="rId1"/>
          <a:stretch/>
        </p:blipFill>
        <p:spPr>
          <a:xfrm>
            <a:off x="6454800" y="4316400"/>
            <a:ext cx="18223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4617b"/>
                </a:solidFill>
                <a:latin typeface="Andalus"/>
                <a:ea typeface="Andalus"/>
              </a:rPr>
              <a:t>Term 1- 2010</a:t>
            </a:r>
            <a:br>
              <a:rPr sz="2200"/>
            </a:br>
            <a:r>
              <a:rPr b="1" lang="en-AU" sz="2200" spc="-1" strike="noStrike">
                <a:solidFill>
                  <a:srgbClr val="04617b"/>
                </a:solidFill>
                <a:latin typeface="Andalus"/>
                <a:ea typeface="Andalus"/>
              </a:rPr>
              <a:t>Week  2</a:t>
            </a:r>
            <a:br>
              <a:rPr sz="2200"/>
            </a:br>
            <a:r>
              <a:rPr b="1" lang="en-AU" sz="2200" spc="-1" strike="noStrike">
                <a:solidFill>
                  <a:srgbClr val="04617b"/>
                </a:solidFill>
                <a:latin typeface="Andalus"/>
                <a:ea typeface="Andalus"/>
              </a:rPr>
              <a:t> Holiday words</a:t>
            </a:r>
            <a:br>
              <a:rPr sz="2200"/>
            </a:br>
            <a:r>
              <a:rPr b="1" lang="en-AU" sz="2200" spc="-1" strike="noStrike">
                <a:solidFill>
                  <a:srgbClr val="04617b"/>
                </a:solidFill>
                <a:latin typeface="Andalus"/>
                <a:ea typeface="Andalus"/>
              </a:rPr>
              <a:t>Activity 1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400" y="1714320"/>
            <a:ext cx="82580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Write a sentence for each of your spelling words and underline the word in your favourite colour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Program Files\Microsoft Office\Media\CntCD1\ClipArt2\j0230885.wmf"/>
          <p:cNvPicPr/>
          <p:nvPr/>
        </p:nvPicPr>
        <p:blipFill>
          <a:blip r:embed="rId1"/>
          <a:stretch/>
        </p:blipFill>
        <p:spPr>
          <a:xfrm>
            <a:off x="6211800" y="3929040"/>
            <a:ext cx="240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Week  2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 Holiday words</a:t>
            </a:r>
            <a:br>
              <a:rPr sz="2400"/>
            </a:br>
            <a:r>
              <a:rPr b="1" lang="en-AU" sz="2400" spc="-1" strike="noStrike">
                <a:solidFill>
                  <a:srgbClr val="04617b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Go to the web site below, custom add your spelling words and then play 'Missing Letter Match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http://www.kidsspell.com/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5857920" y="4500720"/>
            <a:ext cx="2617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285840" y="50004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-e word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2281320" y="2031840"/>
            <a:ext cx="403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voy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abb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mi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and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Program Files\Microsoft Office\Media\CntCD1\ClipArt6\j0287591.wmf"/>
          <p:cNvPicPr/>
          <p:nvPr/>
        </p:nvPicPr>
        <p:blipFill>
          <a:blip r:embed="rId1"/>
          <a:stretch/>
        </p:blipFill>
        <p:spPr>
          <a:xfrm>
            <a:off x="6500880" y="357120"/>
            <a:ext cx="17971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285840" y="214200"/>
            <a:ext cx="207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-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00040" y="2071800"/>
            <a:ext cx="76438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Use the clues to complete these list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collection of houses and buildings in the country _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he part of a vehicle which slows it down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vegetable with green (sometimes purple) leaves _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long journey by sea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strip of cloth used on a wound _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n error _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 small hard flake found on the skin of fish and snakes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o get free or run away _ _ _ a _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Program Files\Microsoft Office\Media\CntCD1\ClipArt1\j0200501.wmf"/>
          <p:cNvPicPr/>
          <p:nvPr/>
        </p:nvPicPr>
        <p:blipFill>
          <a:blip r:embed="rId1"/>
          <a:stretch/>
        </p:blipFill>
        <p:spPr>
          <a:xfrm>
            <a:off x="6929280" y="5000760"/>
            <a:ext cx="159228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14200" y="214200"/>
            <a:ext cx="200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3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-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642960" y="21430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ut your words into alphabet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C:\Program Files\Microsoft Office\Media\CntCD1\ClipArt5\j0283385.wmf"/>
          <p:cNvPicPr/>
          <p:nvPr/>
        </p:nvPicPr>
        <p:blipFill>
          <a:blip r:embed="rId1"/>
          <a:stretch/>
        </p:blipFill>
        <p:spPr>
          <a:xfrm>
            <a:off x="285840" y="3000240"/>
            <a:ext cx="1827000" cy="1806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C:\Program Files\Microsoft Office\Media\CntCD1\ClipArt5\j0283435.wmf"/>
          <p:cNvPicPr/>
          <p:nvPr/>
        </p:nvPicPr>
        <p:blipFill>
          <a:blip r:embed="rId2"/>
          <a:stretch/>
        </p:blipFill>
        <p:spPr>
          <a:xfrm>
            <a:off x="5835600" y="390996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214200" y="5000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2500200" y="1928880"/>
            <a:ext cx="2786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ing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ail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e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tr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w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c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lay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Program Files\Microsoft Office\MEDIA\CAGCAT10\j0212957.wmf"/>
          <p:cNvPicPr/>
          <p:nvPr/>
        </p:nvPicPr>
        <p:blipFill>
          <a:blip r:embed="rId1"/>
          <a:stretch/>
        </p:blipFill>
        <p:spPr>
          <a:xfrm>
            <a:off x="6143760" y="4429080"/>
            <a:ext cx="2171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214200" y="21420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Term 1-2010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Week  4 </a:t>
            </a:r>
            <a:br>
              <a:rPr sz="2400"/>
            </a:b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 ay-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6a3"/>
                </a:solidFill>
                <a:latin typeface="Andalus"/>
                <a:ea typeface="Andalus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2187720"/>
            <a:ext cx="688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a short story ( In your English Book) containing all of your spelling words. Highlight you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C:\Program Files\Microsoft Office\Media\CntCD1\ClipArt1\j0196200.wmf"/>
          <p:cNvPicPr/>
          <p:nvPr/>
        </p:nvPicPr>
        <p:blipFill>
          <a:blip r:embed="rId1"/>
          <a:stretch/>
        </p:blipFill>
        <p:spPr>
          <a:xfrm>
            <a:off x="6000840" y="4214880"/>
            <a:ext cx="2205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3:50:40Z</dcterms:created>
  <dc:creator>Education</dc:creator>
  <dc:description/>
  <dc:language>en-US</dc:language>
  <cp:lastModifiedBy>02101783</cp:lastModifiedBy>
  <dcterms:modified xsi:type="dcterms:W3CDTF">2010-02-17T05:25:09Z</dcterms:modified>
  <cp:revision>35</cp:revision>
  <dc:subject/>
  <dc:title>Blue Spelling Group Members:</dc:title>
</cp:coreProperties>
</file>