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CED1-16B5-463D-9015-D80DD8CAE7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0E4-4A2C-4178-92DA-010AC138A2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CAF2-9E23-4668-B32E-F33DEB24F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2EE-0A30-44E2-9393-DEB32BD0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8C1-928F-499A-B6A2-216E93B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0BD-3178-415A-895B-F51B7A2B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DB6-944C-4193-88A0-94FC6A30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D2F-9310-49D7-BF77-CC686452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819-17F2-44FD-9EF1-4F552ED4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11B-EE1A-40AC-88B2-95B2078A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2A7-235F-4D02-96DE-2CB975A2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4F5-3826-4672-B00B-C0C2CA87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933-077D-44D2-A600-9E9D9D3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A60-BB64-4D9B-A8A1-BC8D2A2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E8B-109C-44DD-9820-D9CA27E3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4FAC-A1EA-428C-97E5-06F16213AD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3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lideshare.net/mralfonso/articles-adjectives-adverbs-updated" TargetMode="External"/><Relationship Id="rId2" Type="http://schemas.openxmlformats.org/officeDocument/2006/relationships/hyperlink" Target="http://www.englishmedialab.com/GrammarGames/basketball/Articles/Articles%20definite%20and%20indefinit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niclip.com/games/anagram-magic/en" TargetMode="External"/><Relationship Id="rId2" Type="http://schemas.openxmlformats.org/officeDocument/2006/relationships/hyperlink" Target="http://funschool.kaboose.com/fun-blaster/games/game_anagram_sleuth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agameaday.com/0109/069calendar2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encyclopedia.kids.net.au/page/cl/Clause" TargetMode="External"/><Relationship Id="rId3" Type="http://schemas.openxmlformats.org/officeDocument/2006/relationships/hyperlink" Target="http://www.harcourtschool.com/activity/preposition_desert/index_pre.html" TargetMode="External"/><Relationship Id="rId4" Type="http://schemas.openxmlformats.org/officeDocument/2006/relationships/hyperlink" Target="http://www.slideshare.net/ebrand21/clauses-and-phrase" TargetMode="External"/><Relationship Id="rId5" Type="http://schemas.openxmlformats.org/officeDocument/2006/relationships/hyperlink" Target="http://www.btinternet.com/~mrfield/Literacy_Disk/phrase_clauses/phrase_clauses.htm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hyperlink" Target="http://languagearts.pppst.com/partsofspeech.html" TargetMode="External"/><Relationship Id="rId4" Type="http://schemas.openxmlformats.org/officeDocument/2006/relationships/hyperlink" Target="http://www.uottawa.ca/academic/arts/writcent/hypergrammar/partsp.html" TargetMode="External"/><Relationship Id="rId5" Type="http://schemas.openxmlformats.org/officeDocument/2006/relationships/hyperlink" Target="http://www.arcademicskillbuilders.com/games/invasion/invasion.html" TargetMode="External"/><Relationship Id="rId6" Type="http://schemas.openxmlformats.org/officeDocument/2006/relationships/hyperlink" Target="http://www.slideshare.net/dilipbarad/english-grammar-parts-of-speech-presentation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smart.gov.au/cyberquoll/resources/students/cyberquoll_worksheets3_6.pdf" TargetMode="External"/><Relationship Id="rId2" Type="http://schemas.openxmlformats.org/officeDocument/2006/relationships/hyperlink" Target="http://www.roadtogrammar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edu.ge.ch/cptic/prospective/projets/anglais/exercises/conjunction2.ht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englishclub.com/grammar/conjunctions.htm" TargetMode="External"/><Relationship Id="rId4" Type="http://schemas.openxmlformats.org/officeDocument/2006/relationships/hyperlink" Target="http://www.slideshare.net/guestbd74d05/conjunctions-2497246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lideshare.net/mrruben/compound-words-1179436" TargetMode="External"/><Relationship Id="rId2" Type="http://schemas.openxmlformats.org/officeDocument/2006/relationships/hyperlink" Target="http://www.rcs.k12.tn.us/rcs_web/lane/sadlerpp/compwords_files/frame.htm" TargetMode="External"/><Relationship Id="rId3" Type="http://schemas.openxmlformats.org/officeDocument/2006/relationships/hyperlink" Target="http://www.bbc.co.uk/schools/ks2bitesize/english/spelling_grammar/language_structure/play.shtml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crickweb.co.uk/ks2literacy.html#compound-words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xplosion 2 1"/>
          <p:cNvSpPr/>
          <p:nvPr/>
        </p:nvSpPr>
        <p:spPr>
          <a:xfrm>
            <a:off x="0" y="0"/>
            <a:ext cx="2928960" cy="2714760"/>
          </a:xfrm>
          <a:prstGeom prst="irregularSeal2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 2"/>
          <p:cNvSpPr/>
          <p:nvPr/>
        </p:nvSpPr>
        <p:spPr>
          <a:xfrm>
            <a:off x="3071880" y="214200"/>
            <a:ext cx="3429000" cy="157176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237240 h 1571760"/>
              <a:gd name="textAreaBottom" fmla="*/ 1261800 h 15717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6b5b">
              <a:alpha val="74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uble Wave 3"/>
          <p:cNvSpPr/>
          <p:nvPr/>
        </p:nvSpPr>
        <p:spPr>
          <a:xfrm rot="693000">
            <a:off x="7267680" y="151920"/>
            <a:ext cx="1611360" cy="2824200"/>
          </a:xfrm>
          <a:custGeom>
            <a:avLst/>
            <a:gdLst>
              <a:gd name="textAreaLeft" fmla="*/ 0 w 1611360"/>
              <a:gd name="textAreaRight" fmla="*/ 1611720 w 1611360"/>
              <a:gd name="textAreaTop" fmla="*/ 352800 h 2824200"/>
              <a:gd name="textAreaBottom" fmla="*/ 247140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xplosion 2 6"/>
          <p:cNvSpPr/>
          <p:nvPr/>
        </p:nvSpPr>
        <p:spPr>
          <a:xfrm>
            <a:off x="5072040" y="4071960"/>
            <a:ext cx="4071960" cy="2786040"/>
          </a:xfrm>
          <a:prstGeom prst="irregularSeal2">
            <a:avLst/>
          </a:prstGeom>
          <a:solidFill>
            <a:srgbClr val="ccff66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Display 7"/>
          <p:cNvSpPr/>
          <p:nvPr/>
        </p:nvSpPr>
        <p:spPr>
          <a:xfrm>
            <a:off x="0" y="5357880"/>
            <a:ext cx="2428920" cy="1285920"/>
          </a:xfrm>
          <a:prstGeom prst="flowChartDisplay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 8"/>
          <p:cNvSpPr/>
          <p:nvPr/>
        </p:nvSpPr>
        <p:spPr>
          <a:xfrm rot="20179200">
            <a:off x="2514240" y="5209920"/>
            <a:ext cx="2747880" cy="1357200"/>
          </a:xfrm>
          <a:custGeom>
            <a:avLst/>
            <a:gdLst>
              <a:gd name="textAreaLeft" fmla="*/ 378720 w 2747880"/>
              <a:gd name="textAreaRight" fmla="*/ 2173680 w 2747880"/>
              <a:gd name="textAreaTop" fmla="*/ 204840 h 1357200"/>
              <a:gd name="textAreaBottom" fmla="*/ 1089360 h 1357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bb3dc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 11"/>
          <p:cNvSpPr/>
          <p:nvPr/>
        </p:nvSpPr>
        <p:spPr>
          <a:xfrm rot="20541600">
            <a:off x="-7560" y="2572920"/>
            <a:ext cx="2571840" cy="1285920"/>
          </a:xfrm>
          <a:custGeom>
            <a:avLst/>
            <a:gdLst>
              <a:gd name="textAreaLeft" fmla="*/ 354240 w 2571840"/>
              <a:gd name="textAreaRight" fmla="*/ 2034720 w 2571840"/>
              <a:gd name="textAreaTop" fmla="*/ 194040 h 1285920"/>
              <a:gd name="textAreaBottom" fmla="*/ 1032120 h 1285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01c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uble Wave 12"/>
          <p:cNvSpPr/>
          <p:nvPr/>
        </p:nvSpPr>
        <p:spPr>
          <a:xfrm rot="20547000">
            <a:off x="5021280" y="3022200"/>
            <a:ext cx="2262240" cy="1428840"/>
          </a:xfrm>
          <a:custGeom>
            <a:avLst/>
            <a:gdLst>
              <a:gd name="textAreaLeft" fmla="*/ 0 w 2262240"/>
              <a:gd name="textAreaRight" fmla="*/ 2262600 w 2262240"/>
              <a:gd name="textAreaTop" fmla="*/ 178560 h 1428840"/>
              <a:gd name="textAreaBottom" fmla="*/ 12502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19de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uble Wave 14"/>
          <p:cNvSpPr/>
          <p:nvPr/>
        </p:nvSpPr>
        <p:spPr>
          <a:xfrm rot="21154200">
            <a:off x="1301760" y="3369960"/>
            <a:ext cx="3616200" cy="1595520"/>
          </a:xfrm>
          <a:custGeom>
            <a:avLst/>
            <a:gdLst>
              <a:gd name="textAreaLeft" fmla="*/ 723240 w 3616200"/>
              <a:gd name="textAreaRight" fmla="*/ 4339800 w 3616200"/>
              <a:gd name="textAreaTop" fmla="*/ 199440 h 1595520"/>
              <a:gd name="textAreaBottom" fmla="*/ 1396080 h 1595520"/>
            </a:gdLst>
            <a:ahLst/>
            <a:rect l="textAreaLeft" t="textAreaTop" r="textAreaRight" b="textAreaBottom"/>
            <a:pathLst>
              <a:path w="21600" h="21600">
                <a:moveTo>
                  <a:pt x="4320" y="1350"/>
                </a:moveTo>
                <a:cubicBezTo>
                  <a:pt x="5760" y="-3433"/>
                  <a:pt x="11520" y="6133"/>
                  <a:pt x="12960" y="1350"/>
                </a:cubicBezTo>
                <a:cubicBezTo>
                  <a:pt x="14400" y="-3433"/>
                  <a:pt x="20160" y="6133"/>
                  <a:pt x="21600" y="1350"/>
                </a:cubicBezTo>
                <a:lnTo>
                  <a:pt x="17280" y="20250"/>
                </a:lnTo>
                <a:cubicBezTo>
                  <a:pt x="15840" y="25033"/>
                  <a:pt x="10080" y="15467"/>
                  <a:pt x="8640" y="20250"/>
                </a:cubicBezTo>
                <a:cubicBezTo>
                  <a:pt x="7200" y="25033"/>
                  <a:pt x="1440" y="15467"/>
                  <a:pt x="0" y="20250"/>
                </a:cubicBezTo>
                <a:close/>
              </a:path>
            </a:pathLst>
          </a:custGeom>
          <a:solidFill>
            <a:srgbClr val="10fc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Horizontal Scroll 13"/>
          <p:cNvSpPr/>
          <p:nvPr/>
        </p:nvSpPr>
        <p:spPr>
          <a:xfrm>
            <a:off x="2571840" y="1571760"/>
            <a:ext cx="4357440" cy="1714320"/>
          </a:xfrm>
          <a:prstGeom prst="horizontalScroll">
            <a:avLst>
              <a:gd name="adj" fmla="val 24087"/>
            </a:avLst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Lucida Handwriting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Lucida Handwriting"/>
              </a:rPr>
              <a:t>TER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 rot="20839800">
            <a:off x="5159160" y="3571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DVE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657600" y="731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ARTS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73580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>
            <a:hlinkClick r:id="rId5" action="ppaction://hlinksldjump"/>
          </p:cNvPr>
          <p:cNvSpPr/>
          <p:nvPr/>
        </p:nvSpPr>
        <p:spPr>
          <a:xfrm rot="19780200">
            <a:off x="541440" y="947880"/>
            <a:ext cx="17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CLA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14200" y="5715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PRE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 rot="20770200">
            <a:off x="5864400" y="5385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 rot="20230800">
            <a:off x="433080" y="29606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AN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 rot="20157600">
            <a:off x="2811600" y="56163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2071800" y="38577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85680" y="213840"/>
            <a:ext cx="23288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TextBox 2"/>
          <p:cNvGrpSpPr/>
          <p:nvPr/>
        </p:nvGrpSpPr>
        <p:grpSpPr>
          <a:xfrm>
            <a:off x="4145040" y="3092760"/>
            <a:ext cx="4475160" cy="3141000"/>
            <a:chOff x="4145040" y="3092760"/>
            <a:chExt cx="4475160" cy="3141000"/>
          </a:xfrm>
        </p:grpSpPr>
        <p:pic>
          <p:nvPicPr>
            <p:cNvPr id="134" name="TextBox 2" descr=""/>
            <p:cNvPicPr/>
            <p:nvPr/>
          </p:nvPicPr>
          <p:blipFill>
            <a:blip r:embed="rId2"/>
            <a:stretch/>
          </p:blipFill>
          <p:spPr>
            <a:xfrm>
              <a:off x="4145040" y="3224160"/>
              <a:ext cx="447516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357800" y="3092760"/>
              <a:ext cx="414324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 u="sng">
                  <a:solidFill>
                    <a:srgbClr val="ffffff"/>
                  </a:solidFill>
                  <a:uFillTx/>
                  <a:latin typeface="Calibri"/>
                </a:rPr>
                <a:t>http://www.slideshare.net/mcancerius/adverb-powerpoi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TextBox 3"/>
          <p:cNvGrpSpPr/>
          <p:nvPr/>
        </p:nvGrpSpPr>
        <p:grpSpPr>
          <a:xfrm>
            <a:off x="249120" y="938160"/>
            <a:ext cx="3421080" cy="2899080"/>
            <a:chOff x="249120" y="938160"/>
            <a:chExt cx="3421080" cy="2899080"/>
          </a:xfrm>
        </p:grpSpPr>
        <p:pic>
          <p:nvPicPr>
            <p:cNvPr id="137" name="TextBox 3" descr=""/>
            <p:cNvPicPr/>
            <p:nvPr/>
          </p:nvPicPr>
          <p:blipFill>
            <a:blip r:embed="rId3"/>
            <a:stretch/>
          </p:blipFill>
          <p:spPr>
            <a:xfrm>
              <a:off x="249120" y="938160"/>
              <a:ext cx="342108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7120" y="1000080"/>
              <a:ext cx="3214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http://www.lgfl.net/dbmaterial/web/learning%20objects/ls/Year%204%20%20Literacy%20Adverbs/home/?verb=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4"/>
          <a:srcRect l="18359" t="24309" r="21419" b="15486"/>
          <a:stretch/>
        </p:blipFill>
        <p:spPr>
          <a:xfrm>
            <a:off x="1071720" y="2214720"/>
            <a:ext cx="1714320" cy="1333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5286240" y="928800"/>
            <a:ext cx="242892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bbc.co.uk/skillswise/words/grammar/interestsentences/adverb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9"/>
          <p:cNvSpPr/>
          <p:nvPr/>
        </p:nvSpPr>
        <p:spPr>
          <a:xfrm>
            <a:off x="428760" y="4000680"/>
            <a:ext cx="2928960" cy="25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571680" y="47862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english-zone.com/grammar/pos-adv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3071880" cy="654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IC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2571480" cy="178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lideshare.net/mralfonso/articles-adjectives-adverbs-upda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4214880"/>
            <a:ext cx="2900160" cy="1928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glishmedialab.com/GrammarGames/basketball/Articles/Articles%20definite%20and%20indefinite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1560" y="213840"/>
            <a:ext cx="5357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.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 Copy in your book and fill in the gaps with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som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y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or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--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(if no article is required)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 need __________ volunteer to sweep the sitting-room and the kitchen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Let's buy __________ grapes for the party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May I have __________ water, please?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aren't __________ strawberries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t was __________ easy exam. Everybody passed i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is __________ lady at the door who asks for you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We don't have __________ coke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She hasn't got __________ friend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"Are there __________ trees?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     "No, there aren't __________ (trees). It's a desert place."</a:t>
            </a:r>
            <a:br>
              <a:rPr sz="1400"/>
            </a:b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elephants never forge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B.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 Copy in your book and fill in the gaps with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som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y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th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or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--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(if no article is required)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onions aren't in __________ cellar. They are in __________ kitchen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whales and __________ elephants are __________ biggest mammals on earth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were __________ books and __________ comics. __________ books were broken, but __________ comics weren'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"Could you give me __________ sweets, granny?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     "Of course, love!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've lost __________ crayons I bought yesterday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She hates __________ garlic, but I love i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We would like to spend __________ week in Barcelona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pollution is destroying __________ earth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isn't __________ apple juice left. Let's buy __________ (apple juice).</a:t>
            </a:r>
            <a:br>
              <a:rPr sz="1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25718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r>
              <a:rPr b="0" lang="en-AU" sz="4000" spc="-1" strike="noStrike">
                <a:solidFill>
                  <a:srgbClr val="000000"/>
                </a:solidFill>
                <a:latin typeface="Kahootz Wobbl 1"/>
              </a:rPr>
              <a:t>ANA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Vertical Scroll 2"/>
          <p:cNvSpPr/>
          <p:nvPr/>
        </p:nvSpPr>
        <p:spPr>
          <a:xfrm>
            <a:off x="0" y="928800"/>
            <a:ext cx="5572080" cy="5643360"/>
          </a:xfrm>
          <a:prstGeom prst="verticalScroll">
            <a:avLst>
              <a:gd name="adj" fmla="val 12500"/>
            </a:avLst>
          </a:prstGeom>
          <a:solidFill>
            <a:srgbClr val="04f6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orizontal Scroll 4"/>
          <p:cNvSpPr/>
          <p:nvPr/>
        </p:nvSpPr>
        <p:spPr>
          <a:xfrm>
            <a:off x="5286240" y="0"/>
            <a:ext cx="3571920" cy="6858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. U LO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. Y Y SE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. WHEN I D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PS BURT GREE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. MO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 I BRA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. TA 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. MAI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9. GO BO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. ALS L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1. MOLE R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2. I KAVY JE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3. DUL B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4. AHA V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5. SLOB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6. SO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7. UUA PLUM LA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8. LANA DU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9. KOO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0. GONK GOH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1. I HAR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2. VIK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3. DO NOL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4. JODI EAR I R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. COTY ICE MI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714680" y="1000080"/>
            <a:ext cx="2928600" cy="733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miniclip.com/games/anagram-magic/en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857160" y="2000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unschool.kaboose.com/fun-blaster/games/game_anagram_sleu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3"/>
          <a:srcRect l="21416" t="16993" r="26886" b="11280"/>
          <a:stretch/>
        </p:blipFill>
        <p:spPr>
          <a:xfrm>
            <a:off x="1000080" y="292896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5643720" y="6000840"/>
            <a:ext cx="292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857920" y="5716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cramble the letters to make the name of a world city, then match the city to one of the countries below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786280" y="5273640"/>
            <a:ext cx="2928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ies:</a:t>
            </a: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Cuba, Malaysia, USA, Russia, India, Kenya, Peru, Norway, China, Japan, UK, Colombia, Brazil, New Zealand, Iceland, Australia, Italy, Canada, Portugal, Ireland, Morocco, Ukraine, Mexico, Saudi Arabia, South Kor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214280" y="571500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agameaday.com/0109/069calendar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4971960" cy="439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AUSES &amp;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loud 2">
            <a:hlinkClick r:id="rId1" action="ppaction://hlinksldjump"/>
          </p:cNvPr>
          <p:cNvSpPr/>
          <p:nvPr/>
        </p:nvSpPr>
        <p:spPr>
          <a:xfrm rot="630600">
            <a:off x="5175360" y="334800"/>
            <a:ext cx="3835440" cy="1818000"/>
          </a:xfrm>
          <a:custGeom>
            <a:avLst/>
            <a:gdLst>
              <a:gd name="textAreaLeft" fmla="*/ 528480 w 3835440"/>
              <a:gd name="textAreaRight" fmla="*/ 3034080 w 3835440"/>
              <a:gd name="textAreaTop" fmla="*/ 274320 h 1818000"/>
              <a:gd name="textAreaBottom" fmla="*/ 1459440 h 181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cdd2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loud 4"/>
          <p:cNvSpPr/>
          <p:nvPr/>
        </p:nvSpPr>
        <p:spPr>
          <a:xfrm rot="232200">
            <a:off x="4687560" y="2355840"/>
            <a:ext cx="4228920" cy="2219400"/>
          </a:xfrm>
          <a:custGeom>
            <a:avLst/>
            <a:gdLst>
              <a:gd name="textAreaLeft" fmla="*/ 582840 w 4228920"/>
              <a:gd name="textAreaRight" fmla="*/ 3345480 w 4228920"/>
              <a:gd name="textAreaTop" fmla="*/ 335160 h 2219400"/>
              <a:gd name="textAreaBottom" fmla="*/ 1781640 h 2219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7e71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214200" y="785880"/>
            <a:ext cx="4429080" cy="500040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5000400"/>
              <a:gd name="textAreaBottom" fmla="*/ 4784400 h 5000400"/>
            </a:gdLst>
            <a:ahLst/>
            <a:rect l="textAreaLeft" t="textAreaTop" r="textAreaRight" b="textAreaBottom"/>
            <a:pathLst>
              <a:path w="21600" h="24386">
                <a:moveTo>
                  <a:pt x="3600" y="0"/>
                </a:moveTo>
                <a:arcTo wR="3600" hR="3600" stAng="16200000" swAng="-5400000"/>
                <a:lnTo>
                  <a:pt x="0" y="20786"/>
                </a:lnTo>
                <a:arcTo wR="3600" hR="3600" stAng="10800000" swAng="-5400000"/>
                <a:lnTo>
                  <a:pt x="18000" y="24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429160" y="1428840"/>
            <a:ext cx="264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303600">
            <a:off x="5527440" y="930600"/>
            <a:ext cx="32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ncyclopedia.kids.net.au/page/cl/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224400">
            <a:off x="5108040" y="28324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arcourtschool.com/activity/preposition_desert/index_p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 9"/>
          <p:cNvSpPr/>
          <p:nvPr/>
        </p:nvSpPr>
        <p:spPr>
          <a:xfrm>
            <a:off x="4691160" y="4643280"/>
            <a:ext cx="4357440" cy="2214720"/>
          </a:xfrm>
          <a:custGeom>
            <a:avLst/>
            <a:gdLst>
              <a:gd name="textAreaLeft" fmla="*/ 600480 w 4357440"/>
              <a:gd name="textAreaRight" fmla="*/ 3447000 w 4357440"/>
              <a:gd name="textAreaTop" fmla="*/ 334440 h 2214720"/>
              <a:gd name="textAreaBottom" fmla="*/ 1777680 h 221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 rot="20925600">
            <a:off x="5401440" y="54316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lideshare.net/ebrand21/clauses-and-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14200" y="592920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btinternet.com/~mrfield/Literacy_Disk/phrase_clauses/phrase_claus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6"/>
          <a:srcRect l="38470" t="33888" r="36824" b="36816"/>
          <a:stretch/>
        </p:blipFill>
        <p:spPr>
          <a:xfrm>
            <a:off x="500040" y="100008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5072040" cy="511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TS OF SPE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xplosion 2 2">
            <a:hlinkClick r:id="rId2" action="ppaction://hlinksldjump"/>
          </p:cNvPr>
          <p:cNvSpPr/>
          <p:nvPr/>
        </p:nvSpPr>
        <p:spPr>
          <a:xfrm rot="775800">
            <a:off x="123840" y="299520"/>
            <a:ext cx="4890960" cy="6311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ave 3"/>
          <p:cNvSpPr/>
          <p:nvPr/>
        </p:nvSpPr>
        <p:spPr>
          <a:xfrm>
            <a:off x="5715000" y="0"/>
            <a:ext cx="3214800" cy="1714680"/>
          </a:xfrm>
          <a:custGeom>
            <a:avLst/>
            <a:gdLst>
              <a:gd name="textAreaLeft" fmla="*/ 0 w 3214800"/>
              <a:gd name="textAreaRight" fmla="*/ 3215160 w 321480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languagearts.pppst.com/partsofspee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ave 4"/>
          <p:cNvSpPr/>
          <p:nvPr/>
        </p:nvSpPr>
        <p:spPr>
          <a:xfrm>
            <a:off x="4143240" y="1571760"/>
            <a:ext cx="4786560" cy="3214440"/>
          </a:xfrm>
          <a:custGeom>
            <a:avLst/>
            <a:gdLst>
              <a:gd name="textAreaLeft" fmla="*/ 0 w 4786560"/>
              <a:gd name="textAreaRight" fmla="*/ 4786920 w 4786560"/>
              <a:gd name="textAreaTop" fmla="*/ 80352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uottawa.ca/academic/arts/writcent/hypergrammar/partsp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ave 5"/>
          <p:cNvSpPr/>
          <p:nvPr/>
        </p:nvSpPr>
        <p:spPr>
          <a:xfrm>
            <a:off x="2214720" y="4286160"/>
            <a:ext cx="6572160" cy="2357640"/>
          </a:xfrm>
          <a:custGeom>
            <a:avLst/>
            <a:gdLst>
              <a:gd name="textAreaLeft" fmla="*/ 0 w 6572160"/>
              <a:gd name="textAreaRight" fmla="*/ 6572520 w 6572160"/>
              <a:gd name="textAreaTop" fmla="*/ 589320 h 2357640"/>
              <a:gd name="textAreaBottom" fmla="*/ 176832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arcademicskillbuilders.com/games/invasion/invas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214280" y="23572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Powerpoint about ‘Parts of Speec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857160" y="33577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lideshare.net/dilipbarad/english-grammar-parts-of-speech-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2214360" cy="35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RONY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lowchart: Punched Tape 2"/>
          <p:cNvSpPr/>
          <p:nvPr/>
        </p:nvSpPr>
        <p:spPr>
          <a:xfrm>
            <a:off x="214200" y="642960"/>
            <a:ext cx="2928960" cy="928800"/>
          </a:xfrm>
          <a:prstGeom prst="flowChartPunchedTape">
            <a:avLst/>
          </a:prstGeom>
          <a:solidFill>
            <a:srgbClr val="10fc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ybersmart.gov.au/cyberquoll/resources/students/cyberquoll_worksheets3_6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ertical Scroll 4"/>
          <p:cNvSpPr/>
          <p:nvPr/>
        </p:nvSpPr>
        <p:spPr>
          <a:xfrm>
            <a:off x="2857680" y="214200"/>
            <a:ext cx="6286320" cy="6429600"/>
          </a:xfrm>
          <a:prstGeom prst="verticalScroll">
            <a:avLst>
              <a:gd name="adj" fmla="val 6638"/>
            </a:avLst>
          </a:prstGeom>
          <a:solidFill>
            <a:srgbClr val="12fab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571920" y="7858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roadtogramm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3"/>
          <a:srcRect l="7996" t="17776" r="29412" b="13381"/>
          <a:stretch/>
        </p:blipFill>
        <p:spPr>
          <a:xfrm>
            <a:off x="3429000" y="1214280"/>
            <a:ext cx="5143680" cy="5143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"/>
          <p:cNvSpPr/>
          <p:nvPr/>
        </p:nvSpPr>
        <p:spPr>
          <a:xfrm>
            <a:off x="3571920" y="2000160"/>
            <a:ext cx="1357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oose number 16 and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d then click start – use the  “note” button for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2"/>
          <p:cNvSpPr/>
          <p:nvPr/>
        </p:nvSpPr>
        <p:spPr>
          <a:xfrm>
            <a:off x="4500000" y="3429000"/>
            <a:ext cx="928440" cy="150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4"/>
          <a:srcRect l="37649" t="23632" r="36000" b="10448"/>
          <a:stretch/>
        </p:blipFill>
        <p:spPr>
          <a:xfrm>
            <a:off x="142920" y="1643040"/>
            <a:ext cx="3071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4143600" cy="582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loud 2"/>
          <p:cNvSpPr/>
          <p:nvPr/>
        </p:nvSpPr>
        <p:spPr>
          <a:xfrm>
            <a:off x="214200" y="857160"/>
            <a:ext cx="3071880" cy="2286000"/>
          </a:xfrm>
          <a:custGeom>
            <a:avLst/>
            <a:gdLst>
              <a:gd name="textAreaLeft" fmla="*/ 423360 w 3071880"/>
              <a:gd name="textAreaRight" fmla="*/ 2430000 w 3071880"/>
              <a:gd name="textAreaTop" fmla="*/ 345240 h 2286000"/>
              <a:gd name="textAreaBottom" fmla="*/ 1834920 h 228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xplosion 2 4"/>
          <p:cNvSpPr/>
          <p:nvPr/>
        </p:nvSpPr>
        <p:spPr>
          <a:xfrm rot="891000">
            <a:off x="519120" y="4233960"/>
            <a:ext cx="4440240" cy="2957400"/>
          </a:xfrm>
          <a:prstGeom prst="irregularSeal2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edu.ge.ch/cptic/prospective/projets/anglais/exercises/conjunction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val 10"/>
          <p:cNvGrpSpPr/>
          <p:nvPr/>
        </p:nvGrpSpPr>
        <p:grpSpPr>
          <a:xfrm>
            <a:off x="79200" y="2432160"/>
            <a:ext cx="3670560" cy="2573280"/>
            <a:chOff x="79200" y="2432160"/>
            <a:chExt cx="3670560" cy="2573280"/>
          </a:xfrm>
        </p:grpSpPr>
        <p:pic>
          <p:nvPicPr>
            <p:cNvPr id="111" name="Oval 10" descr=""/>
            <p:cNvPicPr/>
            <p:nvPr/>
          </p:nvPicPr>
          <p:blipFill>
            <a:blip r:embed="rId2"/>
            <a:stretch/>
          </p:blipFill>
          <p:spPr>
            <a:xfrm>
              <a:off x="79200" y="2432160"/>
              <a:ext cx="367056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20338200">
              <a:off x="603360" y="2917440"/>
              <a:ext cx="262728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42960" y="100008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A CONJ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28760" y="1500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nglishclub.com/grammar/conjun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 rot="20328000">
            <a:off x="313560" y="2873520"/>
            <a:ext cx="25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Powerpoint about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rot="20235600">
            <a:off x="510480" y="3470040"/>
            <a:ext cx="29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lideshare.net/guestbd74d05/conjunctions-24972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2"/>
          <p:cNvSpPr/>
          <p:nvPr/>
        </p:nvSpPr>
        <p:spPr>
          <a:xfrm>
            <a:off x="3929040" y="214200"/>
            <a:ext cx="5000760" cy="6429600"/>
          </a:xfrm>
          <a:custGeom>
            <a:avLst/>
            <a:gdLst>
              <a:gd name="textAreaLeft" fmla="*/ 244080 w 5000760"/>
              <a:gd name="textAreaRight" fmla="*/ 4756680 w 5000760"/>
              <a:gd name="textAreaTop" fmla="*/ 244080 h 6429600"/>
              <a:gd name="textAreaBottom" fmla="*/ 6185520 h 64296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4f6fc"/>
                </a:solidFill>
                <a:latin typeface="Calibri"/>
              </a:rPr>
              <a:t>Can you spot the conjunctions in these sentences? Copy the sentences into your book and underline the con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I put on my shoes and I went out to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I can't eat my sweets until after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I can't go out tonight because I have to stay in and do my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4. It had been a long time since I had last played 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I was going to eat the sweets but I saved them for my s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6. She was nice to me although she wouldn't let me play with the l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4f6fc"/>
                </a:solidFill>
                <a:latin typeface="Calibri"/>
              </a:rPr>
              <a:t>Use conjunctions to make these sentences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7. I can't go swimming. I have forgotten my swimming tru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8. I'd like to go to the park. My mum won't let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9. The old woman wanted to feed her dog. There was nothing in the cup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0. I bought some sweets. I ate them on the way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1928880" cy="857160"/>
          </a:xfrm>
          <a:prstGeom prst="rect">
            <a:avLst/>
          </a:prstGeom>
          <a:solidFill>
            <a:srgbClr val="f01c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POUND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ardrop 2"/>
          <p:cNvSpPr/>
          <p:nvPr/>
        </p:nvSpPr>
        <p:spPr>
          <a:xfrm rot="20608800">
            <a:off x="198000" y="663480"/>
            <a:ext cx="2411640" cy="17496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lideshare.net/mrruben/compound-words-11794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85840" y="2714760"/>
            <a:ext cx="2571840" cy="392904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857840" y="214200"/>
            <a:ext cx="4071960" cy="642960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071880" y="2000160"/>
            <a:ext cx="1643040" cy="300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rcs.k12.tn.us/rcs_web/lane/sadlerpp/compwords_files/fram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500040" y="2928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bbc.co.uk/schools/ks2bitesize/english/spelling_grammar/language_structure/pla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"/>
          <p:cNvPicPr/>
          <p:nvPr/>
        </p:nvPicPr>
        <p:blipFill>
          <a:blip r:embed="rId4"/>
          <a:srcRect l="31883" t="29493" r="26941" b="11914"/>
          <a:stretch/>
        </p:blipFill>
        <p:spPr>
          <a:xfrm>
            <a:off x="357120" y="4500720"/>
            <a:ext cx="2428920" cy="192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5"/>
          <a:srcRect l="27765" t="20704" r="43412" b="8986"/>
          <a:stretch/>
        </p:blipFill>
        <p:spPr>
          <a:xfrm>
            <a:off x="4929120" y="357120"/>
            <a:ext cx="3929040" cy="6143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2928960" y="53578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crickweb.co.uk/ks2literacy.html#compound-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71480" y="142560"/>
            <a:ext cx="3071880" cy="571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1" descr=""/>
          <p:cNvPicPr/>
          <p:nvPr/>
        </p:nvPicPr>
        <p:blipFill>
          <a:blip r:embed="rId2"/>
          <a:srcRect l="0" t="23440" r="11878" b="9178"/>
          <a:stretch/>
        </p:blipFill>
        <p:spPr>
          <a:xfrm>
            <a:off x="285840" y="3357720"/>
            <a:ext cx="8643960" cy="3286080"/>
          </a:xfrm>
          <a:prstGeom prst="rect">
            <a:avLst/>
          </a:prstGeom>
          <a:ln w="0">
            <a:noFill/>
          </a:ln>
        </p:spPr>
      </p:pic>
      <p:sp>
        <p:nvSpPr>
          <p:cNvPr id="129" name="Cloud 5"/>
          <p:cNvSpPr/>
          <p:nvPr/>
        </p:nvSpPr>
        <p:spPr>
          <a:xfrm>
            <a:off x="0" y="642960"/>
            <a:ext cx="3500280" cy="1785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1f497d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www.english-the-easy-way.com/Prepositions/Prepositions_Pag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 8"/>
          <p:cNvSpPr/>
          <p:nvPr/>
        </p:nvSpPr>
        <p:spPr>
          <a:xfrm>
            <a:off x="5286240" y="357120"/>
            <a:ext cx="3857760" cy="2071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1f497d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www.harcourtschool.com/activity/preposition_desert/index_p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 10"/>
          <p:cNvSpPr/>
          <p:nvPr/>
        </p:nvSpPr>
        <p:spPr>
          <a:xfrm>
            <a:off x="571680" y="1857240"/>
            <a:ext cx="835812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Open the link, print and complete workshe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바탕"/>
                <a:hlinkClick r:id="rId5" action="ppaction://hlinksldjump"/>
              </a:rPr>
              <a:t>http://www.educationworld.com/a_lesson/worksheets/TCM/pdfs/011214c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57:45Z</dcterms:created>
  <dc:creator>Lynette Cartisano</dc:creator>
  <dc:description/>
  <dc:language>en-US</dc:language>
  <cp:lastModifiedBy>Education</cp:lastModifiedBy>
  <dcterms:modified xsi:type="dcterms:W3CDTF">2010-10-05T02:18:41Z</dcterms:modified>
  <cp:revision>321</cp:revision>
  <dc:subject/>
  <dc:title>Slide 1</dc:title>
</cp:coreProperties>
</file>