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3.wmf" ContentType="image/x-wmf"/>
  <Override PartName="/ppt/media/image18.wmf" ContentType="image/x-wmf"/>
  <Override PartName="/ppt/media/image17.wmf" ContentType="image/x-wmf"/>
  <Override PartName="/ppt/media/image14.gif" ContentType="image/gif"/>
  <Override PartName="/ppt/media/image16.png" ContentType="image/png"/>
  <Override PartName="/ppt/media/image1.wmf" ContentType="image/x-wmf"/>
  <Override PartName="/ppt/media/image2.wmf" ContentType="image/x-wmf"/>
  <Override PartName="/ppt/media/image15.wmf" ContentType="image/x-wmf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9DD7-DBBB-447B-9A86-673F57B40A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0E12-D6DB-4585-880A-BB01A3FDB2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31D-F116-40CE-954B-977BB3D0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9428-D8B9-43FD-907C-D3B32400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1121-12FC-41AB-9BCF-E0A8FAC9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184E-E348-43A2-ADA9-D9FE15A4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2FB-FCDF-4288-BA22-3190269F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F147-27C8-4B8C-9A63-B2065906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67F-CAB8-4767-B4DA-4FFAA0D0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B7D2-13E7-4E53-9E4C-B086AA83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2E6D-F7FE-45D7-A25F-BB83589C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8BD-2295-4980-BE4D-B01FBDAA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6860-3723-48E8-9178-F97F9330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7FF-9D32-45FF-81FC-0526F1CF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D291-2766-497C-9FC9-C836466B16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Green Spelling Group</a:t>
            </a:r>
            <a:br>
              <a:rPr sz="4000"/>
            </a:br>
            <a:br>
              <a:rPr sz="4000"/>
            </a:b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Member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Program Files\Microsoft Office\Media\CntCD1\ClipArt4\j0240341.wmf"/>
          <p:cNvPicPr/>
          <p:nvPr/>
        </p:nvPicPr>
        <p:blipFill>
          <a:blip r:embed="rId1"/>
          <a:stretch/>
        </p:blipFill>
        <p:spPr>
          <a:xfrm>
            <a:off x="214200" y="2214720"/>
            <a:ext cx="1822680" cy="133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Program Files\Microsoft Office\Media\CntCD1\ClipArt3\j0233954.wmf"/>
          <p:cNvPicPr/>
          <p:nvPr/>
        </p:nvPicPr>
        <p:blipFill>
          <a:blip r:embed="rId2"/>
          <a:stretch/>
        </p:blipFill>
        <p:spPr>
          <a:xfrm>
            <a:off x="6643800" y="214200"/>
            <a:ext cx="1728720" cy="178596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5" descr=""/>
          <p:cNvPicPr/>
          <p:nvPr/>
        </p:nvPicPr>
        <p:blipFill>
          <a:blip r:embed="rId3"/>
          <a:stretch/>
        </p:blipFill>
        <p:spPr>
          <a:xfrm>
            <a:off x="353880" y="201600"/>
            <a:ext cx="2011320" cy="105408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4286160" y="57168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Arial Special G1"/>
                <a:ea typeface="Arial Special G1"/>
              </a:rPr>
              <a:t>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2214720" y="7858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ek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Go to the web site below and play th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Program Files\Microsoft Office\Media\CntCD1\Animated\j0283646.gif"/>
          <p:cNvPicPr/>
          <p:nvPr/>
        </p:nvPicPr>
        <p:blipFill>
          <a:blip r:embed="rId1"/>
          <a:stretch/>
        </p:blipFill>
        <p:spPr>
          <a:xfrm>
            <a:off x="5796000" y="3714840"/>
            <a:ext cx="2616120" cy="192888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1500120" y="314316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ww.spellingcity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2357280" y="7142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e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0" y="20718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e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t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nee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Program Files\Microsoft Office\Media\CntCD1\ClipArt2\j0232049.wmf"/>
          <p:cNvPicPr/>
          <p:nvPr/>
        </p:nvPicPr>
        <p:blipFill>
          <a:blip r:embed="rId1"/>
          <a:stretch/>
        </p:blipFill>
        <p:spPr>
          <a:xfrm>
            <a:off x="5929200" y="1928880"/>
            <a:ext cx="170676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286000" y="571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e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214720" y="2357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rite your spelling words in alphabetical order, in your English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Program Files\Microsoft Office\Media\CntCD1\ClipArt1\j0196114.wmf"/>
          <p:cNvPicPr/>
          <p:nvPr/>
        </p:nvPicPr>
        <p:blipFill>
          <a:blip r:embed="rId1"/>
          <a:stretch/>
        </p:blipFill>
        <p:spPr>
          <a:xfrm>
            <a:off x="1751040" y="4888080"/>
            <a:ext cx="18558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2143080" y="357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e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2214720" y="2286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 word make a word find with all of this weeks spelling words and swap with a friend. Complete each oth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2286000" y="500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r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86000" y="199692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m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h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Program Files\Microsoft Office\Media\CntCD1\Animated\j0213480.gif"/>
          <p:cNvPicPr/>
          <p:nvPr/>
        </p:nvPicPr>
        <p:blipFill>
          <a:blip r:embed="rId1"/>
          <a:stretch/>
        </p:blipFill>
        <p:spPr>
          <a:xfrm>
            <a:off x="785880" y="1589040"/>
            <a:ext cx="1568520" cy="1644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Program Files\Microsoft Office\Media\CntCD1\ClipArt6\j0297167.wmf"/>
          <p:cNvPicPr/>
          <p:nvPr/>
        </p:nvPicPr>
        <p:blipFill>
          <a:blip r:embed="rId2"/>
          <a:stretch/>
        </p:blipFill>
        <p:spPr>
          <a:xfrm>
            <a:off x="6705720" y="4702320"/>
            <a:ext cx="18399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2286000" y="6429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r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428760" y="2274840"/>
            <a:ext cx="8358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mple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Use the clues to complete the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) A celebration or gathering _ _ _ _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B) A hot drink _ _ _ _ _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) Plants in the back yard _ _ _ _ _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D) Lives in water _ _ _ _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) Put in things to make it sweeter _ _ _ _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) You need to _ _ _ _ _ _ your Netbook or else the battery will 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:\Program Files\Microsoft Office\Media\CntCD1\ClipArt7\j0339080.wmf"/>
          <p:cNvPicPr/>
          <p:nvPr/>
        </p:nvPicPr>
        <p:blipFill>
          <a:blip r:embed="rId1"/>
          <a:stretch/>
        </p:blipFill>
        <p:spPr>
          <a:xfrm>
            <a:off x="6786720" y="35712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2000160" y="64296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r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85840" y="2500200"/>
            <a:ext cx="77864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Go to the following web site and play alien hang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crickweb.co.uk/assets/resources/flash.php?&amp;file=alienhang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Program Files\Microsoft Office\Media\CntCD1\ClipArt5\j0286885.wmf"/>
          <p:cNvPicPr/>
          <p:nvPr/>
        </p:nvPicPr>
        <p:blipFill>
          <a:blip r:embed="rId1"/>
          <a:stretch/>
        </p:blipFill>
        <p:spPr>
          <a:xfrm>
            <a:off x="5937120" y="3970440"/>
            <a:ext cx="19605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000160" y="64296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Y = 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071800" y="2286000"/>
            <a:ext cx="4786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u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ret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e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l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i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Program Files\Microsoft Office\Media\CntCD1\Animated\j0297074.gif"/>
          <p:cNvPicPr/>
          <p:nvPr/>
        </p:nvPicPr>
        <p:blipFill>
          <a:blip r:embed="rId1"/>
          <a:stretch/>
        </p:blipFill>
        <p:spPr>
          <a:xfrm>
            <a:off x="6143760" y="4500720"/>
            <a:ext cx="202860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2000160" y="6429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Y = 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214280" y="2428920"/>
            <a:ext cx="707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ort out the jumbled letters in this box to find eight of the list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  yyyyyyyy  I uu  aa   rrrrrrr  o eee   c  f nn   pp  mm  ttt  bb    s   l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1.______________________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2.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3._____________________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4.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5._____________________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6.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7.______________________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8.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928880" y="35712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Y = 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643040" y="2143080"/>
            <a:ext cx="53578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an you solve this puzz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an _ _ _- A mad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_ _ _ age- A long sea jour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an _ _ _- A person who run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_ _ _ age- Suitcases and 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an _ _- A tropical 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an _ _ _ _- A larg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Program Files\Microsoft Office\Media\CntCD1\ClipArt2\j0215321.wmf"/>
          <p:cNvPicPr/>
          <p:nvPr/>
        </p:nvPicPr>
        <p:blipFill>
          <a:blip r:embed="rId1"/>
          <a:stretch/>
        </p:blipFill>
        <p:spPr>
          <a:xfrm>
            <a:off x="285840" y="285840"/>
            <a:ext cx="2322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Term 1- 2010</a:t>
            </a:r>
            <a:br>
              <a:rPr sz="44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Week 2</a:t>
            </a:r>
            <a:br>
              <a:rPr sz="2000"/>
            </a:b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Holiday Words:</a:t>
            </a:r>
            <a:br>
              <a:rPr sz="2000"/>
            </a:b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christmas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holiday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beach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surf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shopping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January 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family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camping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caravan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fri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Program Files\Microsoft Office\Media\CntCD1\Animated\j0213478.gif"/>
          <p:cNvPicPr/>
          <p:nvPr/>
        </p:nvPicPr>
        <p:blipFill>
          <a:blip r:embed="rId1"/>
          <a:stretch/>
        </p:blipFill>
        <p:spPr>
          <a:xfrm>
            <a:off x="714240" y="3357720"/>
            <a:ext cx="14209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ectangle 2" descr=""/>
          <p:cNvPicPr/>
          <p:nvPr/>
        </p:nvPicPr>
        <p:blipFill>
          <a:blip r:embed="rId1"/>
          <a:stretch/>
        </p:blipFill>
        <p:spPr>
          <a:xfrm>
            <a:off x="1511280" y="1706400"/>
            <a:ext cx="54691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2000160" y="35712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2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Ck  -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2500200" y="2000160"/>
            <a:ext cx="4000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o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i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t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hi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u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Lo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t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Kn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ack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Program Files\Microsoft Office\Media\CntCD1\ClipArt1\j0150058.wmf"/>
          <p:cNvPicPr/>
          <p:nvPr/>
        </p:nvPicPr>
        <p:blipFill>
          <a:blip r:embed="rId1"/>
          <a:stretch/>
        </p:blipFill>
        <p:spPr>
          <a:xfrm>
            <a:off x="571680" y="4214880"/>
            <a:ext cx="24145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2000160" y="35712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2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Ck  -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1214280" y="250020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rite a sentence for each of your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Program Files\Microsoft Office\Media\CntCD1\ClipArt2\j0215118.wmf"/>
          <p:cNvPicPr/>
          <p:nvPr/>
        </p:nvPicPr>
        <p:blipFill>
          <a:blip r:embed="rId1"/>
          <a:stretch/>
        </p:blipFill>
        <p:spPr>
          <a:xfrm>
            <a:off x="6350040" y="3916440"/>
            <a:ext cx="167472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642960" y="310500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bbc.co.uk/schools/wordsandpictures/longvow/spelling/spelling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000160" y="35712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2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Ck  -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571760" y="214308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Go to the following web site and play th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Program Files\Microsoft Office\Media\CntCD1\Animated\j0283646.gif"/>
          <p:cNvPicPr/>
          <p:nvPr/>
        </p:nvPicPr>
        <p:blipFill>
          <a:blip r:embed="rId1"/>
          <a:stretch/>
        </p:blipFill>
        <p:spPr>
          <a:xfrm>
            <a:off x="5979960" y="4643280"/>
            <a:ext cx="24242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Term 1- 2010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Week 2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Holiday Words Activity 1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642960" y="200016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Write a sentence for each of your spelling words and underline the word in your favourite colou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2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oliday Words Activity 2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071720" y="2071800"/>
            <a:ext cx="65721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Go to the web site below, custom add your spelling words and then play 'Missing Letter Match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ttp://www.kidsspell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Program Files\Microsoft Office\Media\CntCD1\Animated\j0283646.gif"/>
          <p:cNvPicPr/>
          <p:nvPr/>
        </p:nvPicPr>
        <p:blipFill>
          <a:blip r:embed="rId1"/>
          <a:stretch/>
        </p:blipFill>
        <p:spPr>
          <a:xfrm>
            <a:off x="5715000" y="4000680"/>
            <a:ext cx="2617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Term 1- 2010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Week 3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a_e word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286000" y="21366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n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bec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k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w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c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Fl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h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Program Files\Microsoft Office\Media\CntCD1\ClipArt5\j0280713.wmf"/>
          <p:cNvPicPr/>
          <p:nvPr/>
        </p:nvPicPr>
        <p:blipFill>
          <a:blip r:embed="rId1"/>
          <a:stretch/>
        </p:blipFill>
        <p:spPr>
          <a:xfrm>
            <a:off x="714240" y="4214880"/>
            <a:ext cx="19735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3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_e words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00080" y="1996920"/>
            <a:ext cx="692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Use the clues to complete each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) The long brown _________ slithered through the gr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) My mum asked if I was __________ when she came into my room this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) I set the table for dinner and I used the white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) I went on a ___________ to get to Queens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2214720" y="571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_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2286000" y="2136600"/>
            <a:ext cx="471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Fill in the missing let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) _ka_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b) a_a_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c) _h_s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) f_a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1928880" y="571680"/>
            <a:ext cx="54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286000" y="199692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yeste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re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cray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t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ig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Program Files\Microsoft Office\Media\CntCD1\ClipArt2\j0232724.wmf"/>
          <p:cNvPicPr/>
          <p:nvPr/>
        </p:nvPicPr>
        <p:blipFill>
          <a:blip r:embed="rId1"/>
          <a:stretch/>
        </p:blipFill>
        <p:spPr>
          <a:xfrm>
            <a:off x="785880" y="4214880"/>
            <a:ext cx="190008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2286000" y="500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214720" y="2357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 your English book, write the dictionary definition for each of your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01:11:58Z</dcterms:created>
  <dc:creator>Education</dc:creator>
  <dc:description/>
  <dc:language>en-US</dc:language>
  <cp:lastModifiedBy>02101783</cp:lastModifiedBy>
  <dcterms:modified xsi:type="dcterms:W3CDTF">2010-02-17T05:26:06Z</dcterms:modified>
  <cp:revision>29</cp:revision>
  <dc:subject/>
  <dc:title>Green Spelling Group  Members:</dc:title>
</cp:coreProperties>
</file>