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3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png" ContentType="image/png"/>
  <Override PartName="/ppt/media/image1.wmf" ContentType="image/x-wmf"/>
  <Override PartName="/ppt/media/image2.wmf" ContentType="image/x-wmf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05B-2632-4D7A-BE64-3FFD4E9D07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B111-B1FE-411A-A4CD-3807347E65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00F-400A-4CDC-819C-5A40ADBE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8FE-D543-4865-A433-8E99A85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068-9832-4793-9E51-3790CA6E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FA7-0783-4044-A8A2-695CBE17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200-CA9C-471C-B754-DEEBCA3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82A-3BB4-4569-A6DE-61099EA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95D-93A0-41FA-B3C6-99DF8031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C9E-6379-47E3-BC38-B87CEDBB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8BE-EC3A-4501-A0DC-C03750E4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2BC-CC0C-42A0-BBBD-EDAE54EB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419-A8A8-4E67-AA6D-6ABC33D2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082-1FBD-4549-B933-3C8A940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B5D1-97BE-430F-8802-64D5B9F82A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Green Spelling Group</a:t>
            </a:r>
            <a:br>
              <a:rPr sz="4000"/>
            </a:b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Member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Program Files\Microsoft Office\Media\CntCD1\ClipArt4\j0240341.wmf"/>
          <p:cNvPicPr/>
          <p:nvPr/>
        </p:nvPicPr>
        <p:blipFill>
          <a:blip r:embed="rId1"/>
          <a:stretch/>
        </p:blipFill>
        <p:spPr>
          <a:xfrm>
            <a:off x="214200" y="2214720"/>
            <a:ext cx="1822680" cy="133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Program Files\Microsoft Office\Media\CntCD1\ClipArt3\j0233954.wmf"/>
          <p:cNvPicPr/>
          <p:nvPr/>
        </p:nvPicPr>
        <p:blipFill>
          <a:blip r:embed="rId2"/>
          <a:stretch/>
        </p:blipFill>
        <p:spPr>
          <a:xfrm>
            <a:off x="6643800" y="214200"/>
            <a:ext cx="172872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3"/>
          <a:stretch/>
        </p:blipFill>
        <p:spPr>
          <a:xfrm>
            <a:off x="353880" y="201600"/>
            <a:ext cx="2011320" cy="1054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4286160" y="5716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Arial Special G1"/>
                <a:ea typeface="Arial Special G1"/>
              </a:rPr>
              <a:t>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214720" y="785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 and play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796000" y="3714840"/>
            <a:ext cx="2616120" cy="1928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500120" y="31431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spellingcit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357280" y="714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0" y="2071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nee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Program Files\Microsoft Office\Media\CntCD1\ClipArt2\j0232049.wmf"/>
          <p:cNvPicPr/>
          <p:nvPr/>
        </p:nvPicPr>
        <p:blipFill>
          <a:blip r:embed="rId1"/>
          <a:stretch/>
        </p:blipFill>
        <p:spPr>
          <a:xfrm>
            <a:off x="5929200" y="1928880"/>
            <a:ext cx="17067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286000" y="571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214720" y="2357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rite your spelling words in alphabetical order, in your English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\Microsoft Office\Media\CntCD1\ClipArt1\j0196114.wmf"/>
          <p:cNvPicPr/>
          <p:nvPr/>
        </p:nvPicPr>
        <p:blipFill>
          <a:blip r:embed="rId1"/>
          <a:stretch/>
        </p:blipFill>
        <p:spPr>
          <a:xfrm>
            <a:off x="1751040" y="4888080"/>
            <a:ext cx="18558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14308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214720" y="2286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 word make a word find with all of this weeks spelling words and swap with a friend. Complete each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228600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86000" y="19969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h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Program Files\Microsoft Office\Media\CntCD1\Animated\j0213480.gif"/>
          <p:cNvPicPr/>
          <p:nvPr/>
        </p:nvPicPr>
        <p:blipFill>
          <a:blip r:embed="rId1"/>
          <a:stretch/>
        </p:blipFill>
        <p:spPr>
          <a:xfrm>
            <a:off x="785880" y="1589040"/>
            <a:ext cx="1568520" cy="164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Program Files\Microsoft Office\Media\CntCD1\ClipArt6\j0297167.wmf"/>
          <p:cNvPicPr/>
          <p:nvPr/>
        </p:nvPicPr>
        <p:blipFill>
          <a:blip r:embed="rId2"/>
          <a:stretch/>
        </p:blipFill>
        <p:spPr>
          <a:xfrm>
            <a:off x="6705720" y="4702320"/>
            <a:ext cx="1839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28600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28760" y="2274840"/>
            <a:ext cx="83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le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se the clues to complete th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) A celebration or gathering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) A hot drink _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) Plants in the back yard _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) Lives in water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) Put in things to make it sweeter _ 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) You need to _ _ _ _ _ _ your Netbook or else the battery will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Program Files\Microsoft Office\Media\CntCD1\ClipArt7\j0339080.wmf"/>
          <p:cNvPicPr/>
          <p:nvPr/>
        </p:nvPicPr>
        <p:blipFill>
          <a:blip r:embed="rId1"/>
          <a:stretch/>
        </p:blipFill>
        <p:spPr>
          <a:xfrm>
            <a:off x="6786720" y="3571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000160" y="642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85840" y="2500200"/>
            <a:ext cx="7786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following web site and play alien ha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rickweb.co.uk/assets/resources/flash.php?&amp;file=alienhan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Program Files\Microsoft Office\Media\CntCD1\ClipArt5\j0286885.wmf"/>
          <p:cNvPicPr/>
          <p:nvPr/>
        </p:nvPicPr>
        <p:blipFill>
          <a:blip r:embed="rId1"/>
          <a:stretch/>
        </p:blipFill>
        <p:spPr>
          <a:xfrm>
            <a:off x="5937120" y="3970440"/>
            <a:ext cx="19605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000160" y="642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071800" y="228600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l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Program Files\Microsoft Office\Media\CntCD1\Animated\j0297074.gif"/>
          <p:cNvPicPr/>
          <p:nvPr/>
        </p:nvPicPr>
        <p:blipFill>
          <a:blip r:embed="rId1"/>
          <a:stretch/>
        </p:blipFill>
        <p:spPr>
          <a:xfrm>
            <a:off x="6143760" y="4500720"/>
            <a:ext cx="20286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000160" y="6429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14280" y="242892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rt out the jumbled letters in this box to find eight of the lis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  yyyyyyyy  I uu  aa   rrrrrrr  o eee   c  f nn   pp  mm  ttt  bb    s   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_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.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.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.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.______________________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8.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2888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 = 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643040" y="2143080"/>
            <a:ext cx="5357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you solve this puzz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- A ma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_ _ _ age- A long sea jour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- A person who run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_ _ _ age- Suitcases and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- A tropical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 _ _ _ _- A larg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Program Files\Microsoft Office\Media\CntCD1\ClipArt2\j0215321.wmf"/>
          <p:cNvPicPr/>
          <p:nvPr/>
        </p:nvPicPr>
        <p:blipFill>
          <a:blip r:embed="rId1"/>
          <a:stretch/>
        </p:blipFill>
        <p:spPr>
          <a:xfrm>
            <a:off x="285840" y="285840"/>
            <a:ext cx="2322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44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000"/>
            </a:b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Holiday Words:</a:t>
            </a:r>
            <a:br>
              <a:rPr sz="2000"/>
            </a:b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hristma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holida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bea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surf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shopping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January 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famil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amping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caravan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Program Files\Microsoft Office\Media\CntCD1\Animated\j0213478.gif"/>
          <p:cNvPicPr/>
          <p:nvPr/>
        </p:nvPicPr>
        <p:blipFill>
          <a:blip r:embed="rId1"/>
          <a:stretch/>
        </p:blipFill>
        <p:spPr>
          <a:xfrm>
            <a:off x="714240" y="3357720"/>
            <a:ext cx="14209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511280" y="1706400"/>
            <a:ext cx="546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000160" y="3571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500200" y="2000160"/>
            <a:ext cx="400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Kn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Program Files\Microsoft Office\Media\CntCD1\ClipArt1\j0150058.wmf"/>
          <p:cNvPicPr/>
          <p:nvPr/>
        </p:nvPicPr>
        <p:blipFill>
          <a:blip r:embed="rId1"/>
          <a:stretch/>
        </p:blipFill>
        <p:spPr>
          <a:xfrm>
            <a:off x="571680" y="4214880"/>
            <a:ext cx="24145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00016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214280" y="250020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rite a sentence for each of you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Program Files\Microsoft Office\Media\CntCD1\ClipArt2\j0215118.wmf"/>
          <p:cNvPicPr/>
          <p:nvPr/>
        </p:nvPicPr>
        <p:blipFill>
          <a:blip r:embed="rId1"/>
          <a:stretch/>
        </p:blipFill>
        <p:spPr>
          <a:xfrm>
            <a:off x="6350040" y="3916440"/>
            <a:ext cx="16747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42960" y="31050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bc.co.uk/schools/wordsandpictures/longvow/spelling/spelling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000160" y="3571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2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k  -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71760" y="21430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following web site and play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979960" y="4643280"/>
            <a:ext cx="2424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Holiday Words Activity 1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42960" y="20001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rite a sentence for each of your spelling words and underline the word in your favourite colou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2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liday Words Activity 2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071720" y="2071800"/>
            <a:ext cx="657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o to the web site below, custom add your spelling words and then play 'Missing Letter Matc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ttp://www.kidsspel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ntCD1\Animated\j0283646.gif"/>
          <p:cNvPicPr/>
          <p:nvPr/>
        </p:nvPicPr>
        <p:blipFill>
          <a:blip r:embed="rId1"/>
          <a:stretch/>
        </p:blipFill>
        <p:spPr>
          <a:xfrm>
            <a:off x="5715000" y="4000680"/>
            <a:ext cx="2617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eek 3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a_e word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0" y="2136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e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k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h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Program Files\Microsoft Office\Media\CntCD1\ClipArt5\j0280713.wmf"/>
          <p:cNvPicPr/>
          <p:nvPr/>
        </p:nvPicPr>
        <p:blipFill>
          <a:blip r:embed="rId1"/>
          <a:stretch/>
        </p:blipFill>
        <p:spPr>
          <a:xfrm>
            <a:off x="714240" y="4214880"/>
            <a:ext cx="19735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3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_e words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0080" y="1996920"/>
            <a:ext cx="69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Use the clues to complete each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) The long brown _________ slithered through the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) My mum asked if I was __________ when she came into my room this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) I set the table for dinner and I used the white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) I went on a ___________ to get to Queens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214720" y="571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_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286000" y="213660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ll in the miss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) _ka_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) a_a_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) _h_s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) f_a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928880" y="57168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286000" y="19969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ra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ntCD1\ClipArt2\j0232724.wmf"/>
          <p:cNvPicPr/>
          <p:nvPr/>
        </p:nvPicPr>
        <p:blipFill>
          <a:blip r:embed="rId1"/>
          <a:stretch/>
        </p:blipFill>
        <p:spPr>
          <a:xfrm>
            <a:off x="785880" y="4214880"/>
            <a:ext cx="19000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228600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erm 1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1472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your English book, write the dictionary definition for each of you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1:11:58Z</dcterms:created>
  <dc:creator>Education</dc:creator>
  <dc:description/>
  <dc:language>en-US</dc:language>
  <cp:lastModifiedBy>02101783</cp:lastModifiedBy>
  <dcterms:modified xsi:type="dcterms:W3CDTF">2010-02-17T05:26:06Z</dcterms:modified>
  <cp:revision>29</cp:revision>
  <dc:subject/>
  <dc:title>Green Spelling Group  Members:</dc:title>
</cp:coreProperties>
</file>