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14C-CD5E-4D6F-80E6-007D145E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493-434E-4602-9980-928D6D7D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0AC-8E8E-46EF-B5FD-676C365C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24B-0F8C-4B90-B5E3-9A7A1F10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181-0375-4B0A-BC44-45BFCC55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750-33BF-42ED-A983-65531E83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2F7-20B7-4074-B3E5-F01E86A1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2EA-8CF1-4B7D-A5C7-4CE3B5A5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8DAD-68D3-42A6-B1E5-B8A98054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C66-3783-4441-AD9A-7395C0E2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39A3-2967-43DC-A107-C2E52CEE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A01-414C-4A0B-84D9-4459D926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F076-F7D0-4E20-AFD1-1547AA338A6A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ench-maths.wikispaces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" Target="slide19.xml"/><Relationship Id="rId16" Type="http://schemas.openxmlformats.org/officeDocument/2006/relationships/slide" Target="slide20.xml"/><Relationship Id="rId17" Type="http://schemas.openxmlformats.org/officeDocument/2006/relationships/slide" Target="slide8.xml"/><Relationship Id="rId18" Type="http://schemas.openxmlformats.org/officeDocument/2006/relationships/slide" Target="slide22.xml"/><Relationship Id="rId19" Type="http://schemas.openxmlformats.org/officeDocument/2006/relationships/slide" Target="slide23.xml"/><Relationship Id="rId20" Type="http://schemas.openxmlformats.org/officeDocument/2006/relationships/slide" Target="slide24.xml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ntroduction to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y Graeme Hench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50920" y="549360"/>
            <a:ext cx="288108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971640" y="549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1692360" y="549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2411280" y="549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50920" y="549360"/>
            <a:ext cx="720720" cy="143964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971640" y="549360"/>
            <a:ext cx="720720" cy="7189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250920" y="126828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11"/>
              <p:cNvSpPr txBox="1"/>
              <p:nvPr/>
            </p:nvSpPr>
            <p:spPr>
              <a:xfrm>
                <a:off x="6877080" y="404640"/>
                <a:ext cx="1257120" cy="17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Text Box 12"/>
          <p:cNvSpPr/>
          <p:nvPr/>
        </p:nvSpPr>
        <p:spPr>
          <a:xfrm>
            <a:off x="971640" y="4869000"/>
            <a:ext cx="5832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hench-maths.wikispac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L -0.62014 -3.7037E-006 E">
                                      <p:cBhvr>
                                        <p:cTn id="6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2281320" y="3213000"/>
            <a:ext cx="934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0">
                  <a:noFill/>
                </a:ln>
                <a:solidFill>
                  <a:srgbClr val="3366ff">
                    <a:alpha val="19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</a:t>
            </a:r>
            <a:endParaRPr b="0" lang="en-US" sz="8000" spc="1" strike="noStrike">
              <a:ln w="0">
                <a:noFill/>
              </a:ln>
              <a:solidFill>
                <a:srgbClr val="3366ff">
                  <a:alpha val="19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Simplifying Fractions: Canc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implifying means finding an equivalent fraction with the LOWEST denominator by  making a </a:t>
            </a:r>
            <a:r>
              <a:rPr b="0" lang="en-AU" sz="2800" spc="-1" strike="noStrike">
                <a:solidFill>
                  <a:srgbClr val="c81e0c"/>
                </a:solidFill>
                <a:latin typeface="Arial"/>
              </a:rPr>
              <a:t>special form of 1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equal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5"/>
              <p:cNvSpPr txBox="1"/>
              <p:nvPr/>
            </p:nvSpPr>
            <p:spPr>
              <a:xfrm>
                <a:off x="971640" y="3429000"/>
                <a:ext cx="5572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6"/>
              <p:cNvSpPr txBox="1"/>
              <p:nvPr/>
            </p:nvSpPr>
            <p:spPr>
              <a:xfrm>
                <a:off x="1628640" y="3416400"/>
                <a:ext cx="13669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7"/>
              <p:cNvSpPr txBox="1"/>
              <p:nvPr/>
            </p:nvSpPr>
            <p:spPr>
              <a:xfrm>
                <a:off x="3076560" y="3436920"/>
                <a:ext cx="11905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8"/>
              <p:cNvSpPr txBox="1"/>
              <p:nvPr/>
            </p:nvSpPr>
            <p:spPr>
              <a:xfrm>
                <a:off x="4284720" y="3429000"/>
                <a:ext cx="7300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971640" y="4869000"/>
                <a:ext cx="6681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1692360" y="4941720"/>
                <a:ext cx="165564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÷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÷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3564000" y="5013360"/>
                <a:ext cx="7808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Text Box 12"/>
          <p:cNvSpPr/>
          <p:nvPr/>
        </p:nvSpPr>
        <p:spPr>
          <a:xfrm>
            <a:off x="5580000" y="3213000"/>
            <a:ext cx="3240000" cy="1312920"/>
          </a:xfrm>
          <a:prstGeom prst="rect">
            <a:avLst/>
          </a:prstGeom>
          <a:solidFill>
            <a:srgbClr val="79d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omic Sans MS"/>
              </a:rPr>
              <a:t>Another way of doing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hat is a fra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ixed Numbers meth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Mixed Numbers meth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quivalent F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pecial form of on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pecial form of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Finding equivalent f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Adding: Common deno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Adding: Different deno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Common denominator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Common denominator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½+1/3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with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1/3+1/4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with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½ +2/5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with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3/7+2/3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No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Adding Mixed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Multiplying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Multiplying Mixed Number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Multiplying Mixed number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Multiplying Mixed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viding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raction Flowchart .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raction Flowchart 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cimal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raction&lt;-&gt;Decimal&lt;-&gt;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at is a Fra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50920" y="4149720"/>
            <a:ext cx="216036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50920" y="4149720"/>
            <a:ext cx="1441440" cy="144144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971640" y="414972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2987640" y="4221000"/>
                <a:ext cx="86508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AutoShape 7"/>
          <p:cNvSpPr/>
          <p:nvPr/>
        </p:nvSpPr>
        <p:spPr>
          <a:xfrm>
            <a:off x="4788000" y="2781360"/>
            <a:ext cx="3744720" cy="1439640"/>
          </a:xfrm>
          <a:prstGeom prst="cloudCallout">
            <a:avLst>
              <a:gd name="adj1" fmla="val -81032"/>
              <a:gd name="adj2" fmla="val 728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’m the NUMERATOR. I tell you the number of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4859280" y="5229360"/>
            <a:ext cx="3745080" cy="1439640"/>
          </a:xfrm>
          <a:prstGeom prst="cloudCallout">
            <a:avLst>
              <a:gd name="adj1" fmla="val -81157"/>
              <a:gd name="adj2" fmla="val -27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’m the DENOMINATOR. I tell you the name of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468360" y="981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81e0c"/>
                </a:solidFill>
                <a:latin typeface="Comic Sans MS"/>
              </a:rPr>
              <a:t>A fraction is formed by dividing a whole into a number of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1692360" y="414972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969840" y="414972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ixed numbers to improper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250920" y="1341360"/>
                <a:ext cx="149544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Rectangle 4"/>
          <p:cNvSpPr/>
          <p:nvPr/>
        </p:nvSpPr>
        <p:spPr>
          <a:xfrm>
            <a:off x="2411280" y="1268280"/>
            <a:ext cx="1440000" cy="216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572000" y="1268280"/>
            <a:ext cx="1440000" cy="216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6732720" y="1268280"/>
            <a:ext cx="143964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6732720" y="1268280"/>
            <a:ext cx="1439640" cy="72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6732720" y="2708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124000" y="3645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nvert whole numbers to thi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2411280" y="198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>
            <a:off x="2411280" y="2708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4572000" y="198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>
            <a:off x="4572000" y="2708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4"/>
              <p:cNvSpPr txBox="1"/>
              <p:nvPr/>
            </p:nvSpPr>
            <p:spPr>
              <a:xfrm>
                <a:off x="2195640" y="4280040"/>
                <a:ext cx="4321080" cy="17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AutoShape 15"/>
          <p:cNvSpPr/>
          <p:nvPr/>
        </p:nvSpPr>
        <p:spPr>
          <a:xfrm>
            <a:off x="250920" y="4292640"/>
            <a:ext cx="2160360" cy="504720"/>
          </a:xfrm>
          <a:prstGeom prst="wedgeRoundRectCallout">
            <a:avLst>
              <a:gd name="adj1" fmla="val 42875"/>
              <a:gd name="adj2" fmla="val 10503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ixed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6"/>
          <p:cNvSpPr/>
          <p:nvPr/>
        </p:nvSpPr>
        <p:spPr>
          <a:xfrm>
            <a:off x="6659640" y="4437000"/>
            <a:ext cx="2089080" cy="576360"/>
          </a:xfrm>
          <a:prstGeom prst="wedgeRoundRectCallout">
            <a:avLst>
              <a:gd name="adj1" fmla="val -56458"/>
              <a:gd name="adj2" fmla="val 494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roper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7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nother Way to change Mixed Numbers to improper fr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3"/>
              <p:cNvSpPr txBox="1"/>
              <p:nvPr/>
            </p:nvSpPr>
            <p:spPr>
              <a:xfrm>
                <a:off x="395280" y="1557360"/>
                <a:ext cx="112716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4" name="Picture 4" descr="j0282748"/>
          <p:cNvPicPr/>
          <p:nvPr/>
        </p:nvPicPr>
        <p:blipFill>
          <a:blip r:embed="rId1"/>
          <a:stretch/>
        </p:blipFill>
        <p:spPr>
          <a:xfrm>
            <a:off x="468360" y="4869000"/>
            <a:ext cx="1219320" cy="129528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5"/>
          <p:cNvSpPr/>
          <p:nvPr/>
        </p:nvSpPr>
        <p:spPr>
          <a:xfrm>
            <a:off x="1908000" y="1844640"/>
            <a:ext cx="5185080" cy="4032360"/>
          </a:xfrm>
          <a:prstGeom prst="cloudCallout">
            <a:avLst>
              <a:gd name="adj1" fmla="val -35425"/>
              <a:gd name="adj2" fmla="val 125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Since 5/5=1 there are 5 fifths in each wh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81e0c"/>
                </a:solidFill>
                <a:latin typeface="Comic Sans MS"/>
              </a:rPr>
              <a:t>So 3 wholes will have 3x5=15 fif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Plus the 2 fifths already there makes a total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15+2=17 fif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7164360" y="1557360"/>
                <a:ext cx="162864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AutoShape 7"/>
          <p:cNvSpPr/>
          <p:nvPr/>
        </p:nvSpPr>
        <p:spPr>
          <a:xfrm>
            <a:off x="2411280" y="1484280"/>
            <a:ext cx="4465800" cy="2376360"/>
          </a:xfrm>
          <a:prstGeom prst="cloudCallout">
            <a:avLst>
              <a:gd name="adj1" fmla="val -74777"/>
              <a:gd name="adj2" fmla="val 85805"/>
            </a:avLst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omic Sans MS"/>
              </a:rPr>
              <a:t>In sh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omic Sans MS"/>
              </a:rPr>
              <a:t>5x3+2=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 flipV="1">
            <a:off x="5867280" y="2060280"/>
            <a:ext cx="1873440" cy="576360"/>
          </a:xfrm>
          <a:prstGeom prst="line">
            <a:avLst/>
          </a:prstGeom>
          <a:ln w="57240">
            <a:solidFill>
              <a:srgbClr val="c81e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50920" y="1989000"/>
            <a:ext cx="2881080" cy="431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50920" y="1989000"/>
            <a:ext cx="2881080" cy="216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quivalent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3851280" y="2903400"/>
                <a:ext cx="4586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4476600" y="2933640"/>
                <a:ext cx="731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7"/>
              <p:cNvSpPr txBox="1"/>
              <p:nvPr/>
            </p:nvSpPr>
            <p:spPr>
              <a:xfrm>
                <a:off x="5369040" y="2962440"/>
                <a:ext cx="6825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Line 8"/>
          <p:cNvSpPr/>
          <p:nvPr/>
        </p:nvSpPr>
        <p:spPr>
          <a:xfrm>
            <a:off x="1692360" y="198900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>
            <a:off x="250920" y="270828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250920" y="342900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50920" y="4149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250920" y="486900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250920" y="5589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6084720" y="3645000"/>
            <a:ext cx="11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5"/>
              <p:cNvSpPr txBox="1"/>
              <p:nvPr/>
            </p:nvSpPr>
            <p:spPr>
              <a:xfrm>
                <a:off x="6227640" y="2919240"/>
                <a:ext cx="90180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AutoShape 16"/>
          <p:cNvSpPr/>
          <p:nvPr/>
        </p:nvSpPr>
        <p:spPr>
          <a:xfrm>
            <a:off x="3708360" y="1268280"/>
            <a:ext cx="3888000" cy="1440000"/>
          </a:xfrm>
          <a:prstGeom prst="wedgeRoundRectCallout">
            <a:avLst>
              <a:gd name="adj1" fmla="val -32199"/>
              <a:gd name="adj2" fmla="val 45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equivalent fraction is one that has the same value and position on the number line but has a different deno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564000" y="4292640"/>
            <a:ext cx="52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81e0c"/>
                </a:solidFill>
                <a:latin typeface="Arial"/>
              </a:rPr>
              <a:t>Equivalent fractions can be found by multiplying by a special form of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8"/>
              <p:cNvSpPr txBox="1"/>
              <p:nvPr/>
            </p:nvSpPr>
            <p:spPr>
              <a:xfrm>
                <a:off x="3687840" y="5338800"/>
                <a:ext cx="493704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et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AutoShape 19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63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32">
                                          <p:stCondLst>
                                            <p:cond delay="2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16">
                                          <p:stCondLst>
                                            <p:cond delay="463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7">
                                          <p:stCondLst>
                                            <p:cond delay="58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9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58" fill="hold">
                                          <p:stCondLst>
                                            <p:cond delay="23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9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58" fill="hold">
                                          <p:stCondLst>
                                            <p:cond delay="4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9" fill="hold">
                                          <p:stCondLst>
                                            <p:cond delay="57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58" fill="hold">
                                          <p:stCondLst>
                                            <p:cond delay="58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9" fill="hold">
                                          <p:stCondLst>
                                            <p:cond delay="633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58" fill="hold">
                                          <p:stCondLst>
                                            <p:cond delay="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Multiplying By a Special Form of One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060640"/>
            <a:ext cx="79311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ultiplying any number by 1 does not change the value 4x1=4,  9x1=9 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ny number divided by itself =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00000" y="9000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81e0c"/>
                </a:solidFill>
                <a:latin typeface="Comic Sans MS"/>
              </a:rPr>
              <a:t>Why does it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5"/>
              <p:cNvSpPr txBox="1"/>
              <p:nvPr/>
            </p:nvSpPr>
            <p:spPr>
              <a:xfrm>
                <a:off x="611280" y="3645000"/>
                <a:ext cx="8064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Text Box 6"/>
          <p:cNvSpPr/>
          <p:nvPr/>
        </p:nvSpPr>
        <p:spPr>
          <a:xfrm>
            <a:off x="684360" y="4653000"/>
            <a:ext cx="8208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Multiplying a fraction by a special form of one changes the numerator and the denominator b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81e0c"/>
                </a:solidFill>
                <a:latin typeface="Comic Sans MS"/>
              </a:rPr>
              <a:t>DOES </a:t>
            </a:r>
            <a:r>
              <a:rPr b="0" lang="en-AU" sz="2800" spc="-1" strike="noStrike" u="sng">
                <a:solidFill>
                  <a:srgbClr val="c81e0c"/>
                </a:solidFill>
                <a:uFillTx/>
                <a:latin typeface="Comic Sans MS"/>
              </a:rPr>
              <a:t>NOT</a:t>
            </a:r>
            <a:r>
              <a:rPr b="0" lang="en-AU" sz="2800" spc="-1" strike="noStrike">
                <a:solidFill>
                  <a:srgbClr val="c81e0c"/>
                </a:solidFill>
                <a:latin typeface="Comic Sans MS"/>
              </a:rPr>
              <a:t> CHANGE TH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3" name="Object 2"/>
              <p:cNvSpPr txBox="1"/>
              <p:nvPr/>
            </p:nvSpPr>
            <p:spPr>
              <a:xfrm>
                <a:off x="4788000" y="907920"/>
                <a:ext cx="3204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3"/>
              <p:cNvSpPr txBox="1"/>
              <p:nvPr/>
            </p:nvSpPr>
            <p:spPr>
              <a:xfrm>
                <a:off x="3780000" y="1700280"/>
                <a:ext cx="26640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4788000" y="4149720"/>
                <a:ext cx="306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5"/>
              <p:cNvSpPr txBox="1"/>
              <p:nvPr/>
            </p:nvSpPr>
            <p:spPr>
              <a:xfrm>
                <a:off x="3809880" y="4149720"/>
                <a:ext cx="281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4356000" y="2852640"/>
                <a:ext cx="2635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7"/>
              <p:cNvSpPr txBox="1"/>
              <p:nvPr/>
            </p:nvSpPr>
            <p:spPr>
              <a:xfrm>
                <a:off x="4211640" y="4941720"/>
                <a:ext cx="334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8"/>
              <p:cNvSpPr txBox="1"/>
              <p:nvPr/>
            </p:nvSpPr>
            <p:spPr>
              <a:xfrm>
                <a:off x="3780000" y="907920"/>
                <a:ext cx="2682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9"/>
              <p:cNvSpPr txBox="1"/>
              <p:nvPr/>
            </p:nvSpPr>
            <p:spPr>
              <a:xfrm>
                <a:off x="3924360" y="2781360"/>
                <a:ext cx="293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4716360" y="1773360"/>
                <a:ext cx="3510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1"/>
              <p:cNvSpPr txBox="1"/>
              <p:nvPr/>
            </p:nvSpPr>
            <p:spPr>
              <a:xfrm>
                <a:off x="3780000" y="5157720"/>
                <a:ext cx="349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2"/>
              <p:cNvSpPr txBox="1"/>
              <p:nvPr/>
            </p:nvSpPr>
            <p:spPr>
              <a:xfrm>
                <a:off x="4199040" y="1773360"/>
                <a:ext cx="37296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3"/>
              <p:cNvSpPr txBox="1"/>
              <p:nvPr/>
            </p:nvSpPr>
            <p:spPr>
              <a:xfrm>
                <a:off x="4284720" y="981000"/>
                <a:ext cx="3952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4"/>
              <p:cNvSpPr txBox="1"/>
              <p:nvPr/>
            </p:nvSpPr>
            <p:spPr>
              <a:xfrm>
                <a:off x="4788000" y="2781360"/>
                <a:ext cx="4791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5"/>
              <p:cNvSpPr txBox="1"/>
              <p:nvPr/>
            </p:nvSpPr>
            <p:spPr>
              <a:xfrm>
                <a:off x="4716360" y="5157720"/>
                <a:ext cx="3938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6"/>
              <p:cNvSpPr txBox="1"/>
              <p:nvPr/>
            </p:nvSpPr>
            <p:spPr>
              <a:xfrm>
                <a:off x="4140360" y="4221000"/>
                <a:ext cx="498240" cy="7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WordArt 17"/>
          <p:cNvSpPr txBox="1"/>
          <p:nvPr/>
        </p:nvSpPr>
        <p:spPr>
          <a:xfrm>
            <a:off x="1547640" y="476280"/>
            <a:ext cx="540072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17 0.11319 C -0.19531 0.18032 -0.29028 0.24745 -0.33351 0.26504 C -0.37673 0.28264 -0.3684 0.25069 -0.35989 0.21875 E">
                                      <p:cBhvr>
                                        <p:cTn id="339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11 -0.04861 C 0.15973 -0.09537 0.25452 -0.14213 0.30539 -0.14305 C 0.35625 -0.14398 0.35695 -0.07754 0.37066 -0.05416 C 0.38438 -0.03078 0.38577 -0.01666 0.38733 -0.00231 E">
                                      <p:cBhvr>
                                        <p:cTn id="34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32 -0.03796 C 0.00937 -0.0037 -0.04757 0.03056 -0.08229 0.02685 C -0.11701 0.02315 -0.12951 -0.01852 -0.14201 -0.06018 E">
                                      <p:cBhvr>
                                        <p:cTn id="34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459 -0.0338 0.12917 -0.06736 0.16389 -0.06111 C 0.19862 -0.05486 0.20348 -0.00903 0.20834 0.03703 E">
                                      <p:cBhvr>
                                        <p:cTn id="351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33 0.0044 C 0.071 -0.0294 0.17951 -0.06296 0.23784 -0.05671 C 0.29618 -0.05046 0.30434 -0.00463 0.31267 0.04143 E">
                                      <p:cBhvr>
                                        <p:cTn id="35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459 -0.0338 0.12917 -0.06736 0.16389 -0.06111 C 0.19862 -0.05486 0.20348 -0.00903 0.20834 0.03703 E">
                                      <p:cBhvr>
                                        <p:cTn id="35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48 0.01783 C 0.11007 -0.01597 0.17465 -0.04953 0.20937 -0.04328 C 0.24409 -0.03703 0.24895 0.0088 0.25382 0.05486 E">
                                      <p:cBhvr>
                                        <p:cTn id="35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76 -0.16898 C -0.01927 -0.20393 -0.07829 -0.23866 -0.12413 -0.22639 C -0.16996 -0.21412 -0.20416 -0.10139 -0.23524 -0.09491 C -0.26632 -0.08842 -0.28836 -0.13796 -0.31024 -0.1875 E">
                                      <p:cBhvr>
                                        <p:cTn id="36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0044 C -0.03854 -0.03056 -0.09757 -0.06528 -0.1434 -0.05301 C -0.18923 -0.04074 -0.22344 0.07199 -0.25451 0.07847 C -0.28559 0.08495 -0.30764 0.03541 -0.32951 -0.01412 E">
                                      <p:cBhvr>
                                        <p:cTn id="363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47 0.03055 C -0.03056 -0.0044 -0.08958 -0.03912 -0.13542 -0.02685 C -0.18125 -0.01458 -0.21545 0.09815 -0.24653 0.10463 C -0.27761 0.11111 -0.29965 0.06157 -0.32153 0.01204 E">
                                      <p:cBhvr>
                                        <p:cTn id="36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2246 C -0.05833 -0.0125 -0.11736 -0.04722 -0.16319 -0.03495 C -0.20902 -0.02268 -0.24322 0.09005 -0.2743 0.09653 C -0.30538 0.10301 -0.32743 0.05347 -0.3493 0.00394 E">
                                      <p:cBhvr>
                                        <p:cTn id="36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6 C -0.04254 -0.03495 -0.08507 -0.06967 -0.11806 -0.0574 C -0.15122 -0.04514 -0.1757 0.0676 -0.19809 0.07408 C -0.22049 0.08056 -0.23646 0.03102 -0.25209 -0.01851 E">
                                      <p:cBhvr>
                                        <p:cTn id="36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5903 -0.03495 -0.11806 -0.06967 -0.16389 -0.0574 C -0.20972 -0.04513 -0.24392 0.0676 -0.275 0.07408 C -0.30608 0.08056 -0.32813 0.03102 -0.35 -0.01851 E">
                                      <p:cBhvr>
                                        <p:cTn id="37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89 -0.01574 L -0.04132 0.11621 L -0.01997 -0.01574 L 0.00278 0.11621 L 0.02535 -0.01574 L 0.04653 0.11621 L 0.0691 -0.01574 L 0.09062 0.11621 L 0.11319 -0.01574 L 0.13576 0.11621 L 0.15729 -0.01574 L 0.17986 0.11621 L 0.20104 -0.01574 L 0.22361 0.11621 L 0.24635 -0.01574 L 0.26771 0.11621 L 0.29045 -0.01574 E">
                                      <p:cBhvr>
                                        <p:cTn id="37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inding equivalent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971640" y="1557360"/>
                <a:ext cx="6890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Line 4"/>
          <p:cNvSpPr/>
          <p:nvPr/>
        </p:nvSpPr>
        <p:spPr>
          <a:xfrm>
            <a:off x="2411280" y="213372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5"/>
              <p:cNvSpPr txBox="1"/>
              <p:nvPr/>
            </p:nvSpPr>
            <p:spPr>
              <a:xfrm>
                <a:off x="6372360" y="1557360"/>
                <a:ext cx="7524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Text Box 6"/>
          <p:cNvSpPr/>
          <p:nvPr/>
        </p:nvSpPr>
        <p:spPr>
          <a:xfrm>
            <a:off x="2700360" y="170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Convert 5ths to 20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395280" y="2924280"/>
            <a:ext cx="8424720" cy="649080"/>
          </a:xfrm>
          <a:prstGeom prst="cloudCallout">
            <a:avLst>
              <a:gd name="adj1" fmla="val -40013"/>
              <a:gd name="adj2" fmla="val 1028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What do we  multiply 5 by to get a product of 2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j0282748"/>
          <p:cNvPicPr/>
          <p:nvPr/>
        </p:nvPicPr>
        <p:blipFill>
          <a:blip r:embed="rId1"/>
          <a:stretch/>
        </p:blipFill>
        <p:spPr>
          <a:xfrm>
            <a:off x="468360" y="3933720"/>
            <a:ext cx="1219320" cy="129564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9"/>
          <p:cNvSpPr/>
          <p:nvPr/>
        </p:nvSpPr>
        <p:spPr>
          <a:xfrm>
            <a:off x="468360" y="2852640"/>
            <a:ext cx="8137440" cy="1008000"/>
          </a:xfrm>
          <a:prstGeom prst="cloudCallout">
            <a:avLst>
              <a:gd name="adj1" fmla="val -38138"/>
              <a:gd name="adj2" fmla="val 81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at’s 4 so I must multiply        by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0"/>
              <p:cNvSpPr txBox="1"/>
              <p:nvPr/>
            </p:nvSpPr>
            <p:spPr>
              <a:xfrm>
                <a:off x="6156360" y="2781360"/>
                <a:ext cx="4683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5364000" y="2781360"/>
                <a:ext cx="306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2"/>
              <p:cNvSpPr txBox="1"/>
              <p:nvPr/>
            </p:nvSpPr>
            <p:spPr>
              <a:xfrm>
                <a:off x="3708360" y="4076640"/>
                <a:ext cx="273672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Text Box 13"/>
          <p:cNvSpPr/>
          <p:nvPr/>
        </p:nvSpPr>
        <p:spPr>
          <a:xfrm>
            <a:off x="3348000" y="6021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81e0c"/>
                </a:solidFill>
                <a:latin typeface="Comic Sans MS"/>
              </a:rPr>
              <a:t>Special form of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4427640" y="5516640"/>
            <a:ext cx="288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0:06:12Z</dcterms:created>
  <dc:creator>LHCA</dc:creator>
  <dc:description/>
  <dc:language>en-US</dc:language>
  <cp:lastModifiedBy>Education</cp:lastModifiedBy>
  <dcterms:modified xsi:type="dcterms:W3CDTF">2010-08-16T21:55:51Z</dcterms:modified>
  <cp:revision>1</cp:revision>
  <dc:subject/>
  <dc:title>Introduction to Fractions</dc:title>
</cp:coreProperties>
</file>