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824-2602-46CD-9D62-71539C00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2CA-8DFB-4748-9C65-68670FE9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4B9-510B-4DE4-917F-A674CB05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893-D486-4186-A033-D6E6E237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1A8-907C-4C41-9833-59DCD411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0FD-E6A5-4C68-92FE-0E03BE1A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260-1976-454F-860A-0AF9AE9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1E1-AFC7-47B7-8F0B-EC9BE7D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AD4-3007-4D5A-BE4D-699C6511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60D-7750-4FB4-9674-C3C94A2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9C6-8D83-4F60-81ED-CE95B19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9BC-65AE-421D-9936-84B794D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CB4-D5B1-4BA9-A575-3B001F0AF22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nch-maths.wikispaces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8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troduction to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12"/>
          <p:cNvSpPr/>
          <p:nvPr/>
        </p:nvSpPr>
        <p:spPr>
          <a:xfrm>
            <a:off x="971640" y="4869000"/>
            <a:ext cx="5832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281320" y="3213000"/>
            <a:ext cx="93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3366ff">
                    <a:alpha val="1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0">
                <a:noFill/>
              </a:ln>
              <a:solidFill>
                <a:srgbClr val="3366ff">
                  <a:alpha val="1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implifying Fractions: Canc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plifying means finding an equivalent fraction with the LOWEST denominator by  making a </a:t>
            </a:r>
            <a:r>
              <a:rPr b="0" lang="en-AU" sz="28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equal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71640" y="3429000"/>
                <a:ext cx="557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1628640" y="3416400"/>
                <a:ext cx="13669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076560" y="3436920"/>
                <a:ext cx="119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284720" y="3429000"/>
                <a:ext cx="730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971640" y="4869000"/>
                <a:ext cx="668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692360" y="4941720"/>
                <a:ext cx="1655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3564000" y="5013360"/>
                <a:ext cx="78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12"/>
          <p:cNvSpPr/>
          <p:nvPr/>
        </p:nvSpPr>
        <p:spPr>
          <a:xfrm>
            <a:off x="5580000" y="3213000"/>
            <a:ext cx="3240000" cy="1312920"/>
          </a:xfrm>
          <a:prstGeom prst="rect">
            <a:avLst/>
          </a:prstGeom>
          <a:solidFill>
            <a:srgbClr val="79d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Another way of doing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a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ixed Numbers 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ixed Numbers 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pecial form of on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pecial form of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nding 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Adding: Common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dding: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ommon denominator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Common denominato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½+1/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/3+1/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½ +2/5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/7+2/3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No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Adding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Multiply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Multiplying Mixed Number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Multiplying Mixed number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Multiplying Mixed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 Flowchart 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 Flowchart 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imal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&lt;-&gt;Decimal&lt;-&gt;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a Fr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0920" y="4149720"/>
            <a:ext cx="216036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4149720"/>
            <a:ext cx="1441440" cy="14414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971640" y="41497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987640" y="4221000"/>
                <a:ext cx="86508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AutoShape 7"/>
          <p:cNvSpPr/>
          <p:nvPr/>
        </p:nvSpPr>
        <p:spPr>
          <a:xfrm>
            <a:off x="4788000" y="2781360"/>
            <a:ext cx="3744720" cy="1439640"/>
          </a:xfrm>
          <a:prstGeom prst="cloudCallout">
            <a:avLst>
              <a:gd name="adj1" fmla="val -81032"/>
              <a:gd name="adj2" fmla="val 7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’m the NUMERATOR. I tell you the number of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859280" y="5229360"/>
            <a:ext cx="3745080" cy="1439640"/>
          </a:xfrm>
          <a:prstGeom prst="cloudCallout">
            <a:avLst>
              <a:gd name="adj1" fmla="val -81157"/>
              <a:gd name="adj2" fmla="val -27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’m the DENOMINATOR. I tell you the name of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6836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A fraction is formed by dividing a whole into a number of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9698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xed numbers to improper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50920" y="1341360"/>
                <a:ext cx="14954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4"/>
          <p:cNvSpPr/>
          <p:nvPr/>
        </p:nvSpPr>
        <p:spPr>
          <a:xfrm>
            <a:off x="241128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732720" y="1268280"/>
            <a:ext cx="143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732720" y="126828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673272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124000" y="36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vert whole numbers to th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41128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241128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4572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457200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4"/>
              <p:cNvSpPr txBox="1"/>
              <p:nvPr/>
            </p:nvSpPr>
            <p:spPr>
              <a:xfrm>
                <a:off x="2195640" y="4280040"/>
                <a:ext cx="432108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AutoShape 15"/>
          <p:cNvSpPr/>
          <p:nvPr/>
        </p:nvSpPr>
        <p:spPr>
          <a:xfrm>
            <a:off x="250920" y="4292640"/>
            <a:ext cx="2160360" cy="504720"/>
          </a:xfrm>
          <a:prstGeom prst="wedgeRoundRectCallout">
            <a:avLst>
              <a:gd name="adj1" fmla="val 42875"/>
              <a:gd name="adj2" fmla="val 105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6659640" y="4437000"/>
            <a:ext cx="2089080" cy="576360"/>
          </a:xfrm>
          <a:prstGeom prst="wedgeRoundRectCallout">
            <a:avLst>
              <a:gd name="adj1" fmla="val -56458"/>
              <a:gd name="adj2" fmla="val 4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nother Way to change Mixed Numbers to improper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395280" y="1557360"/>
                <a:ext cx="112716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Picture 4" descr="j0282748"/>
          <p:cNvPicPr/>
          <p:nvPr/>
        </p:nvPicPr>
        <p:blipFill>
          <a:blip r:embed="rId1"/>
          <a:stretch/>
        </p:blipFill>
        <p:spPr>
          <a:xfrm>
            <a:off x="468360" y="48690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1908000" y="1844640"/>
            <a:ext cx="5185080" cy="4032360"/>
          </a:xfrm>
          <a:prstGeom prst="cloudCallout">
            <a:avLst>
              <a:gd name="adj1" fmla="val -35425"/>
              <a:gd name="adj2" fmla="val 1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ince 5/5=1 there are 5 fifths in each 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So 3 wholes will have 3x5=15 fif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lus the 2 fifths already there makes a tot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15+2=17 fif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7164360" y="1557360"/>
                <a:ext cx="1628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AutoShape 7"/>
          <p:cNvSpPr/>
          <p:nvPr/>
        </p:nvSpPr>
        <p:spPr>
          <a:xfrm>
            <a:off x="2411280" y="1484280"/>
            <a:ext cx="4465800" cy="2376360"/>
          </a:xfrm>
          <a:prstGeom prst="cloudCallout">
            <a:avLst>
              <a:gd name="adj1" fmla="val -74777"/>
              <a:gd name="adj2" fmla="val 8580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I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5x3+2=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5867280" y="2060280"/>
            <a:ext cx="1873440" cy="576360"/>
          </a:xfrm>
          <a:prstGeom prst="line">
            <a:avLst/>
          </a:prstGeom>
          <a:ln w="57240">
            <a:solidFill>
              <a:srgbClr val="c81e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0920" y="1989000"/>
            <a:ext cx="288108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1989000"/>
            <a:ext cx="288108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851280" y="2903400"/>
                <a:ext cx="458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476600" y="2933640"/>
                <a:ext cx="73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5369040" y="296244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Line 8"/>
          <p:cNvSpPr/>
          <p:nvPr/>
        </p:nvSpPr>
        <p:spPr>
          <a:xfrm>
            <a:off x="1692360" y="1989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5092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084720" y="364500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5"/>
              <p:cNvSpPr txBox="1"/>
              <p:nvPr/>
            </p:nvSpPr>
            <p:spPr>
              <a:xfrm>
                <a:off x="6227640" y="2919240"/>
                <a:ext cx="9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AutoShape 16"/>
          <p:cNvSpPr/>
          <p:nvPr/>
        </p:nvSpPr>
        <p:spPr>
          <a:xfrm>
            <a:off x="3708360" y="1268280"/>
            <a:ext cx="3888000" cy="1440000"/>
          </a:xfrm>
          <a:prstGeom prst="wedgeRoundRectCallout">
            <a:avLst>
              <a:gd name="adj1" fmla="val -32199"/>
              <a:gd name="adj2" fmla="val 45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quivalent fraction is one that has the same value and position on the number line but has a different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564000" y="4292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Arial"/>
              </a:rPr>
              <a:t>Equivalent fractions can be found by multiplying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8"/>
              <p:cNvSpPr txBox="1"/>
              <p:nvPr/>
            </p:nvSpPr>
            <p:spPr>
              <a:xfrm>
                <a:off x="3687840" y="5338800"/>
                <a:ext cx="49370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AutoShape 1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63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32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16">
                                          <p:stCondLst>
                                            <p:cond delay="46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7">
                                          <p:stCondLst>
                                            <p:cond delay="5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9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58" fill="hold">
                                          <p:stCondLst>
                                            <p:cond delay="23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9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58" fill="hold">
                                          <p:stCondLst>
                                            <p:cond delay="4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9" fill="hold">
                                          <p:stCondLst>
                                            <p:cond delay="57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58" fill="hold">
                                          <p:stCondLst>
                                            <p:cond delay="58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9" fill="hold">
                                          <p:stCondLst>
                                            <p:cond delay="63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ultiplying By a Special Form of One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7931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ltiplying any number by 1 does not change the value 4x1=4,  9x1=9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y number divided by itself 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00000" y="900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81e0c"/>
                </a:solidFill>
                <a:latin typeface="Comic Sans MS"/>
              </a:rPr>
              <a:t>Why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611280" y="3645000"/>
                <a:ext cx="806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684360" y="4653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Multiplying a fraction by a special form of one changes the numerator and the denominator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81e0c"/>
                </a:solidFill>
                <a:latin typeface="Comic Sans MS"/>
              </a:rPr>
              <a:t>DOES </a:t>
            </a:r>
            <a:r>
              <a:rPr b="0" lang="en-AU" sz="2800" spc="-1" strike="noStrike" u="sng">
                <a:solidFill>
                  <a:srgbClr val="c81e0c"/>
                </a:solidFill>
                <a:uFillTx/>
                <a:latin typeface="Comic Sans MS"/>
              </a:rPr>
              <a:t>NOT</a:t>
            </a:r>
            <a:r>
              <a:rPr b="0" lang="en-AU" sz="2800" spc="-1" strike="noStrike">
                <a:solidFill>
                  <a:srgbClr val="c81e0c"/>
                </a:solidFill>
                <a:latin typeface="Comic Sans MS"/>
              </a:rPr>
              <a:t> CHANGE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4788000" y="907920"/>
                <a:ext cx="320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3780000" y="1700280"/>
                <a:ext cx="266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4788000" y="4149720"/>
                <a:ext cx="30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3809880" y="414972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4356000" y="2852640"/>
                <a:ext cx="263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4211640" y="494172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780000" y="907920"/>
                <a:ext cx="268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3924360" y="2781360"/>
                <a:ext cx="293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4716360" y="1773360"/>
                <a:ext cx="351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3780000" y="515772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4199040" y="1773360"/>
                <a:ext cx="3729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284720" y="981000"/>
                <a:ext cx="395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4788000" y="2781360"/>
                <a:ext cx="479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4716360" y="5157720"/>
                <a:ext cx="393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6"/>
              <p:cNvSpPr txBox="1"/>
              <p:nvPr/>
            </p:nvSpPr>
            <p:spPr>
              <a:xfrm>
                <a:off x="4140360" y="4221000"/>
                <a:ext cx="4982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WordArt 17"/>
          <p:cNvSpPr txBox="1"/>
          <p:nvPr/>
        </p:nvSpPr>
        <p:spPr>
          <a:xfrm>
            <a:off x="1547640" y="476280"/>
            <a:ext cx="54007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11319 C -0.19531 0.18032 -0.29028 0.24745 -0.33351 0.26504 C -0.37673 0.28264 -0.3684 0.25069 -0.35989 0.21875 E">
                                      <p:cBhvr>
                                        <p:cTn id="3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11 -0.04861 C 0.15973 -0.09537 0.25452 -0.14213 0.30539 -0.14305 C 0.35625 -0.14398 0.35695 -0.07754 0.37066 -0.05416 C 0.38438 -0.03078 0.38577 -0.01666 0.38733 -0.00231 E">
                                      <p:cBhvr>
                                        <p:cTn id="34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32 -0.03796 C 0.00937 -0.0037 -0.04757 0.03056 -0.08229 0.02685 C -0.11701 0.02315 -0.12951 -0.01852 -0.14201 -0.06018 E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044 C 0.071 -0.0294 0.17951 -0.06296 0.23784 -0.05671 C 0.29618 -0.05046 0.30434 -0.00463 0.31267 0.04143 E"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0.01783 C 0.11007 -0.01597 0.17465 -0.04953 0.20937 -0.04328 C 0.24409 -0.03703 0.24895 0.0088 0.25382 0.05486 E">
                                      <p:cBhvr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16898 C -0.01927 -0.20393 -0.07829 -0.23866 -0.12413 -0.22639 C -0.16996 -0.21412 -0.20416 -0.10139 -0.23524 -0.09491 C -0.26632 -0.08842 -0.28836 -0.13796 -0.31024 -0.1875 E">
                                      <p:cBhvr>
                                        <p:cTn id="36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044 C -0.03854 -0.03056 -0.09757 -0.06528 -0.1434 -0.05301 C -0.18923 -0.04074 -0.22344 0.07199 -0.25451 0.07847 C -0.28559 0.08495 -0.30764 0.03541 -0.32951 -0.01412 E">
                                      <p:cBhvr>
                                        <p:cTn id="36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0.03055 C -0.03056 -0.0044 -0.08958 -0.03912 -0.13542 -0.02685 C -0.18125 -0.01458 -0.21545 0.09815 -0.24653 0.10463 C -0.27761 0.11111 -0.29965 0.06157 -0.32153 0.01204 E">
                                      <p:cBhvr>
                                        <p:cTn id="36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246 C -0.05833 -0.0125 -0.11736 -0.04722 -0.16319 -0.03495 C -0.20902 -0.02268 -0.24322 0.09005 -0.2743 0.09653 C -0.30538 0.10301 -0.32743 0.05347 -0.3493 0.00394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C -0.04254 -0.03495 -0.08507 -0.06967 -0.11806 -0.0574 C -0.15122 -0.04514 -0.1757 0.0676 -0.19809 0.07408 C -0.22049 0.08056 -0.23646 0.03102 -0.25209 -0.01851 E">
                                      <p:cBhvr>
                                        <p:cTn id="36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903 -0.03495 -0.11806 -0.06967 -0.16389 -0.0574 C -0.20972 -0.04513 -0.24392 0.0676 -0.275 0.07408 C -0.30608 0.08056 -0.32813 0.03102 -0.35 -0.01851 E">
                                      <p:cBhvr>
                                        <p:cTn id="3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-0.01574 L -0.04132 0.11621 L -0.01997 -0.01574 L 0.00278 0.11621 L 0.02535 -0.01574 L 0.04653 0.11621 L 0.0691 -0.01574 L 0.09062 0.11621 L 0.11319 -0.01574 L 0.13576 0.11621 L 0.15729 -0.01574 L 0.17986 0.11621 L 0.20104 -0.01574 L 0.22361 0.11621 L 0.24635 -0.01574 L 0.26771 0.11621 L 0.29045 -0.01574 E">
                                      <p:cBhvr>
                                        <p:cTn id="3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inding 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971640" y="1557360"/>
                <a:ext cx="68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Line 4"/>
          <p:cNvSpPr/>
          <p:nvPr/>
        </p:nvSpPr>
        <p:spPr>
          <a:xfrm>
            <a:off x="2411280" y="213372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6372360" y="1557360"/>
                <a:ext cx="75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2700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onvert 5ths to 20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95280" y="2924280"/>
            <a:ext cx="8424720" cy="649080"/>
          </a:xfrm>
          <a:prstGeom prst="cloudCallout">
            <a:avLst>
              <a:gd name="adj1" fmla="val -40013"/>
              <a:gd name="adj2" fmla="val 102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do we  multiply 5 by to get a product of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j0282748"/>
          <p:cNvPicPr/>
          <p:nvPr/>
        </p:nvPicPr>
        <p:blipFill>
          <a:blip r:embed="rId1"/>
          <a:stretch/>
        </p:blipFill>
        <p:spPr>
          <a:xfrm>
            <a:off x="468360" y="393372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/>
          <p:cNvSpPr/>
          <p:nvPr/>
        </p:nvSpPr>
        <p:spPr>
          <a:xfrm>
            <a:off x="468360" y="2852640"/>
            <a:ext cx="8137440" cy="1008000"/>
          </a:xfrm>
          <a:prstGeom prst="cloudCallout">
            <a:avLst>
              <a:gd name="adj1" fmla="val -38138"/>
              <a:gd name="adj2" fmla="val 81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at’s 4 so I must multiply        by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6156360" y="2781360"/>
                <a:ext cx="468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5364000" y="2781360"/>
                <a:ext cx="30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08360" y="4076640"/>
                <a:ext cx="2736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13"/>
          <p:cNvSpPr/>
          <p:nvPr/>
        </p:nvSpPr>
        <p:spPr>
          <a:xfrm>
            <a:off x="3348000" y="602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4427640" y="5516640"/>
            <a:ext cx="288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6:12Z</dcterms:created>
  <dc:creator>LHCA</dc:creator>
  <dc:description/>
  <dc:language>en-US</dc:language>
  <cp:lastModifiedBy>Education</cp:lastModifiedBy>
  <dcterms:modified xsi:type="dcterms:W3CDTF">2010-08-16T21:55:51Z</dcterms:modified>
  <cp:revision>1</cp:revision>
  <dc:subject/>
  <dc:title>Introduction to Fractions</dc:title>
</cp:coreProperties>
</file>