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6.wmf" ContentType="image/x-wmf"/>
  <Override PartName="/ppt/media/image11.wmf" ContentType="image/x-wm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89B0-D736-4A77-A938-33ED286573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105-8E39-4FD8-8F1C-F93E87206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3D4-38D4-4116-89FD-DD93AEA0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05A-294A-45CE-8039-E43D0A3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BD4-FB26-4A8F-8E92-75A09FC1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637-7A42-4D0F-AAB6-AD0AD972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4E5-0C99-47A5-9FD4-F1AF891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C2F-7689-4726-9A32-B7BEE744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B6C-0024-4F09-81C6-F5B20E24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0A4-B120-486F-B7A8-8FD260AF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E66-E0D8-4F13-B300-7C1DB8B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BDB-2DCA-4CDF-A0DD-0D5048C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6A8-5C83-4B4E-92B0-9FB2C28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1C0-4330-4312-B164-C17C3D6B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BEB-E721-45EC-A22B-94E537041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d Spelling Group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ember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Program Files\Microsoft Office\Media\CntCD1\Animated\j0303436.gif"/>
          <p:cNvPicPr/>
          <p:nvPr/>
        </p:nvPicPr>
        <p:blipFill>
          <a:blip r:embed="rId1"/>
          <a:stretch/>
        </p:blipFill>
        <p:spPr>
          <a:xfrm>
            <a:off x="571680" y="4425840"/>
            <a:ext cx="1865160" cy="1882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71680" y="40006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ER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14200" y="3571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857240" y="23572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Go to the following web site, insert your words and choose some games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79440" y="324468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spellingcit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1429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143160" y="157176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m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c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0040" y="1785960"/>
            <a:ext cx="814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sentences with the list 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___________ won two gold medals at the Olym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 and New Zealand are situated in the southern 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riminal returned to the ____________  of the c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ree horses were killed in the 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loodwaters began to ________________ after four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risoner made a _____________ effort to re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’s nothing much, just a ________________ trin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ns have been able to ____________ at every modern Olympic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brary has a ____________ set of books by Robin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th was laid in _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14240" y="20001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 to the following web site and play hang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e-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2714760"/>
            <a:ext cx="892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lancsngfl.ac.uk/curriculum/literacyresources/files/alpha/alpha.htm?s=44244157da7db97e428926bb9be49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Program Files\Microsoft Office\Media\CntCD1\Animated\j0283538.gif"/>
          <p:cNvPicPr/>
          <p:nvPr/>
        </p:nvPicPr>
        <p:blipFill>
          <a:blip r:embed="rId1"/>
          <a:stretch/>
        </p:blipFill>
        <p:spPr>
          <a:xfrm>
            <a:off x="7215120" y="507204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928960" y="1428840"/>
            <a:ext cx="2714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ar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n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r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pa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Program Files\Microsoft Office\Media\CntCD1\ClipArt1\j0198448.wmf"/>
          <p:cNvPicPr/>
          <p:nvPr/>
        </p:nvPicPr>
        <p:blipFill>
          <a:blip r:embed="rId1"/>
          <a:stretch/>
        </p:blipFill>
        <p:spPr>
          <a:xfrm>
            <a:off x="6143760" y="4572000"/>
            <a:ext cx="2357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214200" y="14292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57160" y="2000160"/>
            <a:ext cx="75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-write your spelling words into your workbook in your favourite colour pencil and then add 10 more words with the same  letter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14292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r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71760" y="2428920"/>
            <a:ext cx="53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the following website and play some spelling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714680" y="3786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14200" y="1429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57184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ugh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6437160" y="3857760"/>
            <a:ext cx="18496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1500120" y="2071800"/>
            <a:ext cx="565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 to the following web site and complete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ctionary may b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42920" y="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–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71680" y="378612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teachingtreasures.com.au/teaching-tools/English6-8/spell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1420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y=e –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28800" y="20001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newspaper report on an incident and include 6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rd your script using your web cam and show it to the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Program Files\Microsoft Office\Media\CntCD1\Animated\j0254494.gif"/>
          <p:cNvPicPr/>
          <p:nvPr/>
        </p:nvPicPr>
        <p:blipFill>
          <a:blip r:embed="rId1"/>
          <a:stretch/>
        </p:blipFill>
        <p:spPr>
          <a:xfrm>
            <a:off x="3143160" y="4929120"/>
            <a:ext cx="22906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hephe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rna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xc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es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r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tlet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le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28760" y="428760"/>
            <a:ext cx="22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Program Files\Microsoft Office\Media\CntCD1\Animated\j0288929.gif"/>
          <p:cNvPicPr/>
          <p:nvPr/>
        </p:nvPicPr>
        <p:blipFill>
          <a:blip r:embed="rId1"/>
          <a:stretch/>
        </p:blipFill>
        <p:spPr>
          <a:xfrm>
            <a:off x="7072200" y="4071960"/>
            <a:ext cx="1551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142920"/>
            <a:ext cx="22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Program Files\Microsoft Office\Media\CntCD1\ClipArt2\j0230885.wmf"/>
          <p:cNvPicPr/>
          <p:nvPr/>
        </p:nvPicPr>
        <p:blipFill>
          <a:blip r:embed="rId1"/>
          <a:stretch/>
        </p:blipFill>
        <p:spPr>
          <a:xfrm>
            <a:off x="6211800" y="3857760"/>
            <a:ext cx="240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142920"/>
            <a:ext cx="22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Holid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28760" y="242892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, custom add your spelling words and then play 'Missing Letter Matc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6784920" y="4921200"/>
            <a:ext cx="18525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85840" y="50004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314440" y="1751040"/>
            <a:ext cx="39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c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eleb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ClipArt2\j0230634.wmf"/>
          <p:cNvPicPr/>
          <p:nvPr/>
        </p:nvPicPr>
        <p:blipFill>
          <a:blip r:embed="rId1"/>
          <a:stretch/>
        </p:blipFill>
        <p:spPr>
          <a:xfrm>
            <a:off x="6572160" y="4071960"/>
            <a:ext cx="2200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8584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428760" y="1785960"/>
            <a:ext cx="8501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ll in the gaps in the sentences with words from your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. The area north of Wandiballock has a fairly warm 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. The new student from Vietnam is trying hard to learn the English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. Rosa helped her mother to ____________ the white clothes from the coloured ones before wash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. Can you _____________ the mint i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. Over a dozen bands are marching in the 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. Industrial _____________ must be prevented from polluting our 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. Jewish people ____________________ a religious time known as Yom Kipper by fasting and going 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. Luke and Kelly love to _____________________ the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ould you please _________________ those books on the she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. Julie gave me a large block of _______________________ on my birth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285840" y="21420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143000" y="19288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ut your words into alphabet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Program Files\Microsoft Office\Media\CntCD1\ClipArt5\j0283435.wmf"/>
          <p:cNvPicPr/>
          <p:nvPr/>
        </p:nvPicPr>
        <p:blipFill>
          <a:blip r:embed="rId1"/>
          <a:stretch/>
        </p:blipFill>
        <p:spPr>
          <a:xfrm>
            <a:off x="6858000" y="4714920"/>
            <a:ext cx="1827360" cy="186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Program Files\Microsoft Office\Media\CntCD1\ClipArt5\j0283385.wmf"/>
          <p:cNvPicPr/>
          <p:nvPr/>
        </p:nvPicPr>
        <p:blipFill>
          <a:blip r:embed="rId2"/>
          <a:stretch/>
        </p:blipFill>
        <p:spPr>
          <a:xfrm>
            <a:off x="500040" y="2786040"/>
            <a:ext cx="18273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214280" y="1643040"/>
            <a:ext cx="707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y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is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r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ar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tra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Program Files\Microsoft Office\Media\CntCD1\Animated\j0254472.gif"/>
          <p:cNvPicPr/>
          <p:nvPr/>
        </p:nvPicPr>
        <p:blipFill>
          <a:blip r:embed="rId1"/>
          <a:stretch/>
        </p:blipFill>
        <p:spPr>
          <a:xfrm>
            <a:off x="1214280" y="2357280"/>
            <a:ext cx="943200" cy="12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Program Files\Microsoft Office\Media\CntCD1\Animated\j0283589.gif"/>
          <p:cNvPicPr/>
          <p:nvPr/>
        </p:nvPicPr>
        <p:blipFill>
          <a:blip r:embed="rId2"/>
          <a:stretch/>
        </p:blipFill>
        <p:spPr>
          <a:xfrm>
            <a:off x="6715080" y="714240"/>
            <a:ext cx="1622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14200" y="3571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285920" y="2162160"/>
            <a:ext cx="68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a short story ( In your English Book) containing all of your spelling words. Highlight you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04:09Z</dcterms:created>
  <dc:creator>Education</dc:creator>
  <dc:description/>
  <dc:language>en-US</dc:language>
  <cp:lastModifiedBy>02101783</cp:lastModifiedBy>
  <dcterms:modified xsi:type="dcterms:W3CDTF">2010-02-17T05:26:47Z</dcterms:modified>
  <cp:revision>16</cp:revision>
  <dc:subject/>
  <dc:title>Red Spelling Group: Members:</dc:title>
</cp:coreProperties>
</file>