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6DD-5A56-4937-B5AE-7C26DB62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CCC-E560-4049-A669-254F1091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EEE5-58AD-4673-B40F-C4BA7B31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005-E8F4-4248-B798-85D82563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0AF-F5D1-4967-8D6B-7D819061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E27-BF2D-4DF3-A57A-52FD7FB1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9CB-0290-4F58-8CAD-1E749888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490-D5B8-4C9B-9437-EC89F75F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B5CC-3005-4630-A1C6-9E33ADA9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F09-7EE3-4262-838C-1D0FB67D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583-94B6-4C0E-8A52-54E050A5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2C5-93BF-4FC1-8F63-24E7327A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C7FD-DF1D-4830-A744-834B8ECC82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Earwig Factory"/>
              </a:rPr>
              <a:t>Term 2 Writing task bo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Program Files\Microsoft Office\Media\CntCD1\ClipArt2\j0215894.wmf"/>
          <p:cNvPicPr/>
          <p:nvPr/>
        </p:nvPicPr>
        <p:blipFill>
          <a:blip r:embed="rId2"/>
          <a:stretch/>
        </p:blipFill>
        <p:spPr>
          <a:xfrm rot="1327200">
            <a:off x="5722920" y="3001680"/>
            <a:ext cx="2766960" cy="2477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 rot="20934600">
            <a:off x="658440" y="283932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bil Green"/>
              </a:rPr>
              <a:t>Each week after you have completed the set writing task, select one of the tasks from the task 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bil Green"/>
              </a:rPr>
              <a:t>When finished save you work to your folder in s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 rot="1204800">
            <a:off x="5428800" y="1571400"/>
            <a:ext cx="3429000" cy="5072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rench Script MT"/>
              </a:rPr>
              <a:t>Create your own fanatasy (narr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rench Script MT"/>
              </a:rPr>
              <a:t>Remember this is a nar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rench Script MT"/>
              </a:rPr>
              <a:t>It needs to have a plot with a complication and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000000"/>
                </a:solidFill>
                <a:latin typeface="French Script MT"/>
              </a:rPr>
              <a:t>Fantasy ti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 rot="20835600">
            <a:off x="45648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ai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ro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n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r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li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r choice, your imagination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Program Files\Microsoft Office\Media\CntCD1\Animated\j0283787.gif"/>
          <p:cNvPicPr/>
          <p:nvPr/>
        </p:nvPicPr>
        <p:blipFill>
          <a:blip r:embed="rId2"/>
          <a:stretch/>
        </p:blipFill>
        <p:spPr>
          <a:xfrm>
            <a:off x="8215200" y="6072120"/>
            <a:ext cx="5241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Po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Re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Agree or disag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Explai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ive me the det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antasy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Sybil Green"/>
              </a:rPr>
              <a:t>Poetry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A diamante is a seven line poem, shaped like a diamo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Here are 2 examples of diamante poems- look at the structur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The poems compare 2 opposite  ideas related to a topi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NIG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Starry, Theatric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Haunting, Sleeping, Read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PARTY, MOON, SUN, BIRD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Running, Surfing, Play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Bright, Beautifu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Calibri"/>
              </a:rPr>
              <a:t>SMOOT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Silky, sof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Sliding, Soothing, Strok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Calibri"/>
              </a:rPr>
              <a:t>GLASS, MILKSHAKE, SPLINTER, GRA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Calibri"/>
              </a:rPr>
              <a:t>Scratching, Pricking, Stumb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Lumpy, Rock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ROUG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Your writ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se are lots of fun to wr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elect one of the below or come up with your own pairs of antonyms related to this unit and create your own diamante po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Old/ ne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Rich/ po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Young / o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Work/ pl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71476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Program Files\Microsoft Office\Media\CntCD1\Animated\j0283787.gif"/>
          <p:cNvPicPr/>
          <p:nvPr/>
        </p:nvPicPr>
        <p:blipFill>
          <a:blip r:embed="rId2"/>
          <a:stretch/>
        </p:blipFill>
        <p:spPr>
          <a:xfrm>
            <a:off x="8072280" y="6000840"/>
            <a:ext cx="5241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Sybil Green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lect one of the phrases to include in your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candle burned brigh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s the snow fluttered to the 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nged furiously against the broken g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lipped lazily into the murk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ke a hairy spider crawling on sk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Program Files\Microsoft Office\Media\CntCD1\Animated\j0283787.gif"/>
          <p:cNvPicPr/>
          <p:nvPr/>
        </p:nvPicPr>
        <p:blipFill>
          <a:blip r:embed="rId2"/>
          <a:stretch/>
        </p:blipFill>
        <p:spPr>
          <a:xfrm>
            <a:off x="8072280" y="6000840"/>
            <a:ext cx="5241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0000"/>
                </a:solidFill>
                <a:latin typeface="Jokerman"/>
              </a:rPr>
              <a:t>Recou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urlz MT"/>
              </a:rPr>
              <a:t>Holidays!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urlz MT"/>
              </a:rPr>
              <a:t>School holi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urlz MT"/>
              </a:rPr>
              <a:t>Long week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urlz MT"/>
              </a:rPr>
              <a:t>Eas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urlz MT"/>
              </a:rPr>
              <a:t>Christ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hink about your favourite holiday ever and recount the events of this holi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Remember the when, where, who, what and even w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Program Files\Microsoft Office\Media\CntCD1\Animated\j0283787.gif"/>
          <p:cNvPicPr/>
          <p:nvPr/>
        </p:nvPicPr>
        <p:blipFill>
          <a:blip r:embed="rId1"/>
          <a:stretch/>
        </p:blipFill>
        <p:spPr>
          <a:xfrm>
            <a:off x="8072280" y="6000840"/>
            <a:ext cx="5241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71480" y="274680"/>
            <a:ext cx="35002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856800"/>
            <a:ext cx="4209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Headline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Wren Rescues Ringtai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By-line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 ‑ author &amp; loc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Ollie Jones </a:t>
            </a: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in Brisban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Lead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 - summary of the most important information – who and wh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welve year old student, Jilly Wren climbed 30 feet to rescue a Ring-tailed Possum today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Next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 most important information - more details about </a:t>
            </a:r>
            <a:r>
              <a:rPr b="1" i="1" lang="en-AU" sz="900" spc="-1" strike="noStrike">
                <a:solidFill>
                  <a:srgbClr val="000000"/>
                </a:solidFill>
                <a:latin typeface="Calibri"/>
              </a:rPr>
              <a:t>when, where</a:t>
            </a:r>
            <a:r>
              <a:rPr b="0" i="1" lang="en-AU" sz="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AU" sz="9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AU" sz="9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introduces people </a:t>
            </a:r>
            <a:r>
              <a:rPr b="1" i="1" lang="en-AU" sz="9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 are less important to the sto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ree loppers had been removing trees at West Bank School to create a new concrete play area. During morning tea, students spied the possum peering out from a lopped hollow branch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Jilly just shimmied way up the tree with her school bag and came down with a little possum thumping around inside it,” said school mate, Jack Komninos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ext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 most important information - more detail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resolution – the possums are safe and well – plan for their future welfare suggest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Principal, Ms Anne Watson, alerted </a:t>
            </a:r>
            <a:r>
              <a:rPr b="0" i="1" lang="en-AU" sz="900" spc="-1" strike="noStrike">
                <a:solidFill>
                  <a:srgbClr val="000000"/>
                </a:solidFill>
                <a:latin typeface="Calibri"/>
              </a:rPr>
              <a:t>National Parks and Wild Life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. With the help of the tree loppers, the wild life officers rescued six more ring-tailed possums from hollows in trees lopped for felling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All the possums are reported to be ‘in good condition’ and are being cared for at the Brisbane Forest Park. A suggested plan to relocate the possums in the school environs will involve refashioning of the hollowed tree trunks as part of an environmental sculpture project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Less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 important information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Mr Harry Bean, who was on play ground duty when Jilly Wren climbed the tree, fainted and is receiving medical attention for concussion and stress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Jilly Wren used a coconut tree climbing technique know as the ‘frog’ to rescue the possum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Resolution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 of sorts – Jilly is on detention, but a heroin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he young heroine was unavailable for interview. According to Jack Komninos, Jilly was on detention for being in a ‘strictly out of bounds’ area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 rot="425400">
            <a:off x="464796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urlz MT"/>
              </a:rPr>
              <a:t>Use the example to help you write a newspaper report about an imaginary event that could have happened to one of the be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urlz MT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urlz MT"/>
              </a:rPr>
              <a:t>Your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urlz MT"/>
              </a:rPr>
              <a:t>An early sett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urlz MT"/>
              </a:rPr>
              <a:t>An aborigine watching the arrival of the first fl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Program Files\Microsoft Office\Media\CntCD1\Animated\j0283787.gif"/>
          <p:cNvPicPr/>
          <p:nvPr/>
        </p:nvPicPr>
        <p:blipFill>
          <a:blip r:embed="rId1"/>
          <a:stretch/>
        </p:blipFill>
        <p:spPr>
          <a:xfrm>
            <a:off x="8072280" y="6000840"/>
            <a:ext cx="5241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Planet Benson 2"/>
              </a:rPr>
              <a:t>Agree or disagree- persuasiv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Earwig Factory"/>
              </a:rPr>
              <a:t>It is not fair that we have set times to use the turf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member the text needs to clearly define your point of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ave at least 4 supporting arg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ave a conclusion that brings your argument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Program Files\Microsoft Office\Media\CntCD1\Animated\j0283787.gif"/>
          <p:cNvPicPr/>
          <p:nvPr/>
        </p:nvPicPr>
        <p:blipFill>
          <a:blip r:embed="rId2"/>
          <a:stretch/>
        </p:blipFill>
        <p:spPr>
          <a:xfrm>
            <a:off x="8072280" y="6000840"/>
            <a:ext cx="5241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urlz MT"/>
              </a:rPr>
              <a:t>Expla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Program Files\Microsoft Office\Media\CntCD1\Animated\j0283787.gif"/>
          <p:cNvPicPr/>
          <p:nvPr/>
        </p:nvPicPr>
        <p:blipFill>
          <a:blip r:embed="rId2"/>
          <a:stretch/>
        </p:blipFill>
        <p:spPr>
          <a:xfrm>
            <a:off x="8072280" y="6000840"/>
            <a:ext cx="524160" cy="409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500040" y="1643040"/>
            <a:ext cx="73580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You are living in the early 18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here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no electricit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no g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no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no trains, trams or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Explain how you would send a message to a friend who has settled in new South Wales while you are settled in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Earwig Factory"/>
              </a:rPr>
              <a:t>Give me the details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Earwig Factory"/>
              </a:rPr>
              <a:t>Procedural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ing no more than 10 match sticks and a small piece of cloth, make a gold miners t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ow write a detailed procedure outlining exactly how you made this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Program Files\Microsoft Office\Media\CntCD1\Animated\j0283787.gif"/>
          <p:cNvPicPr/>
          <p:nvPr/>
        </p:nvPicPr>
        <p:blipFill>
          <a:blip r:embed="rId2"/>
          <a:stretch/>
        </p:blipFill>
        <p:spPr>
          <a:xfrm>
            <a:off x="8215200" y="6072120"/>
            <a:ext cx="5241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1:17:29Z</dcterms:created>
  <dc:creator>Education</dc:creator>
  <dc:description/>
  <dc:language>en-US</dc:language>
  <cp:lastModifiedBy>Education</cp:lastModifiedBy>
  <dcterms:modified xsi:type="dcterms:W3CDTF">2010-04-07T09:49:47Z</dcterms:modified>
  <cp:revision>10</cp:revision>
  <dc:subject/>
  <dc:title>Term 2 Writing task board</dc:title>
</cp:coreProperties>
</file>