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D60-D82F-437B-9D86-22B6303B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97C-CF3C-422A-8D3A-08422860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5C3-AFD1-42A8-866D-3FAE487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554-5BA8-4406-B1A8-0EB81964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F80-2A1C-45A8-9575-1DA96076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C05-E2F6-4AE7-933D-AAFA35B8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6C1-10B2-40EF-BA5A-ABB0ADC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89E-FCCC-45D2-8C82-49095AC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1F4-6DBB-4CE4-BDE5-15FA47E6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228-8DB3-4EAF-A2DD-5C2CCF90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20F-150B-40C9-A141-411BA13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AD2-9E92-4297-BEB3-8D9BCF3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457-785D-41FC-8DB8-08710E40C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idsspell.com/" TargetMode="External"/><Relationship Id="rId2" Type="http://schemas.openxmlformats.org/officeDocument/2006/relationships/hyperlink" Target="http://www.kidsspell.com/" TargetMode="External"/><Relationship Id="rId3" Type="http://schemas.openxmlformats.org/officeDocument/2006/relationships/hyperlink" Target="http://www.gamequarium.com/spelling.html" TargetMode="External"/><Relationship Id="rId4" Type="http://schemas.openxmlformats.org/officeDocument/2006/relationships/hyperlink" Target="http://www.funbrain.com/spellroo/index.html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2 Spelling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acers Spelling Gro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Program Files\Microsoft Office\Media\CntCD1\Animated\j0303436.gif"/>
          <p:cNvPicPr/>
          <p:nvPr/>
        </p:nvPicPr>
        <p:blipFill>
          <a:blip r:embed="rId1"/>
          <a:stretch/>
        </p:blipFill>
        <p:spPr>
          <a:xfrm>
            <a:off x="571680" y="4425840"/>
            <a:ext cx="186516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571760" y="3714840"/>
          <a:ext cx="6095880" cy="741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Week 9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00080" y="1785960"/>
            <a:ext cx="7358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4 of your words and use the online dictionary to find and type up the mea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a picture to represent each of the 4 chosen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50080" y="1714680"/>
            <a:ext cx="8065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ose 5 of your longest spelling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side each word list as many smaller words you can make from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lling wor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373560" y="1285920"/>
            <a:ext cx="173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ult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ige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nt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over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ont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vi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i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Program Files\Microsoft Office\Media\CntCD1\ClipArt1\j0200529.wmf"/>
          <p:cNvPicPr/>
          <p:nvPr/>
        </p:nvPicPr>
        <p:blipFill>
          <a:blip r:embed="rId1"/>
          <a:stretch/>
        </p:blipFill>
        <p:spPr>
          <a:xfrm>
            <a:off x="6072120" y="4500720"/>
            <a:ext cx="2111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62320" y="1643040"/>
            <a:ext cx="639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hort story containing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at least 5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your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00120" y="26431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ny spelling game from the following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306160" y="328608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857160" y="2071800"/>
            <a:ext cx="790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e dictionary definition of all of your spelling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286000" y="1428840"/>
            <a:ext cx="378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ureka Stock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tr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ied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l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itary con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ncip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Program Files\Microsoft Office\Media\CntCD1\ClipArt1\j0078776.wmf"/>
          <p:cNvPicPr/>
          <p:nvPr/>
        </p:nvPicPr>
        <p:blipFill>
          <a:blip r:embed="rId1"/>
          <a:stretch/>
        </p:blipFill>
        <p:spPr>
          <a:xfrm>
            <a:off x="4857840" y="3714840"/>
            <a:ext cx="31240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500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or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rt your words into 3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entence explaining why you grouped them this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14280" y="3286080"/>
          <a:ext cx="6096240" cy="731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4720" y="71424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yl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your list words and break them into syll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28840" y="2214720"/>
          <a:ext cx="6095880" cy="4079880"/>
        </p:xfrm>
        <a:graphic>
          <a:graphicData uri="http://schemas.openxmlformats.org/drawingml/2006/table">
            <a:tbl>
              <a:tblPr/>
              <a:tblGrid>
                <a:gridCol w="1573200"/>
                <a:gridCol w="2260440"/>
                <a:gridCol w="2262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ll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yll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Patrio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 tri o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151080" y="1071720"/>
            <a:ext cx="188136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er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oncei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oe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f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ighbou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Program Files\Microsoft Office\Media\CntCD1\Animated\j0283517.gif"/>
          <p:cNvPicPr/>
          <p:nvPr/>
        </p:nvPicPr>
        <p:blipFill>
          <a:blip r:embed="rId1"/>
          <a:stretch/>
        </p:blipFill>
        <p:spPr>
          <a:xfrm>
            <a:off x="6357960" y="4286160"/>
            <a:ext cx="2471760" cy="200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Program Files\Microsoft Office\Media\CntCD1\Animated\j0283516.gif"/>
          <p:cNvPicPr/>
          <p:nvPr/>
        </p:nvPicPr>
        <p:blipFill>
          <a:blip r:embed="rId2"/>
          <a:stretch/>
        </p:blipFill>
        <p:spPr>
          <a:xfrm>
            <a:off x="2502000" y="4786200"/>
            <a:ext cx="22032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285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47160" y="1714680"/>
            <a:ext cx="89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the dictionary definition of 5 of your words that you are unsure of or have diffi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aining the meaning 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lling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amesgames.com/games/spelling/spelling,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kidsspell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gamequarium.com/spelli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unbrain.com/spellroo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wjcc.k12.va.us/djm/teachers/Westk/page1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bbc.co.uk/hardspell/hardspell_game.shtml- H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78596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ssing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umble up 5 of your spelling words. Swap with a partner from your spelling group and un-jumble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.g. esiez =  se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786040" y="1643040"/>
            <a:ext cx="3071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gn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erteb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tat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Program Files\Microsoft Office\Media\CntCD1\ClipArt4\j0246137.wmf"/>
          <p:cNvPicPr/>
          <p:nvPr/>
        </p:nvPicPr>
        <p:blipFill>
          <a:blip r:embed="rId1"/>
          <a:stretch/>
        </p:blipFill>
        <p:spPr>
          <a:xfrm>
            <a:off x="5975280" y="4429080"/>
            <a:ext cx="2840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302720" y="121428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rhlschool.com/eng4n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286000" y="42876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e singular word form of each of your spelling words and then complete the activity on the website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928960" y="5716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cover say write check your spelling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397160"/>
          <a:ext cx="6096240" cy="4079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st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n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r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4"/>
          <p:cNvSpPr/>
          <p:nvPr/>
        </p:nvSpPr>
        <p:spPr>
          <a:xfrm>
            <a:off x="2386440" y="5715000"/>
            <a:ext cx="49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if you finish early complete the follow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eslpartyland.com/quiz/irpl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" y="35712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071880" y="928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ick 10 spelling words and type them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000240" y="7858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t your words into alphabetical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500280" y="57168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tory containing your spelling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9 and 10 unit related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143080" y="1857240"/>
            <a:ext cx="5143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rig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ni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6475320" y="985680"/>
            <a:ext cx="147492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85840" y="1214280"/>
            <a:ext cx="8354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 4 of the spelling words to write a sentence of your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ghlight the correct definition that matches each lis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5406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pupil chosen by a teacher to help in one way or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kind of instrument for checking the quality of some manufactured g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listen and check foreign radio broad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of the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Ch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hard substance of various colours found on the bottom of the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 enclosure for ho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ng by a group or ch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number of musical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c. Inter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outside of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time between two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side of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bring goods into a coun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d. Rad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one who carries out a surprise at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radioactive metallic element which gives out rays used in treating certain dis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art of the car that holds the water to cool the eng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long thin sword used in fen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82040" y="1857240"/>
            <a:ext cx="82702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ch 3 list words can be made from these letters. Use all of the le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 a r t c c o s m o r h i o i s s s r o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ny spelling game from the following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806120" y="57150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 -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796920" y="1571760"/>
            <a:ext cx="144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ewe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s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Program Files\Microsoft Office\Media\CntCD1\ClipArt1\j0186190.wmf"/>
          <p:cNvPicPr/>
          <p:nvPr/>
        </p:nvPicPr>
        <p:blipFill>
          <a:blip r:embed="rId1"/>
          <a:stretch/>
        </p:blipFill>
        <p:spPr>
          <a:xfrm>
            <a:off x="674640" y="2160720"/>
            <a:ext cx="15876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’ words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14200" y="1357200"/>
            <a:ext cx="842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-write your words in alphabet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rite a quiz question for four of your list words. Give to a friend to sol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’ words 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57120" y="1500120"/>
            <a:ext cx="8356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ree sentences, using as many list word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725640" y="1785960"/>
            <a:ext cx="161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y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g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ge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Program Files\Microsoft Office\Media\CntCD1\Animated\j0205375.gif"/>
          <p:cNvPicPr/>
          <p:nvPr/>
        </p:nvPicPr>
        <p:blipFill>
          <a:blip r:embed="rId1"/>
          <a:stretch/>
        </p:blipFill>
        <p:spPr>
          <a:xfrm>
            <a:off x="6429240" y="4929120"/>
            <a:ext cx="16351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04:09Z</dcterms:created>
  <dc:creator>Education</dc:creator>
  <dc:description/>
  <dc:language>en-US</dc:language>
  <cp:lastModifiedBy>02101783</cp:lastModifiedBy>
  <dcterms:modified xsi:type="dcterms:W3CDTF">2010-04-11T21:58:10Z</dcterms:modified>
  <cp:revision>62</cp:revision>
  <dc:subject/>
  <dc:title>Red Spelling Group: Members:</dc:title>
</cp:coreProperties>
</file>