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79F-679E-41B6-A6AC-3B37D604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F41-F04A-4191-B7AD-1D9CE8AE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F27-5E09-4418-B5FF-708D78A0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212-5E9A-4429-8F74-E68CDAAE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2D1-5C59-4A8C-BFBE-B9FC9B02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6AF-F447-492C-A55B-CFA478C1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A64-C197-4540-919C-ABC9EAC4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C53-7F74-43CE-B771-09A7D586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850-3811-4807-A021-40141D4A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729-5174-43C6-8847-2B0EB98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0AE-548E-4DE2-9BC1-28E1EFE3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22A-1CC6-4F01-8E97-0E9AA0CF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2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2E42-6BAC-4C2B-9A36-5AE776858C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18.xml"/><Relationship Id="rId8" Type="http://schemas.openxmlformats.org/officeDocument/2006/relationships/slide" Target="slide21.xml"/><Relationship Id="rId9" Type="http://schemas.openxmlformats.org/officeDocument/2006/relationships/slide" Target="slide24.xml"/><Relationship Id="rId10" Type="http://schemas.openxmlformats.org/officeDocument/2006/relationships/slide" Target="slide27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idsspell.com/" TargetMode="External"/><Relationship Id="rId2" Type="http://schemas.openxmlformats.org/officeDocument/2006/relationships/hyperlink" Target="http://www.kidsspell.com/" TargetMode="External"/><Relationship Id="rId3" Type="http://schemas.openxmlformats.org/officeDocument/2006/relationships/hyperlink" Target="http://www.gamequarium.com/spelling.html" TargetMode="External"/><Relationship Id="rId4" Type="http://schemas.openxmlformats.org/officeDocument/2006/relationships/hyperlink" Target="http://www.funbrain.com/spellroo/index.html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2 Spelling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acers Spelling Grou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Program Files\Microsoft Office\Media\CntCD1\Animated\j0303436.gif"/>
          <p:cNvPicPr/>
          <p:nvPr/>
        </p:nvPicPr>
        <p:blipFill>
          <a:blip r:embed="rId1"/>
          <a:stretch/>
        </p:blipFill>
        <p:spPr>
          <a:xfrm>
            <a:off x="571680" y="4425840"/>
            <a:ext cx="1865160" cy="18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571760" y="3714840"/>
          <a:ext cx="6095880" cy="741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Week 9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14200" y="35712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 and dge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000080" y="1785960"/>
            <a:ext cx="7358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4 of your words and use the online dictionary to find and type up the mea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nd a picture to represent each of the 4 chosen wo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14200" y="35712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 and dge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50080" y="1714680"/>
            <a:ext cx="80658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oose 5 of your longest spelling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side each word list as many smaller words you can make from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lling wor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3373560" y="1285920"/>
            <a:ext cx="173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ult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dige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nt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over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ont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ivi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vi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iol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Program Files\Microsoft Office\Media\CntCD1\ClipArt1\j0200529.wmf"/>
          <p:cNvPicPr/>
          <p:nvPr/>
        </p:nvPicPr>
        <p:blipFill>
          <a:blip r:embed="rId1"/>
          <a:stretch/>
        </p:blipFill>
        <p:spPr>
          <a:xfrm>
            <a:off x="6072120" y="4500720"/>
            <a:ext cx="2111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462320" y="1643040"/>
            <a:ext cx="639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a short story containing </a:t>
            </a: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at least 5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 your spell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00120" y="26431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any spelling game from the following webs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306160" y="328608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gamequarium.com/spell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857160" y="2071800"/>
            <a:ext cx="790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the dictionary definition of all of your spelling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2286000" y="1428840"/>
            <a:ext cx="3786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ureka Stock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tr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ied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cla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itary con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b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ancip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Program Files\Microsoft Office\Media\CntCD1\ClipArt1\j0078776.wmf"/>
          <p:cNvPicPr/>
          <p:nvPr/>
        </p:nvPicPr>
        <p:blipFill>
          <a:blip r:embed="rId1"/>
          <a:stretch/>
        </p:blipFill>
        <p:spPr>
          <a:xfrm>
            <a:off x="4857840" y="3714840"/>
            <a:ext cx="31240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500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or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rt your words into 3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a sentence explaining why you grouped them this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214280" y="3286080"/>
          <a:ext cx="6096240" cy="731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unit wor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4720" y="71424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yl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your list words and break them into syll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28840" y="2214720"/>
          <a:ext cx="6095880" cy="4079880"/>
        </p:xfrm>
        <a:graphic>
          <a:graphicData uri="http://schemas.openxmlformats.org/drawingml/2006/table">
            <a:tbl>
              <a:tblPr/>
              <a:tblGrid>
                <a:gridCol w="1573200"/>
                <a:gridCol w="2260440"/>
                <a:gridCol w="2262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ll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yll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 Patrio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 tri o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ei’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3151080" y="1071720"/>
            <a:ext cx="188136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er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onceiv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oe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f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ighbou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Program Files\Microsoft Office\Media\CntCD1\Animated\j0283517.gif"/>
          <p:cNvPicPr/>
          <p:nvPr/>
        </p:nvPicPr>
        <p:blipFill>
          <a:blip r:embed="rId1"/>
          <a:stretch/>
        </p:blipFill>
        <p:spPr>
          <a:xfrm>
            <a:off x="6357960" y="4286160"/>
            <a:ext cx="2471760" cy="2008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Program Files\Microsoft Office\Media\CntCD1\Animated\j0283516.gif"/>
          <p:cNvPicPr/>
          <p:nvPr/>
        </p:nvPicPr>
        <p:blipFill>
          <a:blip r:embed="rId2"/>
          <a:stretch/>
        </p:blipFill>
        <p:spPr>
          <a:xfrm>
            <a:off x="2502000" y="4786200"/>
            <a:ext cx="22032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14200" y="285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ei’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47160" y="1714680"/>
            <a:ext cx="89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nd the dictionary definition of 5 of your words that you are unsure of or have difficu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laining the meaning 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pelling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amesgames.com/games/spelling/spelling,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kidsspell.co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gamequarium.com/spelling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unbrain.com/spellroo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wjcc.k12.va.us/djm/teachers/Westk/page1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bbc.co.uk/hardspell/hardspell_game.shtml- H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ww.eastoftheweb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ei’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78596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ssing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umble up 5 of your spelling words. Swap with a partner from your spelling group and un-jumble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.g. esiez =  se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Irregular pl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786040" y="1643040"/>
            <a:ext cx="3071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im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agn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ertebr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c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otat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Program Files\Microsoft Office\Media\CntCD1\ClipArt4\j0246137.wmf"/>
          <p:cNvPicPr/>
          <p:nvPr/>
        </p:nvPicPr>
        <p:blipFill>
          <a:blip r:embed="rId1"/>
          <a:stretch/>
        </p:blipFill>
        <p:spPr>
          <a:xfrm>
            <a:off x="5975280" y="4429080"/>
            <a:ext cx="28400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302720" y="121428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rhlschool.com/eng4n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Irregular pl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2286000" y="42876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the singular word form of each of your spelling words and then complete the activity on the website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Irregular pl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928960" y="57168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 cover say write check your spelling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1397160"/>
          <a:ext cx="6096240" cy="4079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st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nd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rd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4"/>
          <p:cNvSpPr/>
          <p:nvPr/>
        </p:nvSpPr>
        <p:spPr>
          <a:xfrm>
            <a:off x="2386440" y="5715000"/>
            <a:ext cx="496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if you finish early complete the follow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eslpartyland.com/quiz/irpl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14200" y="35712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(strategic spelling pg 23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071880" y="928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ick 10 spelling words and type them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000240" y="78588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t your words into alphabetical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500280" y="57168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a story containing your spelling wo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14200" y="35712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9 and 10 unit related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or’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2143080" y="1857240"/>
            <a:ext cx="5143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rch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frig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di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ni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Program Files\Microsoft Office\MEDIA\CAGCAT10\j0285360.wmf"/>
          <p:cNvPicPr/>
          <p:nvPr/>
        </p:nvPicPr>
        <p:blipFill>
          <a:blip r:embed="rId1"/>
          <a:stretch/>
        </p:blipFill>
        <p:spPr>
          <a:xfrm>
            <a:off x="6475320" y="985680"/>
            <a:ext cx="147492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or’ words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85840" y="1214280"/>
            <a:ext cx="8354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e 4 of the spelling words to write a sentence of your 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ghlight the correct definition that matches each lis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5406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254061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pupil chosen by a teacher to help in one way or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kind of instrument for checking the quality of some manufactured g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listen and check foreign radio broad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of the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AU" sz="1600" spc="-1" strike="noStrike">
                <a:solidFill>
                  <a:srgbClr val="254061"/>
                </a:solidFill>
                <a:latin typeface="Arial"/>
              </a:rPr>
              <a:t>Ch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hard substance of various colours found on the bottom of the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 enclosure for ho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ng by a group or cho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number of musical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254061"/>
                </a:solidFill>
                <a:latin typeface="Arial"/>
              </a:rPr>
              <a:t>c. Interi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outside of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time between two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side of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bring goods into a coun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254061"/>
                </a:solidFill>
                <a:latin typeface="Arial"/>
              </a:rPr>
              <a:t>d. Rad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one who carries out a surprise at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radioactive metallic element which gives out rays used in treating certain dis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art of the car that holds the water to cool the eng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long thin sword used in fen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or’ words 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82040" y="1857240"/>
            <a:ext cx="82702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ch 3 list words can be made from these letters. Use all of the let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L a r t c c o s m o r h i o i s s s r o 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any spelling game from the following webs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806120" y="571500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gamequarium.com/spell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14200" y="357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j -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796920" y="1571760"/>
            <a:ext cx="144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n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ewe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eal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st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Program Files\Microsoft Office\Media\CntCD1\ClipArt1\j0186190.wmf"/>
          <p:cNvPicPr/>
          <p:nvPr/>
        </p:nvPicPr>
        <p:blipFill>
          <a:blip r:embed="rId1"/>
          <a:stretch/>
        </p:blipFill>
        <p:spPr>
          <a:xfrm>
            <a:off x="674640" y="2160720"/>
            <a:ext cx="15876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j’ words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14200" y="1357200"/>
            <a:ext cx="8429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-write your words in alphabetica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rite a quiz question for four of your list words. Give to a friend to sol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j’ words 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57120" y="1500120"/>
            <a:ext cx="8356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three sentences, using as many list words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14200" y="357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1800"/>
            </a:b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Week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‘</a:t>
            </a:r>
            <a:r>
              <a:rPr b="1" lang="en-AU" sz="1800" spc="-1" strike="noStrike">
                <a:solidFill>
                  <a:srgbClr val="002060"/>
                </a:solidFill>
                <a:latin typeface="Andalus"/>
                <a:ea typeface="Andalus"/>
              </a:rPr>
              <a:t>g and dge word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725640" y="1785960"/>
            <a:ext cx="1619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a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y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g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ge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Program Files\Microsoft Office\Media\CntCD1\Animated\j0205375.gif"/>
          <p:cNvPicPr/>
          <p:nvPr/>
        </p:nvPicPr>
        <p:blipFill>
          <a:blip r:embed="rId1"/>
          <a:stretch/>
        </p:blipFill>
        <p:spPr>
          <a:xfrm>
            <a:off x="6429240" y="4929120"/>
            <a:ext cx="16351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7:04:09Z</dcterms:created>
  <dc:creator>Education</dc:creator>
  <dc:description/>
  <dc:language>en-US</dc:language>
  <cp:lastModifiedBy>02101783</cp:lastModifiedBy>
  <dcterms:modified xsi:type="dcterms:W3CDTF">2010-04-11T21:58:10Z</dcterms:modified>
  <cp:revision>62</cp:revision>
  <dc:subject/>
  <dc:title>Red Spelling Group: Members:</dc:title>
</cp:coreProperties>
</file>