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9.wmf" ContentType="image/x-wmf"/>
  <Override PartName="/ppt/media/image16.wmf" ContentType="image/x-wmf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0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B86D-FDB1-43C8-9C92-104117BF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E81B-ED94-4443-9AE8-BF1EF24A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9316-8EBC-4BDB-83E6-4A08776F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53B3-C7FB-4B83-A026-8485057E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475D-674D-4439-AF8B-4678AEFA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BE94-973F-40F5-A23D-35A606BE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00B6-652F-4525-8D78-912B6B4A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AE0B-7F64-496A-9494-99AF3A33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A1E5-D48F-47C5-8029-9D993932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C153-DD74-49AD-BFDD-F6076911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DC0D-5E36-427C-84EF-7E730933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6A7C-C477-4E7E-8606-7071ED98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E1A1-F6BA-4675-B721-9A240335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44AF-67D0-4E74-9A78-1ACE53C3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65ED-ACEC-4A89-B96E-2018C794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3015-CAAD-485D-805C-4C8C5BE2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398C-FCC5-4D6E-B6A7-732B12FA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B3017-5318-4E1B-B9B6-2B142B72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31FBB-AB59-4548-BCF7-24BD00BD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6A434-FE96-437C-B5C5-F688E2C4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40A84-BE41-4E92-BD89-05BD0EE2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13A58-69C5-47EA-8A3D-8DC015ED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F7D4-B31D-4160-926F-683F6030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5A5A7-0464-49BB-88D9-4DF96011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2C913-DF5A-45A7-BF21-E2936538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FA901-2778-4055-9BC2-267C4606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4F8D9-4E4B-4DE6-9034-0E62042E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FEB66-12E8-4C4F-A7C1-9CCFB957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85F22-DEE2-445E-AF89-66C845A0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F9FA1-EE37-4D65-A4E9-A9EF3000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47FD5-4456-4B94-94F0-4E404AC8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A1FAF-A8E5-4346-AB3D-FB0E8EAA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A7BC6-6A6B-4028-B829-7BF9CCE3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6341-158A-4B6D-9675-D4CBA913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DC241-8389-465C-A0E4-300F8070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E0161-4065-4057-8A29-56611277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0441D-BF4B-4761-A339-0413FB6C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2A05C-BC19-4DED-85E9-D4236A69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91418-CB69-4188-A5BA-81632FDA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4E7B2-D99F-4C58-B997-E996F843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3E84A-17FA-4DB3-AAB8-837D33D4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ADC8C-BEEB-4804-943A-42520EFC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41718-8FD9-4A59-88F2-0127FEAB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A48C0-BB19-4040-B399-E1C70C80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07D3-1FED-4155-BBA9-05D2B7D0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D2943-1954-4167-A4B8-DA514F04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38E90-B4F8-4628-82B6-29B015F3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EA9FA-26C4-41B2-AB09-C109F04B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2C1A1-0A6A-4173-8247-A9790ACA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4C094-3FDD-499F-9113-F4D75ECD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51B55-5405-4049-B249-3956F3A6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D484E-CDD0-4800-BE0A-1B3CAAEB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F883B-9905-45FF-B8D0-36C4BD15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6BEE5-9555-4F20-879D-E86B1C58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283C4-4BC1-4EE4-A87E-C1046AD0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E6D4-D4B5-4DA7-AA41-459BE67A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96DBF-EFE8-4E75-8F06-FEE1F491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A403B-EEF9-4EBC-B265-9138B92F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E27A8-A0BA-4A6F-8553-2E79F400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D7678-0459-4D39-8960-0BFF57A2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4A0BF-44E6-413A-A58E-727884D7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FBCA7-58A9-42D3-8A25-2FC1AD1D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15FB4-D129-40A5-8ABE-79715733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B5523-4311-4B8A-8FA9-DCC987F8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61835-9546-4266-AC49-1D40CEF0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1C150-3F14-417B-9E81-5F15AD48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ED3C-359B-4259-9CA2-2D4CA8FF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60D49-EB8B-4CAE-81C3-EE295CCF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CEE87-1D6E-45EF-AF7C-B24EBA7D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35835-ACCD-41EA-B355-90A6E244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823C-7EF2-45D1-8896-437F1FDB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6D97-4833-4E3A-AFCF-68C772FA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37760" y="0"/>
              <a:ext cx="870624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5760"/>
              <a:ext cx="1825200" cy="685224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5760"/>
              <a:ext cx="182520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280" y="424800"/>
              <a:ext cx="83628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5A55-58BA-4CC4-92B3-E3099568B5D1}" type="slidenum">
              <a:rPr b="0" lang="en-A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sp>
          <p:nvSpPr>
            <p:cNvPr id="47" name="Rectangle 12"/>
            <p:cNvSpPr/>
            <p:nvPr/>
          </p:nvSpPr>
          <p:spPr>
            <a:xfrm>
              <a:off x="1828800" y="4572000"/>
              <a:ext cx="6858000" cy="182880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10"/>
            <p:cNvGrpSpPr/>
            <p:nvPr/>
          </p:nvGrpSpPr>
          <p:grpSpPr>
            <a:xfrm>
              <a:off x="0" y="0"/>
              <a:ext cx="9144000" cy="6400800"/>
              <a:chOff x="0" y="0"/>
              <a:chExt cx="9144000" cy="6400800"/>
            </a:xfrm>
          </p:grpSpPr>
          <p:sp>
            <p:nvSpPr>
              <p:cNvPr id="49" name="Rectangle 15"/>
              <p:cNvSpPr/>
              <p:nvPr/>
            </p:nvSpPr>
            <p:spPr>
              <a:xfrm>
                <a:off x="18000" y="0"/>
                <a:ext cx="1821240" cy="4938120"/>
              </a:xfrm>
              <a:prstGeom prst="rect">
                <a:avLst/>
              </a:prstGeom>
              <a:solidFill>
                <a:srgbClr val="d4e3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Rectangl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522600"/>
                <a:ext cx="9144000" cy="2878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Rectangle 14"/>
            <p:cNvSpPr/>
            <p:nvPr/>
          </p:nvSpPr>
          <p:spPr>
            <a:xfrm>
              <a:off x="0" y="4572000"/>
              <a:ext cx="18288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934320" y="655272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89180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870080" y="655272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E92D-611E-4E45-928C-2AAE9CCCE4C2}" type="slidenum">
              <a:rPr b="0" lang="en-AU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Rectangle 12"/>
            <p:cNvSpPr/>
            <p:nvPr/>
          </p:nvSpPr>
          <p:spPr>
            <a:xfrm>
              <a:off x="0" y="0"/>
              <a:ext cx="1825200" cy="685800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0" y="2514600"/>
              <a:ext cx="18252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Rectangle 14" descr=""/>
            <p:cNvPicPr/>
            <p:nvPr/>
          </p:nvPicPr>
          <p:blipFill>
            <a:blip r:embed="rId2"/>
            <a:stretch/>
          </p:blipFill>
          <p:spPr>
            <a:xfrm>
              <a:off x="1806840" y="2511360"/>
              <a:ext cx="7337160" cy="37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C993-EE57-4F18-8039-7A4D3E92DD61}" type="slidenum">
              <a:rPr b="0" lang="en-AU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139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13"/>
            <p:cNvSpPr/>
            <p:nvPr/>
          </p:nvSpPr>
          <p:spPr>
            <a:xfrm>
              <a:off x="18000" y="2880"/>
              <a:ext cx="1821240" cy="82044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"/>
            <p:cNvSpPr/>
            <p:nvPr/>
          </p:nvSpPr>
          <p:spPr>
            <a:xfrm>
              <a:off x="511560" y="208080"/>
              <a:ext cx="83484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C4DB-D9E6-49D9-BC04-357E10ED9F01}" type="slidenum">
              <a:rPr b="0" lang="en-A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184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Oval 13"/>
            <p:cNvSpPr/>
            <p:nvPr/>
          </p:nvSpPr>
          <p:spPr>
            <a:xfrm>
              <a:off x="503280" y="208080"/>
              <a:ext cx="82188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DD40-302D-4AEC-8417-30126A537823}" type="slidenum">
              <a:rPr b="0" lang="en-A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8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13"/>
            <p:cNvSpPr/>
            <p:nvPr/>
          </p:nvSpPr>
          <p:spPr>
            <a:xfrm>
              <a:off x="7314120" y="5760"/>
              <a:ext cx="1823760" cy="685224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4"/>
            <p:cNvSpPr/>
            <p:nvPr/>
          </p:nvSpPr>
          <p:spPr>
            <a:xfrm>
              <a:off x="7314120" y="5760"/>
              <a:ext cx="182376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7808040" y="424800"/>
              <a:ext cx="83592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34A0-5FAE-47EC-A171-9DC342D6585E}" type="slidenum">
              <a:rPr b="0" lang="en-A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Subtitle 2" descr=""/>
          <p:cNvPicPr/>
          <p:nvPr/>
        </p:nvPicPr>
        <p:blipFill>
          <a:blip r:embed="rId1"/>
          <a:stretch/>
        </p:blipFill>
        <p:spPr>
          <a:xfrm>
            <a:off x="1901880" y="5803920"/>
            <a:ext cx="6675480" cy="51768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42720" y="128556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rebuchet MS"/>
              </a:rPr>
              <a:t>TERM 2 SPELLING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Trebuchet MS"/>
              </a:rPr>
              <a:t>THE TIGERS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Trebuchet MS"/>
              </a:rPr>
              <a:t> SPELLING GROUP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571840" y="3500280"/>
          <a:ext cx="6095880" cy="74160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eda8"/>
                      </a:solidFill>
                    </a:lnL>
                    <a:lnR w="5760">
                      <a:solidFill>
                        <a:srgbClr val="c0eda8"/>
                      </a:solidFill>
                    </a:lnR>
                    <a:lnT w="5760">
                      <a:solidFill>
                        <a:srgbClr val="c0eda8"/>
                      </a:solidFill>
                    </a:lnT>
                    <a:lnB w="5760">
                      <a:solidFill>
                        <a:srgbClr val="c0eda8"/>
                      </a:solidFill>
                    </a:lnB>
                    <a:solidFill>
                      <a:srgbClr val="f4f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eda8"/>
                      </a:solidFill>
                    </a:lnL>
                    <a:lnR w="5760">
                      <a:solidFill>
                        <a:srgbClr val="c0eda8"/>
                      </a:solidFill>
                    </a:lnR>
                    <a:lnT w="5760">
                      <a:solidFill>
                        <a:srgbClr val="c0eda8"/>
                      </a:solidFill>
                    </a:lnT>
                    <a:lnB w="5760">
                      <a:solidFill>
                        <a:srgbClr val="c0eda8"/>
                      </a:solidFill>
                    </a:lnB>
                    <a:solidFill>
                      <a:srgbClr val="f4f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eda8"/>
                      </a:solidFill>
                    </a:lnL>
                    <a:lnR w="5760">
                      <a:solidFill>
                        <a:srgbClr val="c0eda8"/>
                      </a:solidFill>
                    </a:lnR>
                    <a:lnT w="5760">
                      <a:solidFill>
                        <a:srgbClr val="c0eda8"/>
                      </a:solidFill>
                    </a:lnT>
                    <a:lnB w="5760">
                      <a:solidFill>
                        <a:srgbClr val="c0eda8"/>
                      </a:solidFill>
                    </a:lnB>
                    <a:solidFill>
                      <a:srgbClr val="f4f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eda8"/>
                      </a:solidFill>
                    </a:lnL>
                    <a:lnR w="5760">
                      <a:solidFill>
                        <a:srgbClr val="c0eda8"/>
                      </a:solidFill>
                    </a:lnR>
                    <a:lnT w="5760">
                      <a:solidFill>
                        <a:srgbClr val="c0eda8"/>
                      </a:solidFill>
                    </a:lnT>
                    <a:lnB w="5760">
                      <a:solidFill>
                        <a:srgbClr val="c0eda8"/>
                      </a:solidFill>
                    </a:lnB>
                    <a:solidFill>
                      <a:srgbClr val="f4f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eda8"/>
                      </a:solidFill>
                    </a:lnL>
                    <a:lnR w="5760">
                      <a:solidFill>
                        <a:srgbClr val="c0eda8"/>
                      </a:solidFill>
                    </a:lnR>
                    <a:lnT w="5760">
                      <a:solidFill>
                        <a:srgbClr val="c0eda8"/>
                      </a:solidFill>
                    </a:lnT>
                    <a:lnB w="5760">
                      <a:solidFill>
                        <a:srgbClr val="c0eda8"/>
                      </a:solidFill>
                    </a:lnB>
                    <a:solidFill>
                      <a:srgbClr val="f4fc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eda8"/>
                      </a:solidFill>
                    </a:lnL>
                    <a:lnR w="5760">
                      <a:solidFill>
                        <a:srgbClr val="c0eda8"/>
                      </a:solidFill>
                    </a:lnR>
                    <a:lnT w="5760">
                      <a:solidFill>
                        <a:srgbClr val="c0eda8"/>
                      </a:solidFill>
                    </a:lnT>
                    <a:lnB w="5760">
                      <a:solidFill>
                        <a:srgbClr val="c0eda8"/>
                      </a:solidFill>
                    </a:lnB>
                    <a:solidFill>
                      <a:srgbClr val="e8f8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eda8"/>
                      </a:solidFill>
                    </a:lnL>
                    <a:lnR w="5760">
                      <a:solidFill>
                        <a:srgbClr val="c0eda8"/>
                      </a:solidFill>
                    </a:lnR>
                    <a:lnT w="5760">
                      <a:solidFill>
                        <a:srgbClr val="c0eda8"/>
                      </a:solidFill>
                    </a:lnT>
                    <a:lnB w="5760">
                      <a:solidFill>
                        <a:srgbClr val="c0eda8"/>
                      </a:solidFill>
                    </a:lnB>
                    <a:solidFill>
                      <a:srgbClr val="e8f8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eda8"/>
                      </a:solidFill>
                    </a:lnL>
                    <a:lnR w="5760">
                      <a:solidFill>
                        <a:srgbClr val="c0eda8"/>
                      </a:solidFill>
                    </a:lnR>
                    <a:lnT w="5760">
                      <a:solidFill>
                        <a:srgbClr val="c0eda8"/>
                      </a:solidFill>
                    </a:lnT>
                    <a:lnB w="5760">
                      <a:solidFill>
                        <a:srgbClr val="c0eda8"/>
                      </a:solidFill>
                    </a:lnB>
                    <a:solidFill>
                      <a:srgbClr val="e8f8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eda8"/>
                      </a:solidFill>
                    </a:lnL>
                    <a:lnR w="5760">
                      <a:solidFill>
                        <a:srgbClr val="c0eda8"/>
                      </a:solidFill>
                    </a:lnR>
                    <a:lnT w="5760">
                      <a:solidFill>
                        <a:srgbClr val="c0eda8"/>
                      </a:solidFill>
                    </a:lnT>
                    <a:lnB w="5760">
                      <a:solidFill>
                        <a:srgbClr val="c0eda8"/>
                      </a:solidFill>
                    </a:lnB>
                    <a:solidFill>
                      <a:srgbClr val="e8f8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eda8"/>
                      </a:solidFill>
                    </a:lnL>
                    <a:lnR w="5760">
                      <a:solidFill>
                        <a:srgbClr val="c0eda8"/>
                      </a:solidFill>
                    </a:lnR>
                    <a:lnT w="5760">
                      <a:solidFill>
                        <a:srgbClr val="c0eda8"/>
                      </a:solidFill>
                    </a:lnT>
                    <a:lnB w="5760">
                      <a:solidFill>
                        <a:srgbClr val="c0eda8"/>
                      </a:solidFill>
                    </a:lnB>
                    <a:solidFill>
                      <a:srgbClr val="e8f8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3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‘G AND DGE’ WORDS – ACTIVITY 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357120" y="1785960"/>
            <a:ext cx="8501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Write three sentences, using as many list words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2"/>
          <p:cNvSpPr/>
          <p:nvPr/>
        </p:nvSpPr>
        <p:spPr>
          <a:xfrm>
            <a:off x="2214720" y="1928880"/>
            <a:ext cx="42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Put your words into alphabetical or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3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‘G AND DGE’ WORDS – ACTIVITY 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4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UNIT WORD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2643120" y="2071800"/>
            <a:ext cx="3929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Pi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nv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irst Fl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Passen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jour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C:\Program Files\Microsoft Office\Media\CntCD1\Animated\j0205363.gif"/>
          <p:cNvPicPr/>
          <p:nvPr/>
        </p:nvPicPr>
        <p:blipFill>
          <a:blip r:embed="rId1"/>
          <a:stretch/>
        </p:blipFill>
        <p:spPr>
          <a:xfrm>
            <a:off x="5857920" y="478620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99840" y="214200"/>
            <a:ext cx="62485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4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UNIT WORDS – ACTIVITY 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TextBox 2"/>
          <p:cNvSpPr/>
          <p:nvPr/>
        </p:nvSpPr>
        <p:spPr>
          <a:xfrm>
            <a:off x="1167840" y="1857240"/>
            <a:ext cx="69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Write a short story containing </a:t>
            </a:r>
            <a:r>
              <a:rPr b="0" lang="en-AU" sz="1800" spc="-1" strike="noStrike" u="sng">
                <a:solidFill>
                  <a:srgbClr val="000000"/>
                </a:solidFill>
                <a:uFillTx/>
                <a:latin typeface="Constantia"/>
              </a:rPr>
              <a:t>at least 5 </a:t>
            </a: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of your spelling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4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UNIT WORDS – ACTIVITY 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1714680" y="1928880"/>
            <a:ext cx="63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Missing 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Jumble up 5 of your spelling words. Swap with a partner from your spelling group and un-jumble the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E.g. hBirtsi= Briti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5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UNIT WORD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2928960" y="2143080"/>
            <a:ext cx="3214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En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b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m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u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ett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C:\Program Files\Microsoft Office\Media\CntCD1\Animated\j0283243.gif"/>
          <p:cNvPicPr/>
          <p:nvPr/>
        </p:nvPicPr>
        <p:blipFill>
          <a:blip r:embed="rId1"/>
          <a:stretch/>
        </p:blipFill>
        <p:spPr>
          <a:xfrm>
            <a:off x="6524640" y="4587840"/>
            <a:ext cx="1503360" cy="1198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C:\Program Files\Microsoft Office\Media\CntCD1\ClipArt1\j0078779.wmf"/>
          <p:cNvPicPr/>
          <p:nvPr/>
        </p:nvPicPr>
        <p:blipFill>
          <a:blip r:embed="rId2"/>
          <a:stretch/>
        </p:blipFill>
        <p:spPr>
          <a:xfrm>
            <a:off x="357120" y="2000160"/>
            <a:ext cx="2908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7920" y="20520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4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UNIT WORDS – ACTIVITY 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Content Placeholder 2"/>
          <p:cNvSpPr/>
          <p:nvPr/>
        </p:nvSpPr>
        <p:spPr>
          <a:xfrm>
            <a:off x="357120" y="1785960"/>
            <a:ext cx="8258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rite a sentence for each of your spelling words and underline the word in your favourite colo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437920" y="20520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4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UNIT WORDS – ACTIVITY 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TextBox 3"/>
          <p:cNvSpPr/>
          <p:nvPr/>
        </p:nvSpPr>
        <p:spPr>
          <a:xfrm>
            <a:off x="2143080" y="2071800"/>
            <a:ext cx="507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lay some of the following spelling games on East of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ww.eastoftheweb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6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‘IE’ WOR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TextBox 3"/>
          <p:cNvSpPr/>
          <p:nvPr/>
        </p:nvSpPr>
        <p:spPr>
          <a:xfrm>
            <a:off x="2857680" y="2214720"/>
            <a:ext cx="3500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Dr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l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r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D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r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ie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h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bel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6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‘IE’ WORDS- ACTIVITY 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785880" y="221472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ake a word find containing your words and swap with a friend to comple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rebuchet MS"/>
              </a:rPr>
              <a:t>SPELLING GAMES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856880" y="2285640"/>
            <a:ext cx="68295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ttp://www.gamesgames.com/games/spelling/spelling,1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ttp://www.kidsspell.com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ttp://www.gamequarium.com/spelling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ttp://www.funbrain.com/spellroo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ttp://www.wjcc.k12.va.us/djm/teachers/Westk/page13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ttp://www.bbc.co.uk/hardspell/hardspell_game.shtml- H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ww.eastoftheweb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6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‘IE’ WORDS- ACTIVITY 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TextBox 3"/>
          <p:cNvSpPr/>
          <p:nvPr/>
        </p:nvSpPr>
        <p:spPr>
          <a:xfrm>
            <a:off x="1357200" y="2286000"/>
            <a:ext cx="721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rite a sentence for each of your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7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‘PLURAL’ WOR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TextBox 3"/>
          <p:cNvSpPr/>
          <p:nvPr/>
        </p:nvSpPr>
        <p:spPr>
          <a:xfrm>
            <a:off x="3071880" y="2286000"/>
            <a:ext cx="2857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dai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ob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en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lo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er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du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pup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ai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C:\Program Files\Microsoft Office\Media\CntCD1\ClipArt5\j0281089.wmf"/>
          <p:cNvPicPr/>
          <p:nvPr/>
        </p:nvPicPr>
        <p:blipFill>
          <a:blip r:embed="rId1"/>
          <a:stretch/>
        </p:blipFill>
        <p:spPr>
          <a:xfrm>
            <a:off x="6815160" y="3940200"/>
            <a:ext cx="1876320" cy="2165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C:\Program Files\Microsoft Office\Media\CntCD1\ClipArt2\j0215232.wmf"/>
          <p:cNvPicPr/>
          <p:nvPr/>
        </p:nvPicPr>
        <p:blipFill>
          <a:blip r:embed="rId2"/>
          <a:stretch/>
        </p:blipFill>
        <p:spPr>
          <a:xfrm>
            <a:off x="1228680" y="2554200"/>
            <a:ext cx="134316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7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PLURAL WORDS- ACTIVITY 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643040" y="1928880"/>
          <a:ext cx="6095880" cy="40798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elling 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cb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ural form (more than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cb1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7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PLURAL WORDS- ACTIVITY 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TextBox 3"/>
          <p:cNvSpPr/>
          <p:nvPr/>
        </p:nvSpPr>
        <p:spPr>
          <a:xfrm>
            <a:off x="500040" y="20001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hoose 4 of your spelling words and write 2 sentences for each, one using the word in singular form and one in plural for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37920" y="137880"/>
            <a:ext cx="624852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2000"/>
            </a:br>
            <a:r>
              <a:rPr b="1" lang="en-AU" sz="2000" spc="-1" strike="noStrike">
                <a:solidFill>
                  <a:srgbClr val="002060"/>
                </a:solidFill>
                <a:latin typeface="Andalus"/>
                <a:ea typeface="Andalus"/>
              </a:rPr>
              <a:t>WEEK  8</a:t>
            </a:r>
            <a:br>
              <a:rPr sz="2000"/>
            </a:br>
            <a:r>
              <a:rPr b="1" lang="en-AU" sz="2000" spc="-1" strike="noStrike">
                <a:solidFill>
                  <a:srgbClr val="002060"/>
                </a:solidFill>
                <a:latin typeface="Andalus"/>
                <a:ea typeface="Andalus"/>
              </a:rPr>
              <a:t>GOLD RUSH WORDS</a:t>
            </a:r>
            <a:br>
              <a:rPr sz="2000"/>
            </a:br>
            <a:r>
              <a:rPr b="1" lang="en-AU" sz="2000" spc="-1" strike="noStrike">
                <a:solidFill>
                  <a:srgbClr val="002060"/>
                </a:solidFill>
                <a:latin typeface="Andalus"/>
                <a:ea typeface="Andalus"/>
              </a:rPr>
              <a:t>(STRATEGIC SPELLING PG 23-26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TextBox 3"/>
          <p:cNvSpPr/>
          <p:nvPr/>
        </p:nvSpPr>
        <p:spPr>
          <a:xfrm>
            <a:off x="928800" y="2000160"/>
            <a:ext cx="71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ick 10 spelling words and type them below in alphabetical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2"/>
          <p:cNvSpPr/>
          <p:nvPr/>
        </p:nvSpPr>
        <p:spPr>
          <a:xfrm>
            <a:off x="1357200" y="1857240"/>
            <a:ext cx="54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rite a story containing your spelling wor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37920" y="144000"/>
            <a:ext cx="624852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2000"/>
            </a:br>
            <a:r>
              <a:rPr b="1" lang="en-AU" sz="2000" spc="-1" strike="noStrike">
                <a:solidFill>
                  <a:srgbClr val="002060"/>
                </a:solidFill>
                <a:latin typeface="Andalus"/>
                <a:ea typeface="Andalus"/>
              </a:rPr>
              <a:t>WEEK  8</a:t>
            </a:r>
            <a:br>
              <a:rPr sz="2000"/>
            </a:br>
            <a:r>
              <a:rPr b="1" lang="en-AU" sz="2000" spc="-1" strike="noStrike">
                <a:solidFill>
                  <a:srgbClr val="002060"/>
                </a:solidFill>
                <a:latin typeface="Andalus"/>
                <a:ea typeface="Andalus"/>
              </a:rPr>
              <a:t>GOLD RUSH WORDS</a:t>
            </a:r>
            <a:br>
              <a:rPr sz="2000"/>
            </a:br>
            <a:r>
              <a:rPr b="1" lang="en-AU" sz="2000" spc="-1" strike="noStrike">
                <a:solidFill>
                  <a:srgbClr val="002060"/>
                </a:solidFill>
                <a:latin typeface="Andalus"/>
                <a:ea typeface="Andalus"/>
              </a:rPr>
              <a:t>(STRATEGIC SPELLING PG 23-26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9 AND 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UNIT WORD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2357280" y="285840"/>
            <a:ext cx="50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‘</a:t>
            </a: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or’ wo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1857240" y="2714760"/>
            <a:ext cx="4286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vis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o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do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mo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po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C:\Program Files\Microsoft Office\MEDIA\CAGCAT10\j0240719.wmf"/>
          <p:cNvPicPr/>
          <p:nvPr/>
        </p:nvPicPr>
        <p:blipFill>
          <a:blip r:embed="rId1"/>
          <a:stretch/>
        </p:blipFill>
        <p:spPr>
          <a:xfrm>
            <a:off x="7072200" y="2286000"/>
            <a:ext cx="11638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1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‘OR’ WORDS – ACTIVITY 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642960" y="2000160"/>
            <a:ext cx="8143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mplete these sentences by using your spelling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he light from the ___________ cast strange shadows on the w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hen my little brother was sick the _______ gave him some medic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Last week we had a _________ at our school who came from Jap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he captain yelled out an ____________ to the crew of the 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he bus stopped at the _____________ of high street and Valley ro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or healthy teeth it is ______________ that you brush them after every m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During the heatwave my brother and I slept on the front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he model aeroplane wads powered by a small 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Dad was very angry when he read my school 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he ___________ of the wind blew the nest out of the t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1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‘OR’ WORDS – ACTIVITY 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428760" y="192888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ut ‘or’ in the correct place in each group of letters to make a word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357200" y="3286080"/>
          <a:ext cx="6096240" cy="2560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cb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cb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cb1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2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‘J’ WORD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TextBox 3"/>
          <p:cNvSpPr/>
          <p:nvPr/>
        </p:nvSpPr>
        <p:spPr>
          <a:xfrm>
            <a:off x="2643120" y="2143080"/>
            <a:ext cx="3786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J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Jo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J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J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Ju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J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Jag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Jum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Program Files\Microsoft Office\Media\CntCD1\ClipArt3\j0232952.wmf"/>
          <p:cNvPicPr/>
          <p:nvPr/>
        </p:nvPicPr>
        <p:blipFill>
          <a:blip r:embed="rId1"/>
          <a:stretch/>
        </p:blipFill>
        <p:spPr>
          <a:xfrm>
            <a:off x="1357200" y="2357280"/>
            <a:ext cx="200052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2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‘J’ WORDS – ACTIVITY 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428760" y="2000160"/>
            <a:ext cx="7929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Write a quiz question for four of your spelling words. Give to a friend to sol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37920" y="20520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2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‘J’ WORDS – ACTIVITY 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2286000" y="1643040"/>
            <a:ext cx="55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ook cover say write check your spelling wo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714680" y="2357280"/>
          <a:ext cx="6095880" cy="407988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cb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en-AU" sz="18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st</a:t>
                      </a: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cb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en-AU" sz="18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nd</a:t>
                      </a: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cb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r>
                        <a:rPr b="1" lang="en-AU" sz="18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rd</a:t>
                      </a: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cb1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3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‘G AND DGE’ WORD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TextBox 4"/>
          <p:cNvSpPr/>
          <p:nvPr/>
        </p:nvSpPr>
        <p:spPr>
          <a:xfrm>
            <a:off x="2857680" y="2071800"/>
            <a:ext cx="3286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en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b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i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ma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e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u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C:\Program Files\Microsoft Office\Media\CntCD1\Animated\j0283285.gif"/>
          <p:cNvPicPr/>
          <p:nvPr/>
        </p:nvPicPr>
        <p:blipFill>
          <a:blip r:embed="rId1"/>
          <a:stretch/>
        </p:blipFill>
        <p:spPr>
          <a:xfrm>
            <a:off x="1757520" y="3592440"/>
            <a:ext cx="1098360" cy="1098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C:\Program Files\Microsoft Office\Media\CntCD1\ClipArt5\j0280720.wmf"/>
          <p:cNvPicPr/>
          <p:nvPr/>
        </p:nvPicPr>
        <p:blipFill>
          <a:blip r:embed="rId2"/>
          <a:stretch/>
        </p:blipFill>
        <p:spPr>
          <a:xfrm>
            <a:off x="7072200" y="4286160"/>
            <a:ext cx="13701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03:24:58Z</dcterms:created>
  <dc:creator>Education</dc:creator>
  <dc:description/>
  <dc:language>en-US</dc:language>
  <cp:lastModifiedBy>02101783</cp:lastModifiedBy>
  <dcterms:modified xsi:type="dcterms:W3CDTF">2010-04-11T09:39:34Z</dcterms:modified>
  <cp:revision>10</cp:revision>
  <dc:subject/>
  <dc:title>Term 2 Green Spelling Group</dc:title>
</cp:coreProperties>
</file>