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wmf" ContentType="image/x-wmf"/>
  <Override PartName="/ppt/media/image16.wmf" ContentType="image/x-wmf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0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C5A-67E6-4067-A643-55F576DF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ED0-DD12-4C33-A97D-7D95192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014-2681-4EC8-B724-25669041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DE8-AFC8-43CD-AB18-41184ABB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789E-64F1-4CC0-9FBE-A1CD5B07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4473-EFB5-4B62-95BB-939C28F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BEEC-B796-456F-9821-F674ECD5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8DBE-2B7F-4A2C-AEB7-A79D159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E8F3-9BD0-4282-A00E-DD19FB1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718C-7F26-4BC4-9F9A-C3CB38FD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02E-99FA-4A67-9447-88719B6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328-14FE-4E57-B5D2-1930267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7611-3BEF-4994-BC14-A8252ED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A09D-A221-4566-AAC8-C32DB59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DD78-8209-43DA-B6D1-D1460B12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F41-94B9-46C0-8AF4-EF50F6E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18F7-2BC1-4374-90B9-CB6A5F56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9A44-1C49-4604-8D7D-FFD5BA06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AAB5-2907-47C8-9AE7-A87DECA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8A1C-4DB1-47D1-A19C-D2CDF46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A759-476C-4BD5-8FF7-5CCD131C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29F6-6D88-4E70-82F2-6F7428B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6B4-9CCC-41AA-964A-8CD180E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FC8F-3D54-438F-B11E-48975604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2E3E-6B0E-4268-BC6B-3A61FE54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F2C5-FB92-4FE1-A5EC-69EAF6C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1835-F181-4A63-BABF-7B929A4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E6A4-A5EB-43C7-9F16-004BDE20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CFD0-1E79-4C3F-AFB7-F3C98B5D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FDC9-A1AE-4581-A932-C94E7ACE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8A86-BEC5-4A10-BC92-359BAB62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147B-1E12-4454-97D8-4FC22E83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7E50-389E-4D51-8FEB-99435CC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E5A-6780-4D8F-B4AE-CB6C3E14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47AB-968E-47E8-A7FA-3BCDA1F4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A39E-A3EC-42A5-87BF-A5A524E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A267-EB21-4BA7-AF54-6C1D9B41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E916-162C-4D46-A292-B8F2666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F455-9709-4238-9EFE-0B8F35C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2C21-8F50-45C7-A73E-32036B2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7FE5-194E-45E2-9845-642514E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7A27-E237-4BB9-A18C-AC8D3CC9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C816-36C0-476A-8077-0B93A41A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F685-B6A8-4D8B-9363-F27AC344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F4F-07CE-4209-A223-7D42610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DB38-44B1-4C45-B0A5-1F21EA3A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5D570-A9EB-4F72-AEAC-EF852BFC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E0C1-C79B-4DD4-B871-388068C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1ACD-BFD1-4548-842D-FA28BC5C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173A-7856-42CD-B1FD-4A3B3ACF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C134-5C43-40A0-AAF7-77DA55D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6238-058A-41F1-AE28-9827C4A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6DFE-1375-4412-8BCD-7824A3E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3075-E7D9-4B23-8CA7-6C374747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454F-A912-4A07-A902-451574B8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3AD-C5CF-4111-A472-4B8AF2D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D54E-429C-4DD2-B3FB-B2CE81F3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33C8-CD1A-4349-9F70-E076C694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B6C9-A5F3-41DF-A57A-90BCD49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551E9-57D0-4228-AE64-5BB6E412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1ED6-D853-4C65-ADF4-5F6BFC3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E0304-F714-4A01-8EA2-EB85E102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F4144-6C7C-40CB-95C7-7D92BA8E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BB54-EAF1-416E-87AF-B69D560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3F23-03AA-4AB7-BA89-1D653DD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D3E72-4E0E-49F2-9B67-22C3A08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46D-FB7E-4E7F-A1D3-964298F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FA3F-F280-4058-B486-17A5BF1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E354-F37B-4D87-8833-0E441F16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B860-6D18-4D4F-B760-3037FCA9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144-D857-4E23-858C-D08CF18A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0B5-B05D-417F-A5D4-ABA077E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2C4-30D5-44CC-B508-034B76DEAF4A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FFD3-9AB9-489D-BC69-D9780CD87925}" type="slidenum">
              <a:rPr b="0" lang="en-A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EDB-4F83-4F9E-8F15-C474113F9577}" type="slidenum">
              <a:rPr b="0" lang="en-A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8F3-7A35-46CC-A863-11467F8449A8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CE6D-1A33-4A4C-9F19-CB1DF4B952A2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923F-CB49-4239-9352-C99610179A48}" type="slidenum">
              <a:rPr b="0" lang="en-A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ubtitle 2" descr=""/>
          <p:cNvPicPr/>
          <p:nvPr/>
        </p:nvPicPr>
        <p:blipFill>
          <a:blip r:embed="rId1"/>
          <a:stretch/>
        </p:blipFill>
        <p:spPr>
          <a:xfrm>
            <a:off x="1901880" y="5803920"/>
            <a:ext cx="6675480" cy="5176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42720" y="128556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TERM 2 SPELLING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THE TIGER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 SPELLING GROUP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571840" y="3500280"/>
          <a:ext cx="6095880" cy="7416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f4fc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eda8"/>
                      </a:solidFill>
                    </a:lnL>
                    <a:lnR w="5760">
                      <a:solidFill>
                        <a:srgbClr val="c0eda8"/>
                      </a:solidFill>
                    </a:lnR>
                    <a:lnT w="5760">
                      <a:solidFill>
                        <a:srgbClr val="c0eda8"/>
                      </a:solidFill>
                    </a:lnT>
                    <a:lnB w="5760">
                      <a:solidFill>
                        <a:srgbClr val="c0eda8"/>
                      </a:solidFill>
                    </a:lnB>
                    <a:solidFill>
                      <a:srgbClr val="e8f8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G AND DGE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57120" y="178596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Write three sentences, using as many list words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2"/>
          <p:cNvSpPr/>
          <p:nvPr/>
        </p:nvSpPr>
        <p:spPr>
          <a:xfrm>
            <a:off x="2214720" y="1928880"/>
            <a:ext cx="4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Put your words into alphabetical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G AND DGE’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643120" y="207180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i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v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rst Fl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asse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Program Files\Microsoft Office\Media\CntCD1\Animated\j0205363.gif"/>
          <p:cNvPicPr/>
          <p:nvPr/>
        </p:nvPicPr>
        <p:blipFill>
          <a:blip r:embed="rId1"/>
          <a:stretch/>
        </p:blipFill>
        <p:spPr>
          <a:xfrm>
            <a:off x="5857920" y="4786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99840" y="214200"/>
            <a:ext cx="62485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1167840" y="1857240"/>
            <a:ext cx="69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Write a short story containing </a:t>
            </a:r>
            <a:r>
              <a:rPr b="0" lang="en-AU" sz="1800" spc="-1" strike="noStrike" u="sng">
                <a:solidFill>
                  <a:srgbClr val="000000"/>
                </a:solidFill>
                <a:uFillTx/>
                <a:latin typeface="Constantia"/>
              </a:rPr>
              <a:t>at least 5 </a:t>
            </a: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f your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1714680" y="1928880"/>
            <a:ext cx="63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Missing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Jumble up 5 of your spelling words. Swap with a partner from your spelling group and un-jumble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E.g. hBirtsi= Brit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5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928960" y="2143080"/>
            <a:ext cx="3214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tt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C:\Program Files\Microsoft Office\Media\CntCD1\Animated\j0283243.gif"/>
          <p:cNvPicPr/>
          <p:nvPr/>
        </p:nvPicPr>
        <p:blipFill>
          <a:blip r:embed="rId1"/>
          <a:stretch/>
        </p:blipFill>
        <p:spPr>
          <a:xfrm>
            <a:off x="6524640" y="4587840"/>
            <a:ext cx="1503360" cy="1198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Program Files\Microsoft Office\Media\CntCD1\ClipArt1\j0078779.wmf"/>
          <p:cNvPicPr/>
          <p:nvPr/>
        </p:nvPicPr>
        <p:blipFill>
          <a:blip r:embed="rId2"/>
          <a:stretch/>
        </p:blipFill>
        <p:spPr>
          <a:xfrm>
            <a:off x="357120" y="2000160"/>
            <a:ext cx="2908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0520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357120" y="1785960"/>
            <a:ext cx="82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rite a sentence for each of your spelling words and underline the word in your favourite col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7920" y="20520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4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2143080" y="20718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lay some of the following spelling games on East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ww.eastoftheweb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IE’ W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857680" y="2214720"/>
            <a:ext cx="3500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IE’ WORDS-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85880" y="22147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ke a word find containing your words and swap with a friend to comp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rebuchet MS"/>
              </a:rPr>
              <a:t>SPELLING GAMES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56880" y="2285640"/>
            <a:ext cx="68295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gamesgames.com/games/spelling/spelling,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kidsspell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gamequarium.com/spelli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funbrain.com/spellroo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wjcc.k12.va.us/djm/teachers/Westk/page1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ttp://www.bbc.co.uk/hardspell/hardspell_game.shtml- H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ww.eastoftheweb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IE’ WORDS-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357200" y="228600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rite a sentence for each of your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PLURAL’ W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3071880" y="2286000"/>
            <a:ext cx="285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a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n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o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u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ai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Program Files\Microsoft Office\Media\CntCD1\ClipArt5\j0281089.wmf"/>
          <p:cNvPicPr/>
          <p:nvPr/>
        </p:nvPicPr>
        <p:blipFill>
          <a:blip r:embed="rId1"/>
          <a:stretch/>
        </p:blipFill>
        <p:spPr>
          <a:xfrm>
            <a:off x="6815160" y="3940200"/>
            <a:ext cx="1876320" cy="2165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Program Files\Microsoft Office\Media\CntCD1\ClipArt2\j0215232.wmf"/>
          <p:cNvPicPr/>
          <p:nvPr/>
        </p:nvPicPr>
        <p:blipFill>
          <a:blip r:embed="rId2"/>
          <a:stretch/>
        </p:blipFill>
        <p:spPr>
          <a:xfrm>
            <a:off x="1228680" y="2554200"/>
            <a:ext cx="13431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PLURAL WORDS-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43040" y="1928880"/>
          <a:ext cx="6095880" cy="4079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lling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 form (more than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7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PLURAL WORDS-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500040" y="20001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hoose 4 of your spelling words and write 2 sentences for each, one using the word in singular form and one in plural fo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7920" y="137880"/>
            <a:ext cx="624852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(STRATEGIC SPELLING PG 23-26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928800" y="2000160"/>
            <a:ext cx="71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ick 10 spelling words and type them below in alphabetical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2"/>
          <p:cNvSpPr/>
          <p:nvPr/>
        </p:nvSpPr>
        <p:spPr>
          <a:xfrm>
            <a:off x="1357200" y="185724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rite a story containing your spelling w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7920" y="144000"/>
            <a:ext cx="62485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TERM 2- 2010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WEEK  8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GOLD RUSH WORDS</a:t>
            </a:r>
            <a:br>
              <a:rPr sz="2000"/>
            </a:br>
            <a:r>
              <a:rPr b="1" lang="en-AU" sz="2000" spc="-1" strike="noStrike">
                <a:solidFill>
                  <a:srgbClr val="002060"/>
                </a:solidFill>
                <a:latin typeface="Andalus"/>
                <a:ea typeface="Andalus"/>
              </a:rPr>
              <a:t>(STRATEGIC SPELLING PG 23-26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9 AND 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UNIT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57280" y="28584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</a:t>
            </a: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or’ 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1857240" y="2714760"/>
            <a:ext cx="4286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vis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o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o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7072200" y="2286000"/>
            <a:ext cx="1163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1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OR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642960" y="2000160"/>
            <a:ext cx="8143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lete these sentences by using your spelling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light from the ___________ cast strange shadows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en my little brother was sick the _______ gave him some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st week we had a _________ at our school who came from Jap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captain yelled out an ____________ to the crew of the 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bus stopped at the _____________ of high street and Valley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healthy teeth it is ______________ that you brush them after every m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uring the heatwave my brother and I slept on the front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model aeroplane wads powered by a small 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ad was very angry when he read my school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___________ of the wind blew the nest out of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1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OR’ WORDS – ACTIVITY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428760" y="1928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ut ‘or’ in the correct place in each group of letters to make a wor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357200" y="3286080"/>
          <a:ext cx="6096240" cy="2560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J’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2643120" y="2143080"/>
            <a:ext cx="3786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o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u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g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u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Program Files\Microsoft Office\Media\CntCD1\ClipArt3\j0232952.wmf"/>
          <p:cNvPicPr/>
          <p:nvPr/>
        </p:nvPicPr>
        <p:blipFill>
          <a:blip r:embed="rId1"/>
          <a:stretch/>
        </p:blipFill>
        <p:spPr>
          <a:xfrm>
            <a:off x="1357200" y="2357280"/>
            <a:ext cx="20005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J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28760" y="2000160"/>
            <a:ext cx="792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Write a quiz question for four of your spelling words. Give to a friend to so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0520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J’ WORDS – ACTIVITY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2286000" y="1643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ok cover say write check your spelling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14680" y="2357280"/>
          <a:ext cx="6095880" cy="4079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st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n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rd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cb1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199800"/>
            <a:ext cx="6248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TERM 2- 2010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7030a0"/>
                </a:solidFill>
                <a:latin typeface="Andalus"/>
                <a:ea typeface="Andalus"/>
              </a:rPr>
              <a:t>‘G AND DGE’ WOR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2857680" y="207180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en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C:\Program Files\Microsoft Office\Media\CntCD1\Animated\j0283285.gif"/>
          <p:cNvPicPr/>
          <p:nvPr/>
        </p:nvPicPr>
        <p:blipFill>
          <a:blip r:embed="rId1"/>
          <a:stretch/>
        </p:blipFill>
        <p:spPr>
          <a:xfrm>
            <a:off x="1757520" y="359244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Program Files\Microsoft Office\Media\CntCD1\ClipArt5\j0280720.wmf"/>
          <p:cNvPicPr/>
          <p:nvPr/>
        </p:nvPicPr>
        <p:blipFill>
          <a:blip r:embed="rId2"/>
          <a:stretch/>
        </p:blipFill>
        <p:spPr>
          <a:xfrm>
            <a:off x="7072200" y="4286160"/>
            <a:ext cx="1370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3:24:58Z</dcterms:created>
  <dc:creator>Education</dc:creator>
  <dc:description/>
  <dc:language>en-US</dc:language>
  <cp:lastModifiedBy>02101783</cp:lastModifiedBy>
  <dcterms:modified xsi:type="dcterms:W3CDTF">2010-04-11T09:39:34Z</dcterms:modified>
  <cp:revision>10</cp:revision>
  <dc:subject/>
  <dc:title>Term 2 Green Spelling Group</dc:title>
</cp:coreProperties>
</file>