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0.wmf" ContentType="image/x-wmf"/>
  <Override PartName="/ppt/media/image7.jpeg" ContentType="image/jpeg"/>
  <Override PartName="/ppt/media/image18.png" ContentType="image/png"/>
  <Override PartName="/ppt/media/image28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7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6.png" ContentType="image/png"/>
  <Override PartName="/ppt/media/image29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21.gif" ContentType="image/gif"/>
  <Override PartName="/ppt/media/image14.png" ContentType="image/png"/>
  <Override PartName="/ppt/media/image16.wmf" ContentType="image/x-wmf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075-97DD-4D06-BDDC-6F8B0EE9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0D8-08BD-424D-B51C-D6326E10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CC5D-174C-4EB3-B3B6-7B74A7F5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A5BD-865B-442C-AFCB-892AF5CE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9528-E48A-4020-A08A-36662185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9201-6842-4C40-B520-DBAD8E20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42F7-4E23-4494-8734-DD3D09C4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CAB4-B8DF-4417-B10C-05821617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C943-1FD9-4E01-98A5-5C7E6D62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E8FB-D024-4107-9F88-C6C6467A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DE8C-0E30-4C6F-A47F-66BA6EBB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7C8-75C3-4DDE-A08A-6C55A0B7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7130-5F4E-4336-9844-08C31D5B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5BD1-1500-4735-ACC2-3E009308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2784-A6A4-4717-9383-6BDFFCD0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6AE5-B043-4503-8C69-52A79497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9233-5E95-4896-8816-68E46724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0EA94-B0DE-4331-B275-50C8D511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AD18D-2D96-4C5E-A280-5F60F7C8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75CA5-4735-4082-B639-92B4ACE3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1D710-8629-42D1-9CD2-157BBE69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73176-5BAF-4DA5-9B9E-D6D85D0B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2B97-643B-4F7E-896F-3B77C7BD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CD10E-8B76-4A3A-8F21-36E71F08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729B7-A933-41CA-B505-8F4E5147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A786B-A41E-4631-8D71-AE0C90D7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7DFB4-BCA3-44F3-8BAF-7834D866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57919-B4EE-47CB-A24E-292BA9D2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072E1-84EF-4887-B751-F8153875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B673A-F5C6-4171-BA5C-A779C681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1077D-4E99-4B94-BD56-17B86FE0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3879E-E47C-443F-85B4-37E81C18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B77EC-DC5C-42B3-BB76-253726F4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737-A681-45F2-93CC-BF3825FB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B536B-B887-4AB9-B7FA-98999CF1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C1C9D-B92A-4F6E-805A-39313D8F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4DD9D-AEDE-43AD-93DA-2821074A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5C044-DC13-48D4-8AA2-CFF870B5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CBC5E-8564-4474-82F1-BD20949B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87187-2689-418B-94AA-8816B21D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46F0B-7CB2-476A-BDCA-E5ABD7BA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4AB85-7FBC-4DBA-8791-7270C90C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E5829-83AC-4FF3-8DE1-24F6043D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4849B-144D-473B-8009-82D08586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A84-4F0A-4EE0-ADC2-AE298CF3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94420-A02D-4ECF-AB2F-AFEC3835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DAD96-E8EF-4868-8C76-9870F90F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3EACB-2B06-455F-A41F-48439F13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FB147-C78E-40EB-917A-780360C6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C21AD-7F38-4D10-B213-B8C6B89A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2D79B-BFA1-420B-8642-D399268A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7FC0D-6C66-4221-A6AF-9A99A1DD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C94D2-57DA-4C63-B958-C49B0C84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440BF-6BA9-43E6-8473-5B547340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CC8B7-EC7A-4EB5-8C5A-45492CD2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493-5F1E-484F-8A1C-074B71F1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E1AB3-6FA8-431B-92DE-46338E11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33E8-B434-449D-95B9-78F2B175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8A3-464B-419F-B3C6-23F7F17A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F945-89FA-42FE-A233-004AE476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C0E3-8285-441C-A404-71B2B1E929D8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3DD8-1C6E-4747-98DB-9A4D867925D1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E94E-6B7D-46A8-9FB2-8B494722D5F0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bf5f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FFF4-B332-4549-9026-26596C897384}" type="slidenum">
              <a:rPr b="0" lang="en-AU" sz="11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9074-A488-4C3B-AA0A-3B2F50CBDB45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0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" Target="slide4.xml"/><Relationship Id="rId5" Type="http://schemas.openxmlformats.org/officeDocument/2006/relationships/image" Target="../media/image7.jpeg"/><Relationship Id="rId6" Type="http://schemas.openxmlformats.org/officeDocument/2006/relationships/slide" Target="slide5.xml"/><Relationship Id="rId7" Type="http://schemas.openxmlformats.org/officeDocument/2006/relationships/image" Target="../media/image7.jpeg"/><Relationship Id="rId8" Type="http://schemas.openxmlformats.org/officeDocument/2006/relationships/slide" Target="slide6.xml"/><Relationship Id="rId9" Type="http://schemas.openxmlformats.org/officeDocument/2006/relationships/image" Target="../media/image7.jpeg"/><Relationship Id="rId10" Type="http://schemas.openxmlformats.org/officeDocument/2006/relationships/slide" Target="slide7.xml"/><Relationship Id="rId11" Type="http://schemas.openxmlformats.org/officeDocument/2006/relationships/image" Target="../media/image7.jpeg"/><Relationship Id="rId12" Type="http://schemas.openxmlformats.org/officeDocument/2006/relationships/slide" Target="slide8.xml"/><Relationship Id="rId13" Type="http://schemas.openxmlformats.org/officeDocument/2006/relationships/image" Target="../media/image7.jpeg"/><Relationship Id="rId14" Type="http://schemas.openxmlformats.org/officeDocument/2006/relationships/slide" Target="slide9.xml"/><Relationship Id="rId15" Type="http://schemas.openxmlformats.org/officeDocument/2006/relationships/image" Target="../media/image7.jpeg"/><Relationship Id="rId16" Type="http://schemas.openxmlformats.org/officeDocument/2006/relationships/slide" Target="slide10.xml"/><Relationship Id="rId17" Type="http://schemas.openxmlformats.org/officeDocument/2006/relationships/image" Target="../media/image7.jpeg"/><Relationship Id="rId18" Type="http://schemas.openxmlformats.org/officeDocument/2006/relationships/slide" Target="slide11.xml"/><Relationship Id="rId19" Type="http://schemas.openxmlformats.org/officeDocument/2006/relationships/image" Target="../media/image7.jpeg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jpe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01920" y="1206360"/>
            <a:ext cx="6254640" cy="2159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214800" y="48578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94f7dc"/>
                </a:solidFill>
                <a:latin typeface="Trebuchet MS"/>
              </a:rPr>
              <a:t>My name i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1" descr=""/>
          <p:cNvPicPr/>
          <p:nvPr/>
        </p:nvPicPr>
        <p:blipFill>
          <a:blip r:embed="rId1"/>
          <a:stretch/>
        </p:blipFill>
        <p:spPr>
          <a:xfrm>
            <a:off x="139680" y="208080"/>
            <a:ext cx="4578480" cy="7365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285840" y="85716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¼ + ¼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alf of 18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¼ of 16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ich is larger ½ or ¾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¾ - ¼ 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2/3 – 1/3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at is a half of 50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ich is larger ½ or ½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21420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6"/>
          <p:cNvSpPr/>
          <p:nvPr/>
        </p:nvSpPr>
        <p:spPr>
          <a:xfrm>
            <a:off x="155520" y="-770040"/>
            <a:ext cx="147636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8" descr="http://etc.usf.edu/clipart/40500/40529/Pie_01-03a_40529_md.gif"/>
          <p:cNvPicPr/>
          <p:nvPr/>
        </p:nvPicPr>
        <p:blipFill>
          <a:blip r:embed="rId3"/>
          <a:stretch/>
        </p:blipFill>
        <p:spPr>
          <a:xfrm>
            <a:off x="5357880" y="714240"/>
            <a:ext cx="2557440" cy="27892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5072040" y="5716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ndalus"/>
                <a:ea typeface="Andalus"/>
              </a:rPr>
              <a:t>9. Show 2/3 of this shap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0" descr="http://etc.usf.edu/clipart/40500/40551/Pie_01-05a_40551_md.gif"/>
          <p:cNvPicPr/>
          <p:nvPr/>
        </p:nvPicPr>
        <p:blipFill>
          <a:blip r:embed="rId4"/>
          <a:stretch/>
        </p:blipFill>
        <p:spPr>
          <a:xfrm>
            <a:off x="5572080" y="3990960"/>
            <a:ext cx="2629080" cy="2867040"/>
          </a:xfrm>
          <a:prstGeom prst="rect">
            <a:avLst/>
          </a:prstGeom>
          <a:ln w="0">
            <a:noFill/>
          </a:ln>
        </p:spPr>
      </p:pic>
      <p:sp>
        <p:nvSpPr>
          <p:cNvPr id="298" name="TextBox 8"/>
          <p:cNvSpPr/>
          <p:nvPr/>
        </p:nvSpPr>
        <p:spPr>
          <a:xfrm>
            <a:off x="5500800" y="38577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ndalus"/>
                <a:ea typeface="Andalus"/>
              </a:rPr>
              <a:t>9. Show 3/5 of this shap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2" descr="http://vels.vcaa.vic.edu.au/images/content/samples/maths/wall_stimulus.jpg"/>
          <p:cNvPicPr/>
          <p:nvPr/>
        </p:nvPicPr>
        <p:blipFill>
          <a:blip r:embed="rId5"/>
          <a:stretch/>
        </p:blipFill>
        <p:spPr>
          <a:xfrm>
            <a:off x="214200" y="3929040"/>
            <a:ext cx="5238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1" descr=""/>
          <p:cNvPicPr/>
          <p:nvPr/>
        </p:nvPicPr>
        <p:blipFill>
          <a:blip r:embed="rId1"/>
          <a:stretch/>
        </p:blipFill>
        <p:spPr>
          <a:xfrm>
            <a:off x="182520" y="208080"/>
            <a:ext cx="8480520" cy="7365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285840" y="1142640"/>
            <a:ext cx="5572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  <a:ea typeface="Andalus"/>
              </a:rPr>
              <a:t>Solve these TIME problem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 </a:t>
            </a: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hat is 1 hour before 5.15pm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in an hour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5.30pm – 30min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days in 1 week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seconds in 1 minute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hat is the time at Midday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in 1 and ½ hour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in 2 hour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2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214200"/>
            <a:ext cx="981000" cy="13622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http://image.shutterstock.com/display_pic_with_logo/60208/60208,1180711812,2/stock-photo-aged-antique-clock-face-showing-time-of-pm-3426907.jpg"/>
          <p:cNvPicPr/>
          <p:nvPr/>
        </p:nvPicPr>
        <p:blipFill>
          <a:blip r:embed="rId3"/>
          <a:stretch/>
        </p:blipFill>
        <p:spPr>
          <a:xfrm>
            <a:off x="5857920" y="1571760"/>
            <a:ext cx="2071800" cy="18144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6"/>
          <p:cNvSpPr/>
          <p:nvPr/>
        </p:nvSpPr>
        <p:spPr>
          <a:xfrm>
            <a:off x="4857840" y="12142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ndalus"/>
              </a:rPr>
              <a:t>9. What time is shown on this clock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9" descr="http://static-p4.fotolia.com/jpg/00/12/40/09/400_F_12400955_woCFVECltdcQBq32K3kqkqxaL0fsAOPx.jpg"/>
          <p:cNvPicPr/>
          <p:nvPr/>
        </p:nvPicPr>
        <p:blipFill>
          <a:blip r:embed="rId4"/>
          <a:stretch/>
        </p:blipFill>
        <p:spPr>
          <a:xfrm>
            <a:off x="5857920" y="4357800"/>
            <a:ext cx="2023920" cy="20239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8"/>
          <p:cNvSpPr/>
          <p:nvPr/>
        </p:nvSpPr>
        <p:spPr>
          <a:xfrm>
            <a:off x="5000760" y="371484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ndalus"/>
              </a:rPr>
              <a:t>10. What time is shown on this clock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500040" y="557208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need help with............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182520" y="281160"/>
            <a:ext cx="848052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9" name=""/>
          <p:cNvGraphicFramePr/>
          <p:nvPr/>
        </p:nvGraphicFramePr>
        <p:xfrm>
          <a:off x="2214720" y="1143000"/>
          <a:ext cx="4186080" cy="4537080"/>
        </p:xfrm>
        <a:graphic>
          <a:graphicData uri="http://schemas.openxmlformats.org/drawingml/2006/table">
            <a:tbl>
              <a:tblPr/>
              <a:tblGrid>
                <a:gridCol w="2114280"/>
                <a:gridCol w="2071800"/>
              </a:tblGrid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y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 for ter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310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358120" y="142920"/>
            <a:ext cx="62064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884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ttp://www.google.lk/images?q=tbn:sfoaNe1Gr_bofM::www.uis.edu/studentaffairs/students/images/desk_calendar_1.gif&amp;h=94&amp;w=94&amp;usg=__wyHRRsORN8yqRXjwTh0oP5oolgA=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7120" y="1143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1428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http://www.google.lk/images?q=tbn:sfoaNe1Gr_bofM::www.uis.edu/studentaffairs/students/images/desk_calendar_1.gif&amp;h=94&amp;w=94&amp;usg=__wyHRRsORN8yqRXjwTh0oP5oolgA=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57120" y="221472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www.google.lk/images?q=tbn:sfoaNe1Gr_bofM::www.uis.edu/studentaffairs/students/images/desk_calendar_1.gif&amp;h=94&amp;w=94&amp;usg=__wyHRRsORN8yqRXjwTh0oP5oolgA=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7120" y="32148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://www.google.lk/images?q=tbn:sfoaNe1Gr_bofM::www.uis.edu/studentaffairs/students/images/desk_calendar_1.gif&amp;h=94&amp;w=94&amp;usg=__wyHRRsORN8yqRXjwTh0oP5oolgA=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7120" y="4286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://www.google.lk/images?q=tbn:sfoaNe1Gr_bofM::www.uis.edu/studentaffairs/students/images/desk_calendar_1.gif&amp;h=94&amp;w=94&amp;usg=__wyHRRsORN8yqRXjwTh0oP5oolgA=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ttp://www.google.lk/images?q=tbn:sfoaNe1Gr_bofM::www.uis.edu/studentaffairs/students/images/desk_calendar_1.gif&amp;h=94&amp;w=94&amp;usg=__wyHRRsORN8yqRXjwTh0oP5oolgA=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571920" y="11430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www.google.lk/images?q=tbn:sfoaNe1Gr_bofM::www.uis.edu/studentaffairs/students/images/desk_calendar_1.gif&amp;h=94&amp;w=94&amp;usg=__wyHRRsORN8yqRXjwTh0oP5oolgA=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571920" y="21430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www.google.lk/images?q=tbn:sfoaNe1Gr_bofM::www.uis.edu/studentaffairs/students/images/desk_calendar_1.gif&amp;h=94&amp;w=94&amp;usg=__wyHRRsORN8yqRXjwTh0oP5oolgA=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5719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www.google.lk/images?q=tbn:sfoaNe1Gr_bofM::www.uis.edu/studentaffairs/students/images/desk_calendar_1.gif&amp;h=94&amp;w=94&amp;usg=__wyHRRsORN8yqRXjwTh0oP5oolgA=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3571920" y="42148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4"/>
          <p:cNvSpPr/>
          <p:nvPr/>
        </p:nvSpPr>
        <p:spPr>
          <a:xfrm>
            <a:off x="1428840" y="2357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1428840" y="3500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150012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1571760" y="5429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4857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4929120" y="2214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4929120" y="3429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1"/>
          <p:cNvSpPr/>
          <p:nvPr/>
        </p:nvSpPr>
        <p:spPr>
          <a:xfrm>
            <a:off x="500076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5" descr="http://www.google.lk/images?q=tbn:fLsHEJNrLc7EDM::media1.behance.com/article_images/5718_1_results.gif&amp;h=94&amp;w=125&amp;usg=__TLOEutJG8_TWgzdz9_ouANkPjcA="/>
          <p:cNvPicPr/>
          <p:nvPr/>
        </p:nvPicPr>
        <p:blipFill>
          <a:blip r:embed="rId20"/>
          <a:stretch/>
        </p:blipFill>
        <p:spPr>
          <a:xfrm>
            <a:off x="6786720" y="4214880"/>
            <a:ext cx="1643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738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5"/>
          <p:cNvSpPr/>
          <p:nvPr/>
        </p:nvSpPr>
        <p:spPr>
          <a:xfrm>
            <a:off x="3000240" y="1714680"/>
            <a:ext cx="507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lve these following su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5 add 3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4 take away 7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 groups of 8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 plus 5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are 16 between 4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 times 5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9 minus 6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2, how many 3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 less than 11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0 divided by 5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6" descr="C:\Program Files\Microsoft Office\Media\CntCD1\ClipArt3\j0237283.wmf"/>
          <p:cNvPicPr/>
          <p:nvPr/>
        </p:nvPicPr>
        <p:blipFill>
          <a:blip r:embed="rId3"/>
          <a:stretch/>
        </p:blipFill>
        <p:spPr>
          <a:xfrm>
            <a:off x="214200" y="1071720"/>
            <a:ext cx="2738520" cy="19746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6"/>
          <p:cNvSpPr/>
          <p:nvPr/>
        </p:nvSpPr>
        <p:spPr>
          <a:xfrm>
            <a:off x="428760" y="507204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Today I was successful because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36360" y="281160"/>
            <a:ext cx="8485200" cy="736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28760" y="99972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haroni"/>
                <a:ea typeface="Aharoni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 m + 8m =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7cm + 8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um of 30cm, 10cm and 20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 cm + 3cm +8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51cm – 6cm=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7m – 9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at is half of 1 meter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cm in 2 meters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96cm -10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Is 1m and 60cm the same or different?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http://www.freeworldu.org/Plumbing/FlashcardImages/4767/139017_convert%202a.jpg"/>
          <p:cNvPicPr/>
          <p:nvPr/>
        </p:nvPicPr>
        <p:blipFill>
          <a:blip r:embed="rId3"/>
          <a:stretch/>
        </p:blipFill>
        <p:spPr>
          <a:xfrm>
            <a:off x="5286240" y="1500120"/>
            <a:ext cx="2714760" cy="36892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6"/>
          <p:cNvSpPr/>
          <p:nvPr/>
        </p:nvSpPr>
        <p:spPr>
          <a:xfrm>
            <a:off x="4857840" y="1143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Challenge Ques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428760" y="578628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b050"/>
                </a:solidFill>
                <a:latin typeface="Arial"/>
              </a:rPr>
              <a:t>Today I had a problem trying to 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36360" y="-6480"/>
            <a:ext cx="8485200" cy="738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357120" y="928800"/>
            <a:ext cx="850104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ill in the missing numbers in the following table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357200" y="642960"/>
          <a:ext cx="6429600" cy="5084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857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3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TART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3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56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5"/>
          <p:cNvSpPr/>
          <p:nvPr/>
        </p:nvSpPr>
        <p:spPr>
          <a:xfrm>
            <a:off x="310320" y="5929200"/>
            <a:ext cx="44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030a0"/>
                </a:solidFill>
                <a:latin typeface="Arial"/>
              </a:rPr>
              <a:t>I think I am becoming an expert because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255600" y="353880"/>
            <a:ext cx="8480520" cy="736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285840" y="999720"/>
            <a:ext cx="85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ollowing these instructions to test your number fact skill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on the </a:t>
            </a:r>
            <a:r>
              <a:rPr b="0" lang="en-AU" sz="2000" spc="-1" strike="noStrike">
                <a:solidFill>
                  <a:srgbClr val="ffc000"/>
                </a:solidFill>
                <a:latin typeface="Andalus"/>
                <a:ea typeface="Andalus"/>
              </a:rPr>
              <a:t>Maths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 button in </a:t>
            </a:r>
            <a:r>
              <a:rPr b="0" lang="en-AU" sz="2000" spc="-1" strike="noStrike">
                <a:solidFill>
                  <a:srgbClr val="0070c0"/>
                </a:solidFill>
                <a:latin typeface="Andalus"/>
                <a:ea typeface="Andalus"/>
              </a:rPr>
              <a:t>Edu st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on “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ux of Math Command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“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Play Alone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elect your play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game will start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ndalus"/>
                <a:ea typeface="Andalus"/>
              </a:rPr>
              <a:t>Good Luck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285840" y="5286240"/>
            <a:ext cx="981000" cy="1362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c:\Users\08760829\AppData\Local\Microsoft\Windows\Temporary Internet Files\Content.IE5\KOIOT0NA\MC900052604[1].wmf"/>
          <p:cNvPicPr/>
          <p:nvPr/>
        </p:nvPicPr>
        <p:blipFill>
          <a:blip r:embed="rId3"/>
          <a:stretch/>
        </p:blipFill>
        <p:spPr>
          <a:xfrm>
            <a:off x="7358040" y="4786200"/>
            <a:ext cx="1322280" cy="1812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:\Users\08760829\AppData\Local\Microsoft\Windows\Temporary Internet Files\Content.IE5\XM06B01Y\MC900057449[1].wmf"/>
          <p:cNvPicPr/>
          <p:nvPr/>
        </p:nvPicPr>
        <p:blipFill>
          <a:blip r:embed="rId4"/>
          <a:stretch/>
        </p:blipFill>
        <p:spPr>
          <a:xfrm>
            <a:off x="1428840" y="4857840"/>
            <a:ext cx="820800" cy="17287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8"/>
          <p:cNvSpPr/>
          <p:nvPr/>
        </p:nvSpPr>
        <p:spPr>
          <a:xfrm>
            <a:off x="2428920" y="528624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enjoyed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109440" y="208080"/>
            <a:ext cx="7755120" cy="736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286840" y="214200"/>
            <a:ext cx="714240" cy="9921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0"/>
          <p:cNvSpPr/>
          <p:nvPr/>
        </p:nvSpPr>
        <p:spPr>
          <a:xfrm>
            <a:off x="3929040" y="1071720"/>
            <a:ext cx="49291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rainy days were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sunny days were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cloudy days were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hat kind of weather was most common in Ju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more sunny days were there than rainy d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more rainy days were there than cloudy d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more sunny days were there than cloudy d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days did they record resul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hy do you think that not all days were record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Chart 10" descr=""/>
          <p:cNvPicPr/>
          <p:nvPr/>
        </p:nvPicPr>
        <p:blipFill>
          <a:blip r:embed="rId3"/>
          <a:stretch/>
        </p:blipFill>
        <p:spPr>
          <a:xfrm>
            <a:off x="214200" y="1285920"/>
            <a:ext cx="3714840" cy="35002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1"/>
          <p:cNvSpPr/>
          <p:nvPr/>
        </p:nvSpPr>
        <p:spPr>
          <a:xfrm>
            <a:off x="214200" y="478620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en looking at graphs its important to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8" descr="C:\Program Files\Microsoft Office\MEDIA\CAGCAT10\j0293828.wmf"/>
          <p:cNvPicPr/>
          <p:nvPr/>
        </p:nvPicPr>
        <p:blipFill>
          <a:blip r:embed="rId4"/>
          <a:stretch/>
        </p:blipFill>
        <p:spPr>
          <a:xfrm>
            <a:off x="0" y="714240"/>
            <a:ext cx="1015920" cy="1068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9" descr="C:\Program Files\Microsoft Office\Media\CntCD1\Animated\j0303440.gif"/>
          <p:cNvPicPr/>
          <p:nvPr/>
        </p:nvPicPr>
        <p:blipFill>
          <a:blip r:embed="rId5"/>
          <a:stretch/>
        </p:blipFill>
        <p:spPr>
          <a:xfrm>
            <a:off x="2643120" y="5286240"/>
            <a:ext cx="1428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182520" y="420840"/>
            <a:ext cx="8480520" cy="738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500040" y="1143000"/>
            <a:ext cx="77868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Complete the following counting problems by filling in the missing number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4, 8, 12, 16, _____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8, 24, 20, _____ 12, _____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7, 21, 25, 29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51, 61, 71, _____, 91, 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39, 34, _____ , 24, 1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40, 37, 34, _____ , 28, _____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52, 54, 56, 58, _____ , _____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3, 34, 45, 56, _____ , _____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8, 28, _____ , 48, 58, _____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6, 65, 54, 43, _____ , _____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285840" y="55720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need to practise.......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c:\Users\08760829\AppData\Local\Microsoft\Windows\Temporary Internet Files\Content.IE5\XM06B01Y\MP910216664[1].jpg"/>
          <p:cNvPicPr/>
          <p:nvPr/>
        </p:nvPicPr>
        <p:blipFill>
          <a:blip r:embed="rId3"/>
          <a:stretch/>
        </p:blipFill>
        <p:spPr>
          <a:xfrm>
            <a:off x="4429080" y="1643040"/>
            <a:ext cx="36352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182520" y="133200"/>
            <a:ext cx="8480520" cy="738360"/>
          </a:xfrm>
          <a:prstGeom prst="rect">
            <a:avLst/>
          </a:prstGeom>
          <a:ln w="0">
            <a:noFill/>
          </a:ln>
        </p:spPr>
      </p:pic>
      <p:sp>
        <p:nvSpPr>
          <p:cNvPr id="277" name="7-Point Star 8"/>
          <p:cNvSpPr/>
          <p:nvPr/>
        </p:nvSpPr>
        <p:spPr>
          <a:xfrm>
            <a:off x="357120" y="4786200"/>
            <a:ext cx="1357560" cy="1285920"/>
          </a:xfrm>
          <a:custGeom>
            <a:avLst/>
            <a:gdLst>
              <a:gd name="textAreaLeft" fmla="*/ 302040 w 1357560"/>
              <a:gd name="textAreaRight" fmla="*/ 1055520 w 1357560"/>
              <a:gd name="textAreaTop" fmla="*/ 254520 h 1285920"/>
              <a:gd name="textAreaBottom" fmla="*/ 968400 h 1285920"/>
            </a:gdLst>
            <a:ahLst/>
            <a:rect l="textAreaLeft" t="textAreaTop" r="textAreaRight" b="textAreaBottom"/>
            <a:pathLst>
              <a:path w="1357312" h="1285875">
                <a:moveTo>
                  <a:pt x="-4" y="826955"/>
                </a:moveTo>
                <a:lnTo>
                  <a:pt x="209010" y="572272"/>
                </a:lnTo>
                <a:lnTo>
                  <a:pt x="134415" y="254684"/>
                </a:lnTo>
                <a:lnTo>
                  <a:pt x="469646" y="254685"/>
                </a:lnTo>
                <a:lnTo>
                  <a:pt x="678656" y="0"/>
                </a:lnTo>
                <a:lnTo>
                  <a:pt x="887666" y="254685"/>
                </a:lnTo>
                <a:lnTo>
                  <a:pt x="1222897" y="254684"/>
                </a:lnTo>
                <a:lnTo>
                  <a:pt x="1148302" y="572272"/>
                </a:lnTo>
                <a:lnTo>
                  <a:pt x="1357316" y="826955"/>
                </a:lnTo>
                <a:lnTo>
                  <a:pt x="1055281" y="968294"/>
                </a:lnTo>
                <a:lnTo>
                  <a:pt x="980685" y="1285882"/>
                </a:lnTo>
                <a:lnTo>
                  <a:pt x="678656" y="1144541"/>
                </a:lnTo>
                <a:lnTo>
                  <a:pt x="376627" y="1285882"/>
                </a:lnTo>
                <a:lnTo>
                  <a:pt x="302031" y="968294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7929720" y="278604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6"/>
          <p:cNvSpPr/>
          <p:nvPr/>
        </p:nvSpPr>
        <p:spPr>
          <a:xfrm>
            <a:off x="571680" y="928800"/>
            <a:ext cx="707220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tch each number sentence with an answer from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is 5 bunches of bananas if they are $2.00 ea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any for 5 pencils if they cost 30c ea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s the cost of 3 tickets at $6.00 ea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s my change from $5.00 if I spend $3.5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did I spend if I bought 1 apple for 50c, 1 loaf of bread for $1.50 and butter for $2.5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 bought 5 items for $30.00, how much was each i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8"/>
          <p:cNvSpPr/>
          <p:nvPr/>
        </p:nvSpPr>
        <p:spPr>
          <a:xfrm>
            <a:off x="785880" y="514368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7-Point Star 19"/>
          <p:cNvSpPr/>
          <p:nvPr/>
        </p:nvSpPr>
        <p:spPr>
          <a:xfrm>
            <a:off x="1857240" y="4000680"/>
            <a:ext cx="1357560" cy="1285560"/>
          </a:xfrm>
          <a:custGeom>
            <a:avLst/>
            <a:gdLst>
              <a:gd name="textAreaLeft" fmla="*/ 302040 w 1357560"/>
              <a:gd name="textAreaRight" fmla="*/ 1055520 w 1357560"/>
              <a:gd name="textAreaTop" fmla="*/ 254520 h 1285560"/>
              <a:gd name="textAreaBottom" fmla="*/ 968040 h 1285560"/>
            </a:gdLst>
            <a:ahLst/>
            <a:rect l="textAreaLeft" t="textAreaTop" r="textAreaRight" b="textAreaBottom"/>
            <a:pathLst>
              <a:path w="1357313" h="1285875">
                <a:moveTo>
                  <a:pt x="-4" y="826955"/>
                </a:moveTo>
                <a:lnTo>
                  <a:pt x="209010" y="572272"/>
                </a:lnTo>
                <a:lnTo>
                  <a:pt x="134416" y="254684"/>
                </a:lnTo>
                <a:lnTo>
                  <a:pt x="469646" y="254685"/>
                </a:lnTo>
                <a:lnTo>
                  <a:pt x="678657" y="0"/>
                </a:lnTo>
                <a:lnTo>
                  <a:pt x="887667" y="254685"/>
                </a:lnTo>
                <a:lnTo>
                  <a:pt x="1222897" y="254684"/>
                </a:lnTo>
                <a:lnTo>
                  <a:pt x="1148303" y="572272"/>
                </a:lnTo>
                <a:lnTo>
                  <a:pt x="1357317" y="826955"/>
                </a:lnTo>
                <a:lnTo>
                  <a:pt x="1055282" y="968294"/>
                </a:lnTo>
                <a:lnTo>
                  <a:pt x="980685" y="1285882"/>
                </a:lnTo>
                <a:lnTo>
                  <a:pt x="678657" y="1144541"/>
                </a:lnTo>
                <a:lnTo>
                  <a:pt x="376628" y="1285882"/>
                </a:lnTo>
                <a:lnTo>
                  <a:pt x="302031" y="968294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7-Point Star 20"/>
          <p:cNvSpPr/>
          <p:nvPr/>
        </p:nvSpPr>
        <p:spPr>
          <a:xfrm>
            <a:off x="3143160" y="5072040"/>
            <a:ext cx="1357560" cy="1285920"/>
          </a:xfrm>
          <a:custGeom>
            <a:avLst/>
            <a:gdLst>
              <a:gd name="textAreaLeft" fmla="*/ 302040 w 1357560"/>
              <a:gd name="textAreaRight" fmla="*/ 1055520 w 1357560"/>
              <a:gd name="textAreaTop" fmla="*/ 254520 h 1285920"/>
              <a:gd name="textAreaBottom" fmla="*/ 968400 h 1285920"/>
            </a:gdLst>
            <a:ahLst/>
            <a:rect l="textAreaLeft" t="textAreaTop" r="textAreaRight" b="textAreaBottom"/>
            <a:pathLst>
              <a:path w="1357313" h="1285875">
                <a:moveTo>
                  <a:pt x="-4" y="826955"/>
                </a:moveTo>
                <a:lnTo>
                  <a:pt x="209010" y="572272"/>
                </a:lnTo>
                <a:lnTo>
                  <a:pt x="134416" y="254684"/>
                </a:lnTo>
                <a:lnTo>
                  <a:pt x="469646" y="254685"/>
                </a:lnTo>
                <a:lnTo>
                  <a:pt x="678657" y="0"/>
                </a:lnTo>
                <a:lnTo>
                  <a:pt x="887667" y="254685"/>
                </a:lnTo>
                <a:lnTo>
                  <a:pt x="1222897" y="254684"/>
                </a:lnTo>
                <a:lnTo>
                  <a:pt x="1148303" y="572272"/>
                </a:lnTo>
                <a:lnTo>
                  <a:pt x="1357317" y="826955"/>
                </a:lnTo>
                <a:lnTo>
                  <a:pt x="1055282" y="968294"/>
                </a:lnTo>
                <a:lnTo>
                  <a:pt x="980685" y="1285882"/>
                </a:lnTo>
                <a:lnTo>
                  <a:pt x="678657" y="1144541"/>
                </a:lnTo>
                <a:lnTo>
                  <a:pt x="376628" y="1285882"/>
                </a:lnTo>
                <a:lnTo>
                  <a:pt x="302031" y="9682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7-Point Star 21"/>
          <p:cNvSpPr/>
          <p:nvPr/>
        </p:nvSpPr>
        <p:spPr>
          <a:xfrm>
            <a:off x="4286160" y="3929040"/>
            <a:ext cx="1357560" cy="1285920"/>
          </a:xfrm>
          <a:custGeom>
            <a:avLst/>
            <a:gdLst>
              <a:gd name="textAreaLeft" fmla="*/ 302040 w 1357560"/>
              <a:gd name="textAreaRight" fmla="*/ 1055520 w 1357560"/>
              <a:gd name="textAreaTop" fmla="*/ 254520 h 1285920"/>
              <a:gd name="textAreaBottom" fmla="*/ 968400 h 1285920"/>
            </a:gdLst>
            <a:ahLst/>
            <a:rect l="textAreaLeft" t="textAreaTop" r="textAreaRight" b="textAreaBottom"/>
            <a:pathLst>
              <a:path w="1357313" h="1285875">
                <a:moveTo>
                  <a:pt x="-4" y="826955"/>
                </a:moveTo>
                <a:lnTo>
                  <a:pt x="209010" y="572272"/>
                </a:lnTo>
                <a:lnTo>
                  <a:pt x="134416" y="254684"/>
                </a:lnTo>
                <a:lnTo>
                  <a:pt x="469646" y="254685"/>
                </a:lnTo>
                <a:lnTo>
                  <a:pt x="678657" y="0"/>
                </a:lnTo>
                <a:lnTo>
                  <a:pt x="887667" y="254685"/>
                </a:lnTo>
                <a:lnTo>
                  <a:pt x="1222897" y="254684"/>
                </a:lnTo>
                <a:lnTo>
                  <a:pt x="1148303" y="572272"/>
                </a:lnTo>
                <a:lnTo>
                  <a:pt x="1357317" y="826955"/>
                </a:lnTo>
                <a:lnTo>
                  <a:pt x="1055282" y="968294"/>
                </a:lnTo>
                <a:lnTo>
                  <a:pt x="980685" y="1285882"/>
                </a:lnTo>
                <a:lnTo>
                  <a:pt x="678657" y="1144541"/>
                </a:lnTo>
                <a:lnTo>
                  <a:pt x="376628" y="1285882"/>
                </a:lnTo>
                <a:lnTo>
                  <a:pt x="302031" y="968294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7-Point Star 22"/>
          <p:cNvSpPr/>
          <p:nvPr/>
        </p:nvSpPr>
        <p:spPr>
          <a:xfrm>
            <a:off x="5643720" y="5214960"/>
            <a:ext cx="1357200" cy="1285920"/>
          </a:xfrm>
          <a:custGeom>
            <a:avLst/>
            <a:gdLst>
              <a:gd name="textAreaLeft" fmla="*/ 302040 w 1357200"/>
              <a:gd name="textAreaRight" fmla="*/ 1055160 w 1357200"/>
              <a:gd name="textAreaTop" fmla="*/ 254520 h 1285920"/>
              <a:gd name="textAreaBottom" fmla="*/ 968400 h 1285920"/>
            </a:gdLst>
            <a:ahLst/>
            <a:rect l="textAreaLeft" t="textAreaTop" r="textAreaRight" b="textAreaBottom"/>
            <a:pathLst>
              <a:path w="1357312" h="1285875">
                <a:moveTo>
                  <a:pt x="-4" y="826955"/>
                </a:moveTo>
                <a:lnTo>
                  <a:pt x="209010" y="572272"/>
                </a:lnTo>
                <a:lnTo>
                  <a:pt x="134415" y="254684"/>
                </a:lnTo>
                <a:lnTo>
                  <a:pt x="469646" y="254685"/>
                </a:lnTo>
                <a:lnTo>
                  <a:pt x="678656" y="0"/>
                </a:lnTo>
                <a:lnTo>
                  <a:pt x="887666" y="254685"/>
                </a:lnTo>
                <a:lnTo>
                  <a:pt x="1222897" y="254684"/>
                </a:lnTo>
                <a:lnTo>
                  <a:pt x="1148302" y="572272"/>
                </a:lnTo>
                <a:lnTo>
                  <a:pt x="1357316" y="826955"/>
                </a:lnTo>
                <a:lnTo>
                  <a:pt x="1055281" y="968294"/>
                </a:lnTo>
                <a:lnTo>
                  <a:pt x="980685" y="1285882"/>
                </a:lnTo>
                <a:lnTo>
                  <a:pt x="678656" y="1144541"/>
                </a:lnTo>
                <a:lnTo>
                  <a:pt x="376627" y="1285882"/>
                </a:lnTo>
                <a:lnTo>
                  <a:pt x="302031" y="968294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-Point Star 23"/>
          <p:cNvSpPr/>
          <p:nvPr/>
        </p:nvSpPr>
        <p:spPr>
          <a:xfrm>
            <a:off x="6572160" y="4000680"/>
            <a:ext cx="1357560" cy="1285560"/>
          </a:xfrm>
          <a:custGeom>
            <a:avLst/>
            <a:gdLst>
              <a:gd name="textAreaLeft" fmla="*/ 302040 w 1357560"/>
              <a:gd name="textAreaRight" fmla="*/ 1055520 w 1357560"/>
              <a:gd name="textAreaTop" fmla="*/ 254520 h 1285560"/>
              <a:gd name="textAreaBottom" fmla="*/ 968040 h 1285560"/>
            </a:gdLst>
            <a:ahLst/>
            <a:rect l="textAreaLeft" t="textAreaTop" r="textAreaRight" b="textAreaBottom"/>
            <a:pathLst>
              <a:path w="1357313" h="1285875">
                <a:moveTo>
                  <a:pt x="-4" y="826955"/>
                </a:moveTo>
                <a:lnTo>
                  <a:pt x="209010" y="572272"/>
                </a:lnTo>
                <a:lnTo>
                  <a:pt x="134416" y="254684"/>
                </a:lnTo>
                <a:lnTo>
                  <a:pt x="469646" y="254685"/>
                </a:lnTo>
                <a:lnTo>
                  <a:pt x="678657" y="0"/>
                </a:lnTo>
                <a:lnTo>
                  <a:pt x="887667" y="254685"/>
                </a:lnTo>
                <a:lnTo>
                  <a:pt x="1222897" y="254684"/>
                </a:lnTo>
                <a:lnTo>
                  <a:pt x="1148303" y="572272"/>
                </a:lnTo>
                <a:lnTo>
                  <a:pt x="1357317" y="826955"/>
                </a:lnTo>
                <a:lnTo>
                  <a:pt x="1055282" y="968294"/>
                </a:lnTo>
                <a:lnTo>
                  <a:pt x="980685" y="1285882"/>
                </a:lnTo>
                <a:lnTo>
                  <a:pt x="678657" y="1144541"/>
                </a:lnTo>
                <a:lnTo>
                  <a:pt x="376628" y="1285882"/>
                </a:lnTo>
                <a:lnTo>
                  <a:pt x="302031" y="968294"/>
                </a:lnTo>
                <a:close/>
              </a:path>
            </a:pathLst>
          </a:custGeom>
          <a:solidFill>
            <a:srgbClr val="007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4"/>
          <p:cNvSpPr/>
          <p:nvPr/>
        </p:nvSpPr>
        <p:spPr>
          <a:xfrm>
            <a:off x="5357880" y="550080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$10.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5"/>
          <p:cNvSpPr/>
          <p:nvPr/>
        </p:nvSpPr>
        <p:spPr>
          <a:xfrm>
            <a:off x="2928960" y="5357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$1.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6"/>
          <p:cNvSpPr/>
          <p:nvPr/>
        </p:nvSpPr>
        <p:spPr>
          <a:xfrm>
            <a:off x="1500120" y="4286160"/>
            <a:ext cx="221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$18.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8"/>
          <p:cNvSpPr/>
          <p:nvPr/>
        </p:nvSpPr>
        <p:spPr>
          <a:xfrm>
            <a:off x="6286680" y="42861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$1.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9"/>
          <p:cNvSpPr/>
          <p:nvPr/>
        </p:nvSpPr>
        <p:spPr>
          <a:xfrm>
            <a:off x="4071960" y="4214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$4.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1:16:01Z</dcterms:created>
  <dc:creator>Education</dc:creator>
  <dc:description/>
  <dc:language>en-US</dc:language>
  <cp:lastModifiedBy>Education</cp:lastModifiedBy>
  <dcterms:modified xsi:type="dcterms:W3CDTF">2010-09-11T01:21:33Z</dcterms:modified>
  <cp:revision>65</cp:revision>
  <dc:subject/>
  <dc:title>Weekly Mathematics Revision Activities</dc:title>
</cp:coreProperties>
</file>