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4.jpeg" ContentType="image/jpeg"/>
  <Override PartName="/ppt/media/image22.gif" ContentType="image/gif"/>
  <Override PartName="/ppt/media/image25.png" ContentType="image/pn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9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24.png" ContentType="image/png"/>
  <Override PartName="/ppt/media/image29.wmf" ContentType="image/x-wmf"/>
  <Override PartName="/ppt/media/image1.png" ContentType="image/png"/>
  <Override PartName="/ppt/media/image15.wmf" ContentType="image/x-wmf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19.wmf" ContentType="image/x-wmf"/>
  <Override PartName="/ppt/media/image21.png" ContentType="image/pn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8C4-B1F4-4ABC-A93B-FF60AB2E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AEF-3BF9-47DB-A57E-E3DB621C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45A-1F43-4F46-A820-55FE24FC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008-6A1B-4502-9E2B-EB50FBE6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F2F5-216A-447F-8381-DD44CE43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FCEE-6E40-4848-AF16-8EE4C6CE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99BB-214B-48E3-9357-5C69C286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E285-6782-46A7-80A6-5554292B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E6EA-15A3-4895-98BC-B2BCB0F7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B0E0-AA42-4EBE-B8AD-93D718BB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BDEB-2018-43BA-A7CD-EA451031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ECA-8B2A-4D3B-80AE-0CFD1D8B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189B-43B9-46E7-8D30-9EA7CCF6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9C18-A1D4-49B8-BAAD-7C8E3014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71B7-F0E4-4796-81B6-0F53558A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04F9-38FC-4D85-A3B1-250C1B07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14FB-47A4-402A-9E23-41192525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48E5-A40C-45C1-9DBA-D1BB6E83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F439-0A51-4DC0-A643-D22C0049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1A4F-6C38-442A-8955-DDFC1D56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F48D-3C1E-4D86-BF8A-EC16BBCC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55384-8C0E-4E98-87CE-389314CF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A7F-4410-4F48-A75A-0B0A1274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65FA-BA7E-4D25-83FF-CFBA35C9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40FB-1E0A-4474-9893-9BEC2EAC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AE95-3AA5-4290-B736-78532C5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A616-E283-4E5F-806F-1BDBCBF7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A208-73AC-40A6-90A9-56C962C4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E976-72DC-4008-894B-86C7CEDF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788E-8BD7-493F-9A29-1EE524CD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17D11-F26E-40C2-8769-08817112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4501-D001-46C8-B5B5-978EE094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F481D-C591-40E5-9255-B406450C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6D9-7CEF-419D-9D20-2E26720A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B5E7D-E27F-4CFB-B4A7-C48E5D05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917F-55B9-473C-8BB4-F8018BC2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9BB2-D4A5-48F1-8FD8-BB9C5ECC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CF52-79EC-4050-99B9-DE963C4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97D4-7E63-457A-B89D-B94E7BC3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34A8-89EC-4BEB-BEC9-4E2BEAE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6C9D0-2A61-4883-A1FB-6BDCAF0F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B659-1585-4B40-9EEF-C8912EE0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6A4B-10B9-4E14-B249-931E0331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56D78-65D3-4536-B57B-FAB7A487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C2A-EAC8-43DE-B1E3-F9A86F77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E6E0-EB54-4F84-94BF-080EC774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B50D-2CC2-49AE-838C-CA5D088A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BDCE-6CB6-491C-B6E5-48661E12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D6F5-FD6A-4EA1-867E-464FD026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E543-40DE-41BB-8C1F-E3620E08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0D5C4-EC22-4566-B8A7-87032E6C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43054-4CAE-44AD-8737-B937817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EDFEF-B8C3-4B40-9905-2BBBBBE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5F86-7829-488A-AA9C-C1CFE8F6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37781-5A78-4311-9BDA-D1E48602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9C7-D74D-4568-8B7F-44913CC7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146D4-7024-4C7A-A413-0A3D1C95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65D-48CA-4E4A-BCAA-A35C19A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D75-6880-44FA-93BA-D8F85BF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871-B0D8-47D5-B070-83B87511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204F-C461-4694-8E8E-C6AAF25AD341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F327-46FC-45B3-839A-ACDFDB5EEDD6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A62B-E388-4547-8604-BA13476E82E4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B1BB-11EC-4CCF-9A29-6A7B5E33A0F0}" type="slidenum">
              <a:rPr b="0" lang="en-A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910D-3954-48A5-8136-5752783493C0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7.jpeg"/><Relationship Id="rId6" Type="http://schemas.openxmlformats.org/officeDocument/2006/relationships/slide" Target="slide5.xml"/><Relationship Id="rId7" Type="http://schemas.openxmlformats.org/officeDocument/2006/relationships/image" Target="../media/image7.jpeg"/><Relationship Id="rId8" Type="http://schemas.openxmlformats.org/officeDocument/2006/relationships/slide" Target="slide7.xml"/><Relationship Id="rId9" Type="http://schemas.openxmlformats.org/officeDocument/2006/relationships/image" Target="../media/image7.jpeg"/><Relationship Id="rId10" Type="http://schemas.openxmlformats.org/officeDocument/2006/relationships/slide" Target="slide8.xml"/><Relationship Id="rId11" Type="http://schemas.openxmlformats.org/officeDocument/2006/relationships/image" Target="../media/image7.jpeg"/><Relationship Id="rId12" Type="http://schemas.openxmlformats.org/officeDocument/2006/relationships/slide" Target="slide9.xml"/><Relationship Id="rId13" Type="http://schemas.openxmlformats.org/officeDocument/2006/relationships/image" Target="../media/image7.jpeg"/><Relationship Id="rId14" Type="http://schemas.openxmlformats.org/officeDocument/2006/relationships/slide" Target="slide10.xml"/><Relationship Id="rId15" Type="http://schemas.openxmlformats.org/officeDocument/2006/relationships/image" Target="../media/image7.jpeg"/><Relationship Id="rId16" Type="http://schemas.openxmlformats.org/officeDocument/2006/relationships/slide" Target="slide12.xml"/><Relationship Id="rId17" Type="http://schemas.openxmlformats.org/officeDocument/2006/relationships/image" Target="../media/image7.jpeg"/><Relationship Id="rId18" Type="http://schemas.openxmlformats.org/officeDocument/2006/relationships/slide" Target="slide13.xml"/><Relationship Id="rId19" Type="http://schemas.openxmlformats.org/officeDocument/2006/relationships/image" Target="../media/image7.jpeg"/><Relationship Id="rId20" Type="http://schemas.openxmlformats.org/officeDocument/2006/relationships/slide" Target="slide14.xml"/><Relationship Id="rId21" Type="http://schemas.openxmlformats.org/officeDocument/2006/relationships/image" Target="../media/image8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jpe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1920" y="1206360"/>
            <a:ext cx="6254640" cy="21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4f7dc"/>
                </a:solidFill>
                <a:latin typeface="Trebuchet MS"/>
              </a:rPr>
              <a:t>My name i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485200" cy="738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7929720" y="78588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6"/>
          <p:cNvSpPr/>
          <p:nvPr/>
        </p:nvSpPr>
        <p:spPr>
          <a:xfrm>
            <a:off x="285840" y="642960"/>
            <a:ext cx="7929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iley spent $3.50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nnah spent $3.75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ay spent $3.95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 spent $6.90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on spent $4.75. What would his change be if he paid with a $5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rah spent $7.45. What would her change be if she paid with a $10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2 hot dogs, 3 cream buns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2 Pies, 2 fruit bar, 1 frozen fruit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14200" y="4929120"/>
          <a:ext cx="7858080" cy="1514520"/>
        </p:xfrm>
        <a:graphic>
          <a:graphicData uri="http://schemas.openxmlformats.org/drawingml/2006/table">
            <a:tbl>
              <a:tblPr/>
              <a:tblGrid>
                <a:gridCol w="2341800"/>
                <a:gridCol w="2896920"/>
                <a:gridCol w="2619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t dogs $1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ad Sandwich 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lkshakes $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usage Roll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eam bun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range Drinks $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es $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uit bars 3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ter $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sties $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tato Chip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ozen fruit 5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296" name="TextBox 31"/>
          <p:cNvSpPr/>
          <p:nvPr/>
        </p:nvSpPr>
        <p:spPr>
          <a:xfrm>
            <a:off x="2286000" y="4357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Arial"/>
              </a:rPr>
              <a:t>Canteen Pri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5-Point Star 10"/>
          <p:cNvSpPr/>
          <p:nvPr/>
        </p:nvSpPr>
        <p:spPr>
          <a:xfrm>
            <a:off x="4786200" y="4286160"/>
            <a:ext cx="3143520" cy="2571840"/>
          </a:xfrm>
          <a:custGeom>
            <a:avLst/>
            <a:gdLst>
              <a:gd name="textAreaLeft" fmla="*/ 971280 w 3143520"/>
              <a:gd name="textAreaRight" fmla="*/ 2172240 w 3143520"/>
              <a:gd name="textAreaTop" fmla="*/ 982440 h 2571840"/>
              <a:gd name="textAreaBottom" fmla="*/ 1964880 h 2571840"/>
            </a:gdLst>
            <a:ahLst/>
            <a:rect l="textAreaLeft" t="textAreaTop" r="textAreaRight" b="textAreaBottom"/>
            <a:pathLst>
              <a:path w="3143250" h="2571750">
                <a:moveTo>
                  <a:pt x="3" y="982318"/>
                </a:moveTo>
                <a:lnTo>
                  <a:pt x="1200621" y="982325"/>
                </a:lnTo>
                <a:lnTo>
                  <a:pt x="1571625" y="0"/>
                </a:lnTo>
                <a:lnTo>
                  <a:pt x="1942629" y="982325"/>
                </a:lnTo>
                <a:lnTo>
                  <a:pt x="3143247" y="982318"/>
                </a:lnTo>
                <a:lnTo>
                  <a:pt x="2171922" y="1589421"/>
                </a:lnTo>
                <a:lnTo>
                  <a:pt x="2542944" y="2571741"/>
                </a:lnTo>
                <a:lnTo>
                  <a:pt x="1571625" y="1964629"/>
                </a:lnTo>
                <a:lnTo>
                  <a:pt x="600306" y="2571741"/>
                </a:lnTo>
                <a:lnTo>
                  <a:pt x="971328" y="158942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Isosceles Triangle 8"/>
          <p:cNvSpPr/>
          <p:nvPr/>
        </p:nvSpPr>
        <p:spPr>
          <a:xfrm>
            <a:off x="4500720" y="1071720"/>
            <a:ext cx="3500280" cy="3071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ounded Rectangle 7"/>
          <p:cNvSpPr/>
          <p:nvPr/>
        </p:nvSpPr>
        <p:spPr>
          <a:xfrm>
            <a:off x="500040" y="4143240"/>
            <a:ext cx="3786120" cy="2214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214200" y="1500120"/>
            <a:ext cx="4429080" cy="2357640"/>
          </a:xfrm>
          <a:prstGeom prst="ellipse">
            <a:avLst/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0" y="20160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571680" y="1571760"/>
            <a:ext cx="4143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 following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2.25= ___________ 5c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7.80= ___________ 20c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5.20= ___________20c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35.00= ___________ $5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640.00= ___________ $20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lve the following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.20 x 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.80 x 8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1.70 x 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7.20 ÷ 8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6.30 ÷ 9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4929120" y="235728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is the fra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½ of $7.2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¼ of $28.0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/10 of $100.0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/10 of $20.00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¾ of $1600.0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9"/>
          <p:cNvSpPr/>
          <p:nvPr/>
        </p:nvSpPr>
        <p:spPr>
          <a:xfrm>
            <a:off x="5143680" y="5000760"/>
            <a:ext cx="27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re $160.00 between Corey and Abbey, so that Corey has 3 times as much as Abb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ounded Rectangle 8"/>
          <p:cNvSpPr/>
          <p:nvPr/>
        </p:nvSpPr>
        <p:spPr>
          <a:xfrm>
            <a:off x="357120" y="5000760"/>
            <a:ext cx="3786120" cy="1357200"/>
          </a:xfrm>
          <a:prstGeom prst="roundRect">
            <a:avLst>
              <a:gd name="adj" fmla="val 16667"/>
            </a:avLst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4286160" y="4214880"/>
            <a:ext cx="3643560" cy="1357200"/>
          </a:xfrm>
          <a:prstGeom prst="roundRect">
            <a:avLst>
              <a:gd name="adj" fmla="val 16667"/>
            </a:avLst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09440" y="139680"/>
            <a:ext cx="4694400" cy="731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/>
          <p:cNvSpPr/>
          <p:nvPr/>
        </p:nvSpPr>
        <p:spPr>
          <a:xfrm>
            <a:off x="155520" y="-770040"/>
            <a:ext cx="14763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428760" y="857160"/>
            <a:ext cx="742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nd the average for each of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4 and 148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93 and 11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92, 30 and 6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84, 40 and 4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7, 4, 18, and 9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4, 12, 16, 24, 10 and 8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6, 12, 24 and 24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7, 22, 94, 10 and 12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5, 20, 20, 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4, 31, 25, 13 and 12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4286160" y="435780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verage age of five children is 6. If four of their ages are 7, 6, 4 and 5, what is the age of the fifth chi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357120" y="507204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tch worked on 5 Saturdays and earned $15.40, $18.20, $20, 416.60 and $19.20. What was her average earning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14200" y="928440"/>
            <a:ext cx="7786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im works at the 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hocolate factory 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has to clock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in 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ut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work each day. Fill in the incomplete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timecard 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low and answer the following question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any hours did Kim work this week?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40 hours work Kim receives $11.30 per hour. All time over 40 hours pays $16.70 per hour. What salary did Kim receive this week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uch did Kim make at the overtime rat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uch did Kim make at the regular rat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9"/>
          <p:cNvSpPr/>
          <p:nvPr/>
        </p:nvSpPr>
        <p:spPr>
          <a:xfrm>
            <a:off x="357120" y="57150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allenge Question: </a:t>
            </a:r>
            <a:r>
              <a:rPr b="0" lang="en-AU" sz="1800" spc="-1" strike="noStrike">
                <a:solidFill>
                  <a:srgbClr val="0070c0"/>
                </a:solidFill>
                <a:latin typeface="Arial"/>
              </a:rPr>
              <a:t>A pendulum swings 15 times in 30 seconds. How many times will it swing in one hour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28760" y="3714840"/>
          <a:ext cx="7143480" cy="1854000"/>
        </p:xfrm>
        <a:graphic>
          <a:graphicData uri="http://schemas.openxmlformats.org/drawingml/2006/table">
            <a:tbl>
              <a:tblPr/>
              <a:tblGrid>
                <a:gridCol w="1714320"/>
                <a:gridCol w="1143000"/>
                <a:gridCol w="1071720"/>
                <a:gridCol w="1143000"/>
                <a:gridCol w="1071360"/>
                <a:gridCol w="100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3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.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.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.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.1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.4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.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ME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VER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318" name="Picture 10" descr="c:\Users\08760829\AppData\Local\Microsoft\Windows\Temporary Internet Files\Content.IE5\KOIOT0NA\MC900351894[1].wmf"/>
          <p:cNvPicPr/>
          <p:nvPr/>
        </p:nvPicPr>
        <p:blipFill>
          <a:blip r:embed="rId3"/>
          <a:stretch/>
        </p:blipFill>
        <p:spPr>
          <a:xfrm>
            <a:off x="7500960" y="5715000"/>
            <a:ext cx="6001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848052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2214720" y="1143000"/>
          <a:ext cx="4186080" cy="4537080"/>
        </p:xfrm>
        <a:graphic>
          <a:graphicData uri="http://schemas.openxmlformats.org/drawingml/2006/table">
            <a:tbl>
              <a:tblPr/>
              <a:tblGrid>
                <a:gridCol w="2114280"/>
                <a:gridCol w="207180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 for ter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21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358120" y="142920"/>
            <a:ext cx="6206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google.lk/images?q=tbn:sfoaNe1Gr_bofM::www.uis.edu/studentaffairs/students/images/desk_calendar_1.gif&amp;h=94&amp;w=94&amp;usg=__wyHRRsORN8yqRXjwTh0oP5oolgA=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google.lk/images?q=tbn:sfoaNe1Gr_bofM::www.uis.edu/studentaffairs/students/images/desk_calendar_1.gif&amp;h=94&amp;w=94&amp;usg=__wyHRRsORN8yqRXjwTh0oP5oolgA=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google.lk/images?q=tbn:sfoaNe1Gr_bofM::www.uis.edu/studentaffairs/students/images/desk_calendar_1.gif&amp;h=94&amp;w=94&amp;usg=__wyHRRsORN8yqRXjwTh0oP5oolgA=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google.lk/images?q=tbn:sfoaNe1Gr_bofM::www.uis.edu/studentaffairs/students/images/desk_calendar_1.gif&amp;h=94&amp;w=94&amp;usg=__wyHRRsORN8yqRXjwTh0oP5oolgA=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google.lk/images?q=tbn:sfoaNe1Gr_bofM::www.uis.edu/studentaffairs/students/images/desk_calendar_1.gif&amp;h=94&amp;w=94&amp;usg=__wyHRRsORN8yqRXjwTh0oP5oolgA=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google.lk/images?q=tbn:sfoaNe1Gr_bofM::www.uis.edu/studentaffairs/students/images/desk_calendar_1.gif&amp;h=94&amp;w=94&amp;usg=__wyHRRsORN8yqRXjwTh0oP5oolgA=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google.lk/images?q=tbn:sfoaNe1Gr_bofM::www.uis.edu/studentaffairs/students/images/desk_calendar_1.gif&amp;h=94&amp;w=94&amp;usg=__wyHRRsORN8yqRXjwTh0oP5oolgA=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google.lk/images?q=tbn:sfoaNe1Gr_bofM::www.uis.edu/studentaffairs/students/images/desk_calendar_1.gif&amp;h=94&amp;w=94&amp;usg=__wyHRRsORN8yqRXjwTh0oP5oolgA=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www.google.lk/images?q=tbn:sfoaNe1Gr_bofM::www.uis.edu/studentaffairs/students/images/desk_calendar_1.gif&amp;h=94&amp;w=94&amp;usg=__wyHRRsORN8yqRXjwTh0oP5oolgA=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http://www.google.lk/images?q=tbn:fLsHEJNrLc7EDM::media1.behance.com/article_images/5718_1_results.gif&amp;h=94&amp;w=125&amp;usg=__TLOEutJG8_TWgzdz9_ouANkPjcA=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ttp://www.google.lk/images?q=tbn:sfoaNe1Gr_bofM::www.uis.edu/studentaffairs/students/images/desk_calendar_1.gif&amp;h=94&amp;w=94&amp;usg=__wyHRRsORN8yqRXjwTh0oP5oolgA="/>
          <p:cNvPicPr/>
          <p:nvPr/>
        </p:nvPicPr>
        <p:blipFill>
          <a:blip r:embed="rId22"/>
          <a:stretch/>
        </p:blipFill>
        <p:spPr>
          <a:xfrm>
            <a:off x="6715080" y="357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1"/>
          <p:cNvSpPr/>
          <p:nvPr/>
        </p:nvSpPr>
        <p:spPr>
          <a:xfrm>
            <a:off x="6429240" y="13572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llen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6429240" y="31431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llen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://www.google.lk/images?q=tbn:sfoaNe1Gr_bofM::www.uis.edu/studentaffairs/students/images/desk_calendar_1.gif&amp;h=94&amp;w=94&amp;usg=__wyHRRsORN8yqRXjwTh0oP5oolgA="/>
          <p:cNvPicPr/>
          <p:nvPr/>
        </p:nvPicPr>
        <p:blipFill>
          <a:blip r:embed="rId23"/>
          <a:stretch/>
        </p:blipFill>
        <p:spPr>
          <a:xfrm>
            <a:off x="6786720" y="2000160"/>
            <a:ext cx="7855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3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6"/>
          <p:cNvSpPr/>
          <p:nvPr/>
        </p:nvSpPr>
        <p:spPr>
          <a:xfrm>
            <a:off x="428760" y="57150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oday I was successful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C:\Program Files\Microsoft Office\Media\CntCD1\Animated\j0205402.gif"/>
          <p:cNvPicPr/>
          <p:nvPr/>
        </p:nvPicPr>
        <p:blipFill>
          <a:blip r:embed="rId3"/>
          <a:stretch/>
        </p:blipFill>
        <p:spPr>
          <a:xfrm>
            <a:off x="5929200" y="0"/>
            <a:ext cx="201924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500040" y="1357200"/>
          <a:ext cx="6858000" cy="7923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00040" y="2357280"/>
          <a:ext cx="6858000" cy="7923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52" name="TextBox 13"/>
          <p:cNvSpPr/>
          <p:nvPr/>
        </p:nvSpPr>
        <p:spPr>
          <a:xfrm>
            <a:off x="714240" y="10000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se number gri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357120" y="3286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se squares so that each row, column and diagonal adds up to the same 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00040" y="4143240"/>
          <a:ext cx="2500200" cy="1371600"/>
        </p:xfrm>
        <a:graphic>
          <a:graphicData uri="http://schemas.openxmlformats.org/drawingml/2006/table">
            <a:tbl>
              <a:tblPr/>
              <a:tblGrid>
                <a:gridCol w="928800"/>
                <a:gridCol w="785880"/>
                <a:gridCol w="78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d7ec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d7ec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d7ec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572000" y="4143240"/>
          <a:ext cx="2500200" cy="1371600"/>
        </p:xfrm>
        <a:graphic>
          <a:graphicData uri="http://schemas.openxmlformats.org/drawingml/2006/table">
            <a:tbl>
              <a:tblPr/>
              <a:tblGrid>
                <a:gridCol w="928800"/>
                <a:gridCol w="785880"/>
                <a:gridCol w="78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36360" y="28116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42920" y="107172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olume= Length x Width x Height. Don’t forget to complete your answer with the correct measurement symbo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5cm, H= 4cm, W=4cm= _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25cm, H= 10cm, W=4cm= 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75cm, H= 44cm, W=3cm= 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10cm, H= 10cm, W=10cm= 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nd the missing value to complete the equa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60cm3  L= 10cm, W=3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=  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28cm3  L= 2cm, W=2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=  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750cm3  L= 10cm, H=15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=  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500cm3  L= 25cm, W=2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=  _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150cm3  L= 3cm, H=5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 _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285840" y="57150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Arial"/>
              </a:rPr>
              <a:t>Today I had a problem trying to 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c:\Users\08760829\AppData\Local\Microsoft\Windows\Temporary Internet Files\Content.IE5\XM06B01Y\MC900290936[1].wmf"/>
          <p:cNvPicPr/>
          <p:nvPr/>
        </p:nvPicPr>
        <p:blipFill>
          <a:blip r:embed="rId3"/>
          <a:stretch/>
        </p:blipFill>
        <p:spPr>
          <a:xfrm>
            <a:off x="6072120" y="1500120"/>
            <a:ext cx="1681200" cy="1441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c:\Users\08760829\AppData\Local\Microsoft\Windows\Temporary Internet Files\Content.IE5\XM06B01Y\MC900290936[1].wmf"/>
          <p:cNvPicPr/>
          <p:nvPr/>
        </p:nvPicPr>
        <p:blipFill>
          <a:blip r:embed="rId4"/>
          <a:stretch/>
        </p:blipFill>
        <p:spPr>
          <a:xfrm>
            <a:off x="7143840" y="2357280"/>
            <a:ext cx="16812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36360" y="208080"/>
            <a:ext cx="8485200" cy="736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5429160" y="32148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0a0"/>
                </a:solidFill>
                <a:latin typeface="Arial"/>
              </a:rPr>
              <a:t>I think I am becoming an expert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8760" y="928800"/>
          <a:ext cx="4905360" cy="4079880"/>
        </p:xfrm>
        <a:graphic>
          <a:graphicData uri="http://schemas.openxmlformats.org/drawingml/2006/table">
            <a:tbl>
              <a:tblPr/>
              <a:tblGrid>
                <a:gridCol w="2857320"/>
                <a:gridCol w="2048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hat is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answer i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% of $2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% of $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% of $3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% of $4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% of $15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5% of 5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% of 1 t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% of $2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% of 3min and 10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5% of 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66" name="Picture 76" descr="c:\Users\08760829\AppData\Local\Microsoft\Windows\Temporary Internet Files\Content.IE5\KOIOT0NA\MC900282188[1].wmf"/>
          <p:cNvPicPr/>
          <p:nvPr/>
        </p:nvPicPr>
        <p:blipFill>
          <a:blip r:embed="rId3"/>
          <a:stretch/>
        </p:blipFill>
        <p:spPr>
          <a:xfrm>
            <a:off x="5572080" y="428760"/>
            <a:ext cx="2143080" cy="239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214200" y="5429160"/>
          <a:ext cx="7858080" cy="1036800"/>
        </p:xfrm>
        <a:graphic>
          <a:graphicData uri="http://schemas.openxmlformats.org/drawingml/2006/table">
            <a:tbl>
              <a:tblPr/>
              <a:tblGrid>
                <a:gridCol w="928800"/>
                <a:gridCol w="714240"/>
                <a:gridCol w="714600"/>
                <a:gridCol w="571320"/>
                <a:gridCol w="642960"/>
                <a:gridCol w="928800"/>
                <a:gridCol w="785880"/>
                <a:gridCol w="785880"/>
                <a:gridCol w="785520"/>
                <a:gridCol w="100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36360" y="208080"/>
            <a:ext cx="84852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1214280" y="2500200"/>
          <a:ext cx="5286600" cy="2530440"/>
        </p:xfrm>
        <a:graphic>
          <a:graphicData uri="http://schemas.openxmlformats.org/drawingml/2006/table">
            <a:tbl>
              <a:tblPr/>
              <a:tblGrid>
                <a:gridCol w="1000440"/>
                <a:gridCol w="928440"/>
                <a:gridCol w="1214640"/>
                <a:gridCol w="1143000"/>
                <a:gridCol w="1000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 and 5te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70" name="TextBox 6"/>
          <p:cNvSpPr/>
          <p:nvPr/>
        </p:nvSpPr>
        <p:spPr>
          <a:xfrm>
            <a:off x="500040" y="114300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2d050"/>
                </a:solidFill>
                <a:latin typeface="Arial"/>
              </a:rPr>
              <a:t>Fill in the gaps to complete the table. Good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55600" y="3538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85840" y="99972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ollowing these instructions to test your number fact skill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the </a:t>
            </a:r>
            <a:r>
              <a:rPr b="0" lang="en-AU" sz="2000" spc="-1" strike="noStrike">
                <a:solidFill>
                  <a:srgbClr val="ffc000"/>
                </a:solidFill>
                <a:latin typeface="Andalus"/>
                <a:ea typeface="Andalus"/>
              </a:rPr>
              <a:t>Maths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button in </a:t>
            </a:r>
            <a:r>
              <a:rPr b="0" lang="en-AU" sz="2000" spc="-1" strike="noStrike">
                <a:solidFill>
                  <a:srgbClr val="0070c0"/>
                </a:solidFill>
                <a:latin typeface="Andalus"/>
                <a:ea typeface="Andalus"/>
              </a:rPr>
              <a:t>Edu 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ux of Math Command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lay Alone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lect your play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game will star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e how far you can go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ndalus"/>
                <a:ea typeface="Andalus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285840" y="528624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c:\Users\08760829\AppData\Local\Microsoft\Windows\Temporary Internet Files\Content.IE5\KOIOT0NA\MC900052604[1].wmf"/>
          <p:cNvPicPr/>
          <p:nvPr/>
        </p:nvPicPr>
        <p:blipFill>
          <a:blip r:embed="rId3"/>
          <a:stretch/>
        </p:blipFill>
        <p:spPr>
          <a:xfrm>
            <a:off x="7358040" y="4786200"/>
            <a:ext cx="1322280" cy="1812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c:\Users\08760829\AppData\Local\Microsoft\Windows\Temporary Internet Files\Content.IE5\XM06B01Y\MC900057449[1].wmf"/>
          <p:cNvPicPr/>
          <p:nvPr/>
        </p:nvPicPr>
        <p:blipFill>
          <a:blip r:embed="rId4"/>
          <a:stretch/>
        </p:blipFill>
        <p:spPr>
          <a:xfrm>
            <a:off x="1428840" y="4857840"/>
            <a:ext cx="820800" cy="17287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2428920" y="52862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enjoyed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7755120" cy="736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286840" y="214200"/>
            <a:ext cx="714240" cy="9921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3929040" y="1071720"/>
            <a:ext cx="492912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ich type of music was most popu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ich type of music was second most popu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List the music types in order of popularity from least popular to most popul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is your estimation of the percentage of people who preferred rock mus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can you say about the popularity of classical music compared to folk mus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is your estimate of the percentage of people who preferred all of the other types of music except rock and pop mus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is your estimate of the percentage of people who preferred pop an rock music combin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ich 2 types of music were equal in popularit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True or False? More people like pop music than rock and classical music combin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True or False? More people like rock music than folk, classical and country music combined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285840" y="528624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en looking at graphs its important to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hart 8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3786480" cy="4286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C:\Program Files\Microsoft Office\Media\CntCD1\Animated\j0213485.gif"/>
          <p:cNvPicPr/>
          <p:nvPr/>
        </p:nvPicPr>
        <p:blipFill>
          <a:blip r:embed="rId4"/>
          <a:stretch/>
        </p:blipFill>
        <p:spPr>
          <a:xfrm>
            <a:off x="3286080" y="928800"/>
            <a:ext cx="695520" cy="1266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C:\Program Files\Microsoft Office\Media\CntCD1\Animated\j0213485.gif"/>
          <p:cNvPicPr/>
          <p:nvPr/>
        </p:nvPicPr>
        <p:blipFill>
          <a:blip r:embed="rId5"/>
          <a:stretch/>
        </p:blipFill>
        <p:spPr>
          <a:xfrm>
            <a:off x="357120" y="928800"/>
            <a:ext cx="695520" cy="1266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C:\Program Files\Microsoft Office\Media\CntCD1\Animated\j0213485.gif"/>
          <p:cNvPicPr/>
          <p:nvPr/>
        </p:nvPicPr>
        <p:blipFill>
          <a:blip r:embed="rId6"/>
          <a:stretch/>
        </p:blipFill>
        <p:spPr>
          <a:xfrm>
            <a:off x="3286080" y="4214880"/>
            <a:ext cx="695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c:\Users\08760829\AppData\Local\Microsoft\Windows\Temporary Internet Files\Content.IE5\XM06B01Y\MP910216664[1].jpg"/>
          <p:cNvPicPr/>
          <p:nvPr/>
        </p:nvPicPr>
        <p:blipFill>
          <a:blip r:embed="rId1"/>
          <a:stretch/>
        </p:blipFill>
        <p:spPr>
          <a:xfrm>
            <a:off x="6215040" y="214200"/>
            <a:ext cx="1819440" cy="1214640"/>
          </a:xfrm>
          <a:prstGeom prst="rect">
            <a:avLst/>
          </a:prstGeom>
          <a:ln w="0">
            <a:noFill/>
          </a:ln>
        </p:spPr>
      </p:pic>
      <p:pic>
        <p:nvPicPr>
          <p:cNvPr id="286" name="Title 1" descr=""/>
          <p:cNvPicPr/>
          <p:nvPr/>
        </p:nvPicPr>
        <p:blipFill>
          <a:blip r:embed="rId2"/>
          <a:stretch/>
        </p:blipFill>
        <p:spPr>
          <a:xfrm>
            <a:off x="182520" y="420840"/>
            <a:ext cx="8480520" cy="73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500040" y="1143000"/>
            <a:ext cx="7786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the following counting problems by filling in the missing number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54, 159, _____, 169, 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661, 656, 651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737, 727, 717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33, 666, _____, 2664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12, 424, 848, _____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914, 8914, _____, 18 914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497, 5497, 3497, _____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6394, 6284, 6174, _____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717, _____, 757, 777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7 336, _____, 7336, 2336, _____, _____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8" name="Picture 76" descr="http://t1.gstatic.com/images?q=tbn:kszp1p0xUM-35M:http://www.ene.gov.on.ca/en/myenvironment/house-small.jpg"/>
          <p:cNvPicPr/>
          <p:nvPr/>
        </p:nvPicPr>
        <p:blipFill>
          <a:blip r:embed="rId3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4"/>
          <p:cNvSpPr/>
          <p:nvPr/>
        </p:nvSpPr>
        <p:spPr>
          <a:xfrm>
            <a:off x="785880" y="53578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to practise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429240" y="1643040"/>
          <a:ext cx="547920" cy="4303800"/>
        </p:xfrm>
        <a:graphic>
          <a:graphicData uri="http://schemas.openxmlformats.org/drawingml/2006/table">
            <a:tbl>
              <a:tblPr/>
              <a:tblGrid>
                <a:gridCol w="5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7358040" y="1687680"/>
          <a:ext cx="633600" cy="5170320"/>
        </p:xfrm>
        <a:graphic>
          <a:graphicData uri="http://schemas.openxmlformats.org/drawingml/2006/table">
            <a:tbl>
              <a:tblPr/>
              <a:tblGrid>
                <a:gridCol w="633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Education</cp:lastModifiedBy>
  <dcterms:modified xsi:type="dcterms:W3CDTF">2010-09-12T10:29:33Z</dcterms:modified>
  <cp:revision>104</cp:revision>
  <dc:subject/>
  <dc:title>Weekly Mathematics Revision Activities</dc:title>
</cp:coreProperties>
</file>