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0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7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21.gif" ContentType="image/gif"/>
  <Override PartName="/ppt/media/image14.png" ContentType="image/png"/>
  <Override PartName="/ppt/media/image16.wmf" ContentType="image/x-wmf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6E9-B80A-4528-A769-1DBA0957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6A4-BDFC-4B50-9849-6F36E6B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8FA-23A5-4973-AA88-1CDF104F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C71-96B3-4413-B2DA-294F65FC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E166-C1C5-44B3-B44F-0D57D561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633-9D91-4A8E-AEBD-7FA8C7D6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569-F6BD-4E9E-9506-70D5911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184-7374-4F34-AFD4-C3FB1A2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DC8-BD5C-4F00-AC69-EB764C55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A32-7C86-42EB-A85C-04F3BFA7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8D1-30C3-452E-AB27-2EECC91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10D-7BAA-4C3A-A0B4-50A691F6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870-15D2-45BD-8B87-5998549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96C6-1A7C-48FB-89F1-343FB32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7A7D-57FC-4323-A06C-244ECBE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4BFA-83EB-4741-8C78-8D98E700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2F46-B54B-4C55-A34C-E0ECC00E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1811-61E1-4A48-8F62-58EB3D6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0F16-62CE-4C8E-BB5B-77AB3E0B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B407-88C5-413E-9C83-F7179578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60D7-CD2C-4CE8-A25F-70F7598D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DAF5-F168-49C9-8C7D-9E8D6365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75A-E3B1-4CAF-A09E-204B418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1153-674A-4E33-ADD0-71BAB70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E5C1-9B83-4CEC-AA8B-15D09F9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3302-0467-4D59-A4B2-C9E7212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2890-F3BC-43E0-B62E-14C62F3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1365-A1D5-4BD3-9039-C77AF88E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AF17-905C-41D6-8F83-7D25693F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AC39-3ED3-4264-8AFA-992480C5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1BB2-39EA-46B3-AEE9-2691828A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7AEF-9B22-48B1-9B8A-D9AB0E6E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4107-6D77-4BA1-8A11-3B03BD76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559-0B41-49CE-8258-FDB8AF40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A821-974E-4FEB-B551-54689C2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91E3-694B-4135-A32F-9623CB8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DCD1-63BF-4924-8EC7-D936305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38F6-EBAF-4BED-AF16-9362729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8C6F-E84B-43FA-8328-B3F2EB5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E41E-0B57-4E9F-A93A-2EB922E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750A-F8AC-4326-9A52-FE7C1EA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A1D3-2452-4BD7-B97D-4E8C5DEE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F447-4B69-4F4B-950D-39258501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3682-CC5F-4B2C-9E23-B6A592E4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F52-9B2E-4246-B94C-23A0C49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0BA2-A7A8-4F70-AFAC-E24547A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0E98-FC73-4D35-B32C-6BB17822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AE29-BAEA-49B4-8CF9-7E595FB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D91D-F57F-4555-8EA2-077866A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DD7F-717A-47C2-8C27-9432A678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2E51-366F-4A05-A447-F306716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4B91-984E-4292-A76F-5022167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6546-71CB-4FB1-B4C9-CDC4BB8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98687-715C-41E7-A496-74B7040D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EE97-8503-4545-B6BD-F6B640AE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936-6745-48DA-9342-1488716F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1894-6519-4BC2-9886-427B23E8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0A1-6B08-48D1-BFDC-B1B7E12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919-67EC-47C8-81F6-935C41D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820-3008-4742-B63A-B472FA7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441-12C6-4A5B-89A5-B20EAE7F5E81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0D3-6181-4A4C-81AF-FA08BA1BD0BC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2AE3-5697-469B-AEAF-E7D545F93DE2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41C-816F-4D29-85EC-BC4634B5BBA5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D06-BA75-4F2B-B0C8-CBE4227A4091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slide" Target="slide11.xml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736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85840" y="85716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+ ¼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18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¼ of 16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¾ - ¼ 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3 – 1/3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a half of 50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http://etc.usf.edu/clipart/40500/40529/Pie_01-03a_40529_md.gif"/>
          <p:cNvPicPr/>
          <p:nvPr/>
        </p:nvPicPr>
        <p:blipFill>
          <a:blip r:embed="rId3"/>
          <a:stretch/>
        </p:blipFill>
        <p:spPr>
          <a:xfrm>
            <a:off x="5357880" y="714240"/>
            <a:ext cx="2557440" cy="2789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072040" y="571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2/3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0" descr="http://etc.usf.edu/clipart/40500/40551/Pie_01-05a_40551_md.gif"/>
          <p:cNvPicPr/>
          <p:nvPr/>
        </p:nvPicPr>
        <p:blipFill>
          <a:blip r:embed="rId4"/>
          <a:stretch/>
        </p:blipFill>
        <p:spPr>
          <a:xfrm>
            <a:off x="5572080" y="3990960"/>
            <a:ext cx="2629080" cy="28670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500800" y="38577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9. Show 3/5 of this shap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http://vels.vcaa.vic.edu.au/images/content/samples/maths/wall_stimulus.jpg"/>
          <p:cNvPicPr/>
          <p:nvPr/>
        </p:nvPicPr>
        <p:blipFill>
          <a:blip r:embed="rId5"/>
          <a:stretch/>
        </p:blipFill>
        <p:spPr>
          <a:xfrm>
            <a:off x="214200" y="3929040"/>
            <a:ext cx="523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1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hou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30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1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1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the time at Midday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857920" y="1571760"/>
            <a:ext cx="2071800" cy="18144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http://static-p4.fotolia.com/jpg/00/12/40/09/400_F_12400955_woCFVECltdcQBq32K3kqkqxaL0fsAOPx.jpg"/>
          <p:cNvPicPr/>
          <p:nvPr/>
        </p:nvPicPr>
        <p:blipFill>
          <a:blip r:embed="rId4"/>
          <a:stretch/>
        </p:blipFill>
        <p:spPr>
          <a:xfrm>
            <a:off x="5857920" y="4357800"/>
            <a:ext cx="2023920" cy="2023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8"/>
          <p:cNvSpPr/>
          <p:nvPr/>
        </p:nvSpPr>
        <p:spPr>
          <a:xfrm>
            <a:off x="5000760" y="37148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20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3000240" y="1714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5 add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plu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16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times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 minus 6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, how many 3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less than 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0 divided by 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6" descr="C:\Program Files\Microsoft Office\Media\CntCD1\ClipArt3\j0237283.wmf"/>
          <p:cNvPicPr/>
          <p:nvPr/>
        </p:nvPicPr>
        <p:blipFill>
          <a:blip r:embed="rId3"/>
          <a:stretch/>
        </p:blipFill>
        <p:spPr>
          <a:xfrm>
            <a:off x="214200" y="1071720"/>
            <a:ext cx="2738520" cy="19746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28760" y="50720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2876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haroni"/>
                <a:ea typeface="Aharoni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cm + 3cm +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– 9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1m and 60cm the same or different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286240" y="1500120"/>
            <a:ext cx="2714760" cy="3689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28760" y="5786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57200" y="642960"/>
          <a:ext cx="6429600" cy="5084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857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5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310320" y="59292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0"/>
          <p:cNvSpPr/>
          <p:nvPr/>
        </p:nvSpPr>
        <p:spPr>
          <a:xfrm>
            <a:off x="3929040" y="1071720"/>
            <a:ext cx="492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days did they record resu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y do you think that not all days were recor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, 8, 12, 16, _____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8, 24, 20, _____ 12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, 21, 25, 29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1, 61, 71, _____, 91, 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, 34, _____ , 24, 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0, 37, 34, _____ , 2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2, 54, 56, 58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3, 34, 45, 56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8, 28, _____ , 48, 58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6, 65, 54, 43, _____ , _____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480520" cy="738360"/>
          </a:xfrm>
          <a:prstGeom prst="rect">
            <a:avLst/>
          </a:prstGeom>
          <a:ln w="0">
            <a:noFill/>
          </a:ln>
        </p:spPr>
      </p:pic>
      <p:sp>
        <p:nvSpPr>
          <p:cNvPr id="277" name="7-Point Star 8"/>
          <p:cNvSpPr/>
          <p:nvPr/>
        </p:nvSpPr>
        <p:spPr>
          <a:xfrm>
            <a:off x="357120" y="478620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278604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571680" y="928800"/>
            <a:ext cx="70722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tch each number sentence with an answer from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is 5 bunches of bananas if they are $2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for 5 pencils if they cost 30c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the cost of 3 tickets at $6.00 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my change from $5.00 if I spend $3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d if I bought 1 apple for 50c, 1 loaf of bread for $1.50 and butter for $2.5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 bought 5 items for $30.00, how much was each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785880" y="51436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7-Point Star 19"/>
          <p:cNvSpPr/>
          <p:nvPr/>
        </p:nvSpPr>
        <p:spPr>
          <a:xfrm>
            <a:off x="185724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-Point Star 20"/>
          <p:cNvSpPr/>
          <p:nvPr/>
        </p:nvSpPr>
        <p:spPr>
          <a:xfrm>
            <a:off x="3143160" y="5072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-Point Star 21"/>
          <p:cNvSpPr/>
          <p:nvPr/>
        </p:nvSpPr>
        <p:spPr>
          <a:xfrm>
            <a:off x="4286160" y="3929040"/>
            <a:ext cx="1357560" cy="128592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-Point Star 22"/>
          <p:cNvSpPr/>
          <p:nvPr/>
        </p:nvSpPr>
        <p:spPr>
          <a:xfrm>
            <a:off x="5643720" y="5214960"/>
            <a:ext cx="1357200" cy="1285920"/>
          </a:xfrm>
          <a:custGeom>
            <a:avLst/>
            <a:gdLst>
              <a:gd name="textAreaLeft" fmla="*/ 302040 w 1357200"/>
              <a:gd name="textAreaRight" fmla="*/ 1055160 w 1357200"/>
              <a:gd name="textAreaTop" fmla="*/ 254520 h 1285920"/>
              <a:gd name="textAreaBottom" fmla="*/ 968400 h 1285920"/>
            </a:gdLst>
            <a:ahLst/>
            <a:rect l="textAreaLeft" t="textAreaTop" r="textAreaRight" b="textAreaBottom"/>
            <a:pathLst>
              <a:path w="1357312" h="1285875">
                <a:moveTo>
                  <a:pt x="-4" y="826955"/>
                </a:moveTo>
                <a:lnTo>
                  <a:pt x="209010" y="572272"/>
                </a:lnTo>
                <a:lnTo>
                  <a:pt x="134415" y="254684"/>
                </a:lnTo>
                <a:lnTo>
                  <a:pt x="469646" y="254685"/>
                </a:lnTo>
                <a:lnTo>
                  <a:pt x="678656" y="0"/>
                </a:lnTo>
                <a:lnTo>
                  <a:pt x="887666" y="254685"/>
                </a:lnTo>
                <a:lnTo>
                  <a:pt x="1222897" y="254684"/>
                </a:lnTo>
                <a:lnTo>
                  <a:pt x="1148302" y="572272"/>
                </a:lnTo>
                <a:lnTo>
                  <a:pt x="1357316" y="826955"/>
                </a:lnTo>
                <a:lnTo>
                  <a:pt x="1055281" y="968294"/>
                </a:lnTo>
                <a:lnTo>
                  <a:pt x="980685" y="1285882"/>
                </a:lnTo>
                <a:lnTo>
                  <a:pt x="678656" y="1144541"/>
                </a:lnTo>
                <a:lnTo>
                  <a:pt x="376627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-Point Star 23"/>
          <p:cNvSpPr/>
          <p:nvPr/>
        </p:nvSpPr>
        <p:spPr>
          <a:xfrm>
            <a:off x="6572160" y="4000680"/>
            <a:ext cx="1357560" cy="1285560"/>
          </a:xfrm>
          <a:custGeom>
            <a:avLst/>
            <a:gdLst>
              <a:gd name="textAreaLeft" fmla="*/ 302040 w 1357560"/>
              <a:gd name="textAreaRight" fmla="*/ 1055520 w 1357560"/>
              <a:gd name="textAreaTop" fmla="*/ 254520 h 1285560"/>
              <a:gd name="textAreaBottom" fmla="*/ 968040 h 1285560"/>
            </a:gdLst>
            <a:ahLst/>
            <a:rect l="textAreaLeft" t="textAreaTop" r="textAreaRight" b="textAreaBottom"/>
            <a:pathLst>
              <a:path w="1357313" h="1285875">
                <a:moveTo>
                  <a:pt x="-4" y="826955"/>
                </a:moveTo>
                <a:lnTo>
                  <a:pt x="209010" y="572272"/>
                </a:lnTo>
                <a:lnTo>
                  <a:pt x="134416" y="254684"/>
                </a:lnTo>
                <a:lnTo>
                  <a:pt x="469646" y="254685"/>
                </a:lnTo>
                <a:lnTo>
                  <a:pt x="678657" y="0"/>
                </a:lnTo>
                <a:lnTo>
                  <a:pt x="887667" y="254685"/>
                </a:lnTo>
                <a:lnTo>
                  <a:pt x="1222897" y="254684"/>
                </a:lnTo>
                <a:lnTo>
                  <a:pt x="1148303" y="572272"/>
                </a:lnTo>
                <a:lnTo>
                  <a:pt x="1357317" y="826955"/>
                </a:lnTo>
                <a:lnTo>
                  <a:pt x="1055282" y="968294"/>
                </a:lnTo>
                <a:lnTo>
                  <a:pt x="980685" y="1285882"/>
                </a:lnTo>
                <a:lnTo>
                  <a:pt x="678657" y="1144541"/>
                </a:lnTo>
                <a:lnTo>
                  <a:pt x="376628" y="1285882"/>
                </a:lnTo>
                <a:lnTo>
                  <a:pt x="302031" y="968294"/>
                </a:lnTo>
                <a:close/>
              </a:path>
            </a:pathLst>
          </a:cu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535788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0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292896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6"/>
          <p:cNvSpPr/>
          <p:nvPr/>
        </p:nvSpPr>
        <p:spPr>
          <a:xfrm>
            <a:off x="1500120" y="428616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8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6286680" y="4286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4071960" y="4214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$4.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1:21:33Z</dcterms:modified>
  <cp:revision>65</cp:revision>
  <dc:subject/>
  <dc:title>Weekly Mathematics Revision Activities</dc:title>
</cp:coreProperties>
</file>