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23.png" ContentType="image/png"/>
  <Override PartName="/ppt/media/image13.jpeg" ContentType="image/jpeg"/>
  <Override PartName="/ppt/media/image17.wmf" ContentType="image/x-wmf"/>
  <Override PartName="/ppt/media/image9.png" ContentType="image/png"/>
  <Override PartName="/ppt/media/image10.jpeg" ContentType="image/jpeg"/>
  <Override PartName="/ppt/media/image14.png" ContentType="image/png"/>
  <Override PartName="/ppt/media/image11.gif" ContentType="image/gif"/>
  <Override PartName="/ppt/media/image12.png" ContentType="image/png"/>
  <Override PartName="/ppt/media/image30.jpeg" ContentType="image/jpeg"/>
  <Override PartName="/ppt/media/image28.png" ContentType="image/png"/>
  <Override PartName="/ppt/media/image7.jpeg" ContentType="image/jpeg"/>
  <Override PartName="/ppt/media/image6.png" ContentType="image/png"/>
  <Override PartName="/ppt/media/image4.jpeg" ContentType="image/jpeg"/>
  <Override PartName="/ppt/media/image22.gif" ContentType="image/gif"/>
  <Override PartName="/ppt/media/image25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15.wmf" ContentType="image/x-wmf"/>
  <Override PartName="/ppt/media/image16.png" ContentType="image/png"/>
  <Override PartName="/ppt/media/image20.png" ContentType="image/png"/>
  <Override PartName="/ppt/media/image2.jpeg" ContentType="image/jpeg"/>
  <Override PartName="/ppt/media/image18.wmf" ContentType="image/x-wmf"/>
  <Override PartName="/ppt/media/image19.png" ContentType="image/png"/>
  <Override PartName="/ppt/media/image21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5D8C-6E4D-4B8B-8BF9-0C4395058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8417-26D0-43DE-9E09-DFC2F531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1A26-F11C-4F69-B4D3-DF2A9BFEA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78DF-923C-4BD0-A018-1AC2E0E7D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6C02-3C1C-4D6B-959E-F5CA25A72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0D40-5E65-486D-B4CA-228C6802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1C08-91CA-42F5-AAC4-173A479A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8536-9322-4D40-A6C5-E4F42439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0DDF-E1AE-4B93-8C6C-03C4974B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165A-2204-44C9-BDAA-9C32715C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430E-3591-48C2-9B3C-3CA4A24A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F252-E9A0-421A-B83A-067DD1D1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2202-2FBD-4E0F-AB7E-D63B5852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0AD7-EB0E-4E18-B570-CC4AF61A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4B629-9A6A-4025-95CB-4D65D5A7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7B169-4A1A-4A52-B4F4-A86ACD5CB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F90B-C183-497F-8C8D-2F2D6B543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07100-9EC6-4CFD-B02B-23FC10B58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83BFA-F032-4A55-8B6C-D812CB86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4B904-F3D3-44A5-9AE3-7105033D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0B798-EE7F-457E-8493-36FB9311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1C006-833D-4101-B54D-EE6DBD05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3053-A00C-497C-A949-FBE1252A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E1E1D-B547-44A7-BF41-A6A97FD6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A997A-20DC-44EE-883B-D04EA534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70384-8E30-4434-BB4A-132F5D0C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C2256-A4EB-466A-AF3F-A905068D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E1F1F-B674-460B-B2DF-7799C161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21815-A167-4E1A-A736-8A61D11A0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648CC-FFFA-4BA9-94A6-C42E8D579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D0C00-2D10-4838-AD31-1409CF132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35ABC-62F4-4E81-B228-0C14505B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996EF-E1A5-478F-AFC5-8AA72DF0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83CB-4D80-445C-947B-CEFE2359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97809-5F0B-4272-ABD9-914324C2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AADA1-DEFF-4551-86AD-498337A9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1BE3F-094C-40AE-9D0D-0117ECAB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4AA80-A941-437C-BF16-A532B9EE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7F284-3172-4CD5-BBA1-716D3946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FAF56-A7E1-4B99-85EA-65A6080D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54999-BE83-4D02-BE3E-F241499F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CECAB-7E03-42D7-8420-1AB86E592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AE6A5-E4F0-4F38-838C-5A50EA2FB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9EFC0-A82C-420B-93B1-1D0C97615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DF6D-D3F3-4D33-8BD8-38ACCC80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9C300-3894-40FD-92B3-DD12CC48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6C77F-5475-4668-9EEA-2ED0BA8D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C3FE4-2E34-4CF8-9366-0B427110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2F769-3813-41D1-89F9-5590AEC1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700BD-D345-4279-8397-BEBBF1C81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076B7-6605-4D87-916F-D4080578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BB603-A4A3-4F0F-AA0C-30B48C41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229FB-960D-4BC5-9447-B9D1CB36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2A0B1-E6C6-4E0C-B129-A1DB756A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BEA19-DFF8-484E-B116-5B41D78FF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5E80-A199-4D70-A877-FE8BE8F9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43580-9AB0-49A4-AC16-C61F6AE48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1079-15A3-4472-85AD-225F469D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2073-FDCC-497A-B25A-FAB74EBE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CB5C-C7FA-444A-ADD9-846AECE5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183E-17F0-4F5B-B889-1834CA326F81}" type="slidenum">
              <a:rPr b="0" lang="en-AU" sz="11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6F9D-3456-42F0-8F5E-A445639742C6}" type="slidenum">
              <a:rPr b="0" lang="en-A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9B7E-A624-48E2-ACB3-B5EBE6F5CB98}" type="slidenum">
              <a:rPr b="0" lang="en-AU" sz="11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bf5f9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D2A9-ADB8-48E6-B005-F499B58B7DFD}" type="slidenum">
              <a:rPr b="0" lang="en-AU" sz="11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C50A-83D1-43DB-91BD-E09FEC29FE36}" type="slidenum">
              <a:rPr b="0" lang="en-AU" sz="11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0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0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image" Target="../media/image7.jpeg"/><Relationship Id="rId4" Type="http://schemas.openxmlformats.org/officeDocument/2006/relationships/slide" Target="slide4.xml"/><Relationship Id="rId5" Type="http://schemas.openxmlformats.org/officeDocument/2006/relationships/image" Target="../media/image7.jpeg"/><Relationship Id="rId6" Type="http://schemas.openxmlformats.org/officeDocument/2006/relationships/slide" Target="slide5.xml"/><Relationship Id="rId7" Type="http://schemas.openxmlformats.org/officeDocument/2006/relationships/image" Target="../media/image7.jpeg"/><Relationship Id="rId8" Type="http://schemas.openxmlformats.org/officeDocument/2006/relationships/slide" Target="slide6.xml"/><Relationship Id="rId9" Type="http://schemas.openxmlformats.org/officeDocument/2006/relationships/image" Target="../media/image7.jpeg"/><Relationship Id="rId10" Type="http://schemas.openxmlformats.org/officeDocument/2006/relationships/slide" Target="slide7.xml"/><Relationship Id="rId11" Type="http://schemas.openxmlformats.org/officeDocument/2006/relationships/image" Target="../media/image7.jpeg"/><Relationship Id="rId12" Type="http://schemas.openxmlformats.org/officeDocument/2006/relationships/slide" Target="slide8.xml"/><Relationship Id="rId13" Type="http://schemas.openxmlformats.org/officeDocument/2006/relationships/image" Target="../media/image7.jpeg"/><Relationship Id="rId14" Type="http://schemas.openxmlformats.org/officeDocument/2006/relationships/slide" Target="slide9.xml"/><Relationship Id="rId15" Type="http://schemas.openxmlformats.org/officeDocument/2006/relationships/image" Target="../media/image7.jpeg"/><Relationship Id="rId16" Type="http://schemas.openxmlformats.org/officeDocument/2006/relationships/slide" Target="slide10.xml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8.jpeg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jpe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jpe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jpeg"/><Relationship Id="rId3" Type="http://schemas.openxmlformats.org/officeDocument/2006/relationships/image" Target="../media/image20.png"/><Relationship Id="rId4" Type="http://schemas.openxmlformats.org/officeDocument/2006/relationships/image" Target="../media/image21.wmf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0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2401920" y="1206360"/>
            <a:ext cx="6254640" cy="21592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214800" y="48578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94f7dc"/>
                </a:solidFill>
                <a:latin typeface="Trebuchet MS"/>
              </a:rPr>
              <a:t>My name is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Title 1" descr=""/>
          <p:cNvPicPr/>
          <p:nvPr/>
        </p:nvPicPr>
        <p:blipFill>
          <a:blip r:embed="rId1"/>
          <a:stretch/>
        </p:blipFill>
        <p:spPr>
          <a:xfrm>
            <a:off x="139680" y="208080"/>
            <a:ext cx="4578480" cy="6634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285840" y="856800"/>
            <a:ext cx="814392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Highlight the larger fraction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½ or ¾: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½ or ¾=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2/8 or 4/5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½ or ½=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3/7 or 3/8?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6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163000" y="5495760"/>
            <a:ext cx="981000" cy="136224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6"/>
          <p:cNvSpPr/>
          <p:nvPr/>
        </p:nvSpPr>
        <p:spPr>
          <a:xfrm>
            <a:off x="155520" y="-770040"/>
            <a:ext cx="1476360" cy="16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12" descr="http://vels.vcaa.vic.edu.au/images/content/samples/maths/wall_stimulus.jpg"/>
          <p:cNvPicPr/>
          <p:nvPr/>
        </p:nvPicPr>
        <p:blipFill>
          <a:blip r:embed="rId3"/>
          <a:stretch/>
        </p:blipFill>
        <p:spPr>
          <a:xfrm>
            <a:off x="3429000" y="785880"/>
            <a:ext cx="5715000" cy="292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9" name=""/>
          <p:cNvGraphicFramePr/>
          <p:nvPr/>
        </p:nvGraphicFramePr>
        <p:xfrm>
          <a:off x="714240" y="3786120"/>
          <a:ext cx="7000920" cy="2865600"/>
        </p:xfrm>
        <a:graphic>
          <a:graphicData uri="http://schemas.openxmlformats.org/drawingml/2006/table">
            <a:tbl>
              <a:tblPr/>
              <a:tblGrid>
                <a:gridCol w="1285920"/>
                <a:gridCol w="1428840"/>
                <a:gridCol w="1428840"/>
                <a:gridCol w="1357200"/>
                <a:gridCol w="15001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/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/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/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/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/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/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/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/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Title 1" descr=""/>
          <p:cNvPicPr/>
          <p:nvPr/>
        </p:nvPicPr>
        <p:blipFill>
          <a:blip r:embed="rId1"/>
          <a:stretch/>
        </p:blipFill>
        <p:spPr>
          <a:xfrm>
            <a:off x="182520" y="208080"/>
            <a:ext cx="8480520" cy="7365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285840" y="1142640"/>
            <a:ext cx="5572080" cy="41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Rounded MT Bold"/>
                <a:ea typeface="Andalus"/>
              </a:rPr>
              <a:t>Solve these TIME problems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 </a:t>
            </a:r>
            <a:r>
              <a:rPr b="0" lang="en-AU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What is 2 hour before 5.15pm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How many minutes in an 2 hours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5.30pm – 25min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How days in 2 weeks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How many seconds in 3 minutes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How many minutes are there between 7.15am and 7.45am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How many minutes in 1 and ½ hours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How many minutes are there between 5.40pm and 6.10pm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2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163000" y="214200"/>
            <a:ext cx="981000" cy="13622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http://image.shutterstock.com/display_pic_with_logo/60208/60208,1180711812,2/stock-photo-aged-antique-clock-face-showing-time-of-pm-3426907.jpg"/>
          <p:cNvPicPr/>
          <p:nvPr/>
        </p:nvPicPr>
        <p:blipFill>
          <a:blip r:embed="rId3"/>
          <a:stretch/>
        </p:blipFill>
        <p:spPr>
          <a:xfrm>
            <a:off x="5715000" y="1571760"/>
            <a:ext cx="2365200" cy="2071440"/>
          </a:xfrm>
          <a:prstGeom prst="rect">
            <a:avLst/>
          </a:prstGeom>
          <a:ln w="0">
            <a:noFill/>
          </a:ln>
        </p:spPr>
      </p:pic>
      <p:sp>
        <p:nvSpPr>
          <p:cNvPr id="294" name="TextBox 6"/>
          <p:cNvSpPr/>
          <p:nvPr/>
        </p:nvSpPr>
        <p:spPr>
          <a:xfrm>
            <a:off x="4857840" y="121428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Rounded MT Bold"/>
                <a:ea typeface="Andalus"/>
              </a:rPr>
              <a:t>9. What time is shown on this clock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8"/>
          <p:cNvSpPr/>
          <p:nvPr/>
        </p:nvSpPr>
        <p:spPr>
          <a:xfrm>
            <a:off x="5000760" y="564372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Rounded MT Bold"/>
                <a:ea typeface="Andalus"/>
              </a:rPr>
              <a:t>10. What time is shown on this clock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500040" y="5572080"/>
            <a:ext cx="40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I need help with..................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1" descr="http://images.rockler.com/rockler/images/23995-01-200.jpg"/>
          <p:cNvPicPr/>
          <p:nvPr/>
        </p:nvPicPr>
        <p:blipFill>
          <a:blip r:embed="rId4"/>
          <a:stretch/>
        </p:blipFill>
        <p:spPr>
          <a:xfrm>
            <a:off x="6000840" y="378612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Title 1" descr=""/>
          <p:cNvPicPr/>
          <p:nvPr/>
        </p:nvPicPr>
        <p:blipFill>
          <a:blip r:embed="rId1"/>
          <a:stretch/>
        </p:blipFill>
        <p:spPr>
          <a:xfrm>
            <a:off x="182520" y="281160"/>
            <a:ext cx="8480520" cy="73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9" name=""/>
          <p:cNvGraphicFramePr/>
          <p:nvPr/>
        </p:nvGraphicFramePr>
        <p:xfrm>
          <a:off x="2214720" y="1143000"/>
          <a:ext cx="4186080" cy="4537080"/>
        </p:xfrm>
        <a:graphic>
          <a:graphicData uri="http://schemas.openxmlformats.org/drawingml/2006/table">
            <a:tbl>
              <a:tblPr/>
              <a:tblGrid>
                <a:gridCol w="2114280"/>
                <a:gridCol w="2071800"/>
              </a:tblGrid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My Sc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tal for ter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pic>
        <p:nvPicPr>
          <p:cNvPr id="300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358120" y="142920"/>
            <a:ext cx="62064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8841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http://www.google.lk/images?q=tbn:sfoaNe1Gr_bofM::www.uis.edu/studentaffairs/students/images/desk_calendar_1.gif&amp;h=94&amp;w=94&amp;usg=__wyHRRsORN8yqRXjwTh0oP5oolgA=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57120" y="114300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224" name="TextBox 4"/>
          <p:cNvSpPr/>
          <p:nvPr/>
        </p:nvSpPr>
        <p:spPr>
          <a:xfrm>
            <a:off x="1428840" y="13572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http://www.google.lk/images?q=tbn:sfoaNe1Gr_bofM::www.uis.edu/studentaffairs/students/images/desk_calendar_1.gif&amp;h=94&amp;w=94&amp;usg=__wyHRRsORN8yqRXjwTh0oP5oolgA=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57120" y="221472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http://www.google.lk/images?q=tbn:sfoaNe1Gr_bofM::www.uis.edu/studentaffairs/students/images/desk_calendar_1.gif&amp;h=94&amp;w=94&amp;usg=__wyHRRsORN8yqRXjwTh0oP5oolgA=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7120" y="32148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http://www.google.lk/images?q=tbn:sfoaNe1Gr_bofM::www.uis.edu/studentaffairs/students/images/desk_calendar_1.gif&amp;h=94&amp;w=94&amp;usg=__wyHRRsORN8yqRXjwTh0oP5oolgA=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57120" y="4286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http://www.google.lk/images?q=tbn:sfoaNe1Gr_bofM::www.uis.edu/studentaffairs/students/images/desk_calendar_1.gif&amp;h=94&amp;w=94&amp;usg=__wyHRRsORN8yqRXjwTh0oP5oolgA=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57120" y="528624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http://www.google.lk/images?q=tbn:sfoaNe1Gr_bofM::www.uis.edu/studentaffairs/students/images/desk_calendar_1.gif&amp;h=94&amp;w=94&amp;usg=__wyHRRsORN8yqRXjwTh0oP5oolgA=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571920" y="11430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http://www.google.lk/images?q=tbn:sfoaNe1Gr_bofM::www.uis.edu/studentaffairs/students/images/desk_calendar_1.gif&amp;h=94&amp;w=94&amp;usg=__wyHRRsORN8yqRXjwTh0oP5oolgA=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3571920" y="214308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http://www.google.lk/images?q=tbn:sfoaNe1Gr_bofM::www.uis.edu/studentaffairs/students/images/desk_calendar_1.gif&amp;h=94&amp;w=94&amp;usg=__wyHRRsORN8yqRXjwTh0oP5oolgA=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5719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http://www.google.lk/images?q=tbn:sfoaNe1Gr_bofM::www.uis.edu/studentaffairs/students/images/desk_calendar_1.gif&amp;h=94&amp;w=94&amp;usg=__wyHRRsORN8yqRXjwTh0oP5oolgA="/>
          <p:cNvPicPr/>
          <p:nvPr/>
        </p:nvPicPr>
        <p:blipFill>
          <a:blip r:embed="rId18"/>
          <a:stretch/>
        </p:blipFill>
        <p:spPr>
          <a:xfrm>
            <a:off x="3571920" y="421488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233" name="TextBox 14"/>
          <p:cNvSpPr/>
          <p:nvPr/>
        </p:nvSpPr>
        <p:spPr>
          <a:xfrm>
            <a:off x="1428840" y="23572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5"/>
          <p:cNvSpPr/>
          <p:nvPr/>
        </p:nvSpPr>
        <p:spPr>
          <a:xfrm>
            <a:off x="1428840" y="35002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6"/>
          <p:cNvSpPr/>
          <p:nvPr/>
        </p:nvSpPr>
        <p:spPr>
          <a:xfrm>
            <a:off x="1500120" y="44290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7"/>
          <p:cNvSpPr/>
          <p:nvPr/>
        </p:nvSpPr>
        <p:spPr>
          <a:xfrm>
            <a:off x="1571760" y="542916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8"/>
          <p:cNvSpPr/>
          <p:nvPr/>
        </p:nvSpPr>
        <p:spPr>
          <a:xfrm>
            <a:off x="4857840" y="13572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9"/>
          <p:cNvSpPr/>
          <p:nvPr/>
        </p:nvSpPr>
        <p:spPr>
          <a:xfrm>
            <a:off x="4929120" y="221472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0"/>
          <p:cNvSpPr/>
          <p:nvPr/>
        </p:nvSpPr>
        <p:spPr>
          <a:xfrm>
            <a:off x="4929120" y="34290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1"/>
          <p:cNvSpPr/>
          <p:nvPr/>
        </p:nvSpPr>
        <p:spPr>
          <a:xfrm>
            <a:off x="5000760" y="44290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5" descr="http://www.google.lk/images?q=tbn:fLsHEJNrLc7EDM::media1.behance.com/article_images/5718_1_results.gif&amp;h=94&amp;w=125&amp;usg=__TLOEutJG8_TWgzdz9_ouANkPjcA="/>
          <p:cNvPicPr/>
          <p:nvPr/>
        </p:nvPicPr>
        <p:blipFill>
          <a:blip r:embed="rId19"/>
          <a:stretch/>
        </p:blipFill>
        <p:spPr>
          <a:xfrm>
            <a:off x="6786720" y="4214880"/>
            <a:ext cx="164304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Title 1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7383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001000" y="5214960"/>
            <a:ext cx="981000" cy="1361880"/>
          </a:xfrm>
          <a:prstGeom prst="rect">
            <a:avLst/>
          </a:prstGeom>
          <a:ln w="0">
            <a:noFill/>
          </a:ln>
        </p:spPr>
      </p:pic>
      <p:sp>
        <p:nvSpPr>
          <p:cNvPr id="244" name="TextBox 5"/>
          <p:cNvSpPr/>
          <p:nvPr/>
        </p:nvSpPr>
        <p:spPr>
          <a:xfrm>
            <a:off x="500040" y="1071720"/>
            <a:ext cx="507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olve these following su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35 add 13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14 take away 7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2 groups of 8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4 plus 55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hare 80 between 4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Complete the following fact tab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6"/>
          <p:cNvSpPr/>
          <p:nvPr/>
        </p:nvSpPr>
        <p:spPr>
          <a:xfrm>
            <a:off x="500040" y="5500800"/>
            <a:ext cx="70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Today I was successful because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7" descr="C:\Program Files\Microsoft Office\Media\CntCD1\Animated\j0205402.gif"/>
          <p:cNvPicPr/>
          <p:nvPr/>
        </p:nvPicPr>
        <p:blipFill>
          <a:blip r:embed="rId3"/>
          <a:stretch/>
        </p:blipFill>
        <p:spPr>
          <a:xfrm>
            <a:off x="5643720" y="714240"/>
            <a:ext cx="2266920" cy="1684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7" name=""/>
          <p:cNvGraphicFramePr/>
          <p:nvPr/>
        </p:nvGraphicFramePr>
        <p:xfrm>
          <a:off x="571680" y="3357720"/>
          <a:ext cx="6858000" cy="79200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71680" y="4286160"/>
          <a:ext cx="6858000" cy="79236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Title 1" descr=""/>
          <p:cNvPicPr/>
          <p:nvPr/>
        </p:nvPicPr>
        <p:blipFill>
          <a:blip r:embed="rId1"/>
          <a:stretch/>
        </p:blipFill>
        <p:spPr>
          <a:xfrm>
            <a:off x="36360" y="281160"/>
            <a:ext cx="8485200" cy="7365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285840" y="999720"/>
            <a:ext cx="785808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17 m + 8m =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17cm + 8m=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Sum of 30cm, 10cm, 15cm and 20cm=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71 cm + 3cm +18cm=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151cm – 6cm – 14cm=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77m + 9cm + 5mm=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What is half of 15 meter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How many cm in 2.5 meters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96cm -15cm=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Is 4m and 250cm the same or different? Why?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1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001000" y="5214960"/>
            <a:ext cx="981000" cy="13618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7" descr="http://www.freeworldu.org/Plumbing/FlashcardImages/4767/139017_convert%202a.jpg"/>
          <p:cNvPicPr/>
          <p:nvPr/>
        </p:nvPicPr>
        <p:blipFill>
          <a:blip r:embed="rId3"/>
          <a:stretch/>
        </p:blipFill>
        <p:spPr>
          <a:xfrm>
            <a:off x="5786280" y="1500120"/>
            <a:ext cx="2357640" cy="3689280"/>
          </a:xfrm>
          <a:prstGeom prst="rect">
            <a:avLst/>
          </a:prstGeom>
          <a:ln w="0">
            <a:noFill/>
          </a:ln>
        </p:spPr>
      </p:pic>
      <p:sp>
        <p:nvSpPr>
          <p:cNvPr id="253" name="TextBox 6"/>
          <p:cNvSpPr/>
          <p:nvPr/>
        </p:nvSpPr>
        <p:spPr>
          <a:xfrm>
            <a:off x="4857840" y="114300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Challenge Ques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7"/>
          <p:cNvSpPr/>
          <p:nvPr/>
        </p:nvSpPr>
        <p:spPr>
          <a:xfrm>
            <a:off x="357120" y="5429160"/>
            <a:ext cx="70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b050"/>
                </a:solidFill>
                <a:latin typeface="Arial"/>
              </a:rPr>
              <a:t>Today I had a problem trying to ..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Title 1" descr=""/>
          <p:cNvPicPr/>
          <p:nvPr/>
        </p:nvPicPr>
        <p:blipFill>
          <a:blip r:embed="rId1"/>
          <a:stretch/>
        </p:blipFill>
        <p:spPr>
          <a:xfrm>
            <a:off x="36360" y="208080"/>
            <a:ext cx="8485200" cy="7365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357120" y="928800"/>
            <a:ext cx="850104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Convert the following fractions into percentages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7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001000" y="5214960"/>
            <a:ext cx="981000" cy="136188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5"/>
          <p:cNvSpPr/>
          <p:nvPr/>
        </p:nvSpPr>
        <p:spPr>
          <a:xfrm>
            <a:off x="381600" y="5715000"/>
            <a:ext cx="448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7030a0"/>
                </a:solidFill>
                <a:latin typeface="Arial"/>
              </a:rPr>
              <a:t>I think I am becoming an expert because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523880" y="1397160"/>
          <a:ext cx="4905360" cy="4079880"/>
        </p:xfrm>
        <a:graphic>
          <a:graphicData uri="http://schemas.openxmlformats.org/drawingml/2006/table">
            <a:tbl>
              <a:tblPr/>
              <a:tblGrid>
                <a:gridCol w="2333880"/>
                <a:gridCol w="257148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Fr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ercen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/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/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/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/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/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/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pic>
        <p:nvPicPr>
          <p:cNvPr id="260" name="Picture 76" descr="c:\Users\08760829\AppData\Local\Microsoft\Windows\Temporary Internet Files\Content.IE5\KOIOT0NA\MC900282188[1].wmf"/>
          <p:cNvPicPr/>
          <p:nvPr/>
        </p:nvPicPr>
        <p:blipFill>
          <a:blip r:embed="rId3"/>
          <a:stretch/>
        </p:blipFill>
        <p:spPr>
          <a:xfrm>
            <a:off x="6500880" y="1714680"/>
            <a:ext cx="16621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255600" y="353880"/>
            <a:ext cx="8480520" cy="7365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285840" y="999720"/>
            <a:ext cx="85723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Following these instructions to test your number fact skill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Click on the </a:t>
            </a:r>
            <a:r>
              <a:rPr b="0" lang="en-AU" sz="2000" spc="-1" strike="noStrike">
                <a:solidFill>
                  <a:srgbClr val="ffc000"/>
                </a:solidFill>
                <a:latin typeface="Andalus"/>
                <a:ea typeface="Andalus"/>
              </a:rPr>
              <a:t>Maths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 button in </a:t>
            </a:r>
            <a:r>
              <a:rPr b="0" lang="en-AU" sz="2000" spc="-1" strike="noStrike">
                <a:solidFill>
                  <a:srgbClr val="0070c0"/>
                </a:solidFill>
                <a:latin typeface="Andalus"/>
                <a:ea typeface="Andalus"/>
              </a:rPr>
              <a:t>Edu sta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Click on “</a:t>
            </a:r>
            <a:r>
              <a:rPr b="0" lang="en-AU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Tux of Math Command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Click “</a:t>
            </a:r>
            <a:r>
              <a:rPr b="0" lang="en-AU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Play Alone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Select your play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game will start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ndalus"/>
                <a:ea typeface="Andalus"/>
              </a:rPr>
              <a:t>Good Luck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3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285840" y="5286240"/>
            <a:ext cx="981000" cy="13622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c:\Users\08760829\AppData\Local\Microsoft\Windows\Temporary Internet Files\Content.IE5\KOIOT0NA\MC900052604[1].wmf"/>
          <p:cNvPicPr/>
          <p:nvPr/>
        </p:nvPicPr>
        <p:blipFill>
          <a:blip r:embed="rId3"/>
          <a:stretch/>
        </p:blipFill>
        <p:spPr>
          <a:xfrm>
            <a:off x="7358040" y="4786200"/>
            <a:ext cx="1322280" cy="18129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c:\Users\08760829\AppData\Local\Microsoft\Windows\Temporary Internet Files\Content.IE5\XM06B01Y\MC900057449[1].wmf"/>
          <p:cNvPicPr/>
          <p:nvPr/>
        </p:nvPicPr>
        <p:blipFill>
          <a:blip r:embed="rId4"/>
          <a:stretch/>
        </p:blipFill>
        <p:spPr>
          <a:xfrm>
            <a:off x="1428840" y="4857840"/>
            <a:ext cx="820800" cy="172872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8"/>
          <p:cNvSpPr/>
          <p:nvPr/>
        </p:nvSpPr>
        <p:spPr>
          <a:xfrm>
            <a:off x="2428920" y="5286240"/>
            <a:ext cx="40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I enjoyed......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itle 1" descr=""/>
          <p:cNvPicPr/>
          <p:nvPr/>
        </p:nvPicPr>
        <p:blipFill>
          <a:blip r:embed="rId1"/>
          <a:stretch/>
        </p:blipFill>
        <p:spPr>
          <a:xfrm>
            <a:off x="109440" y="208080"/>
            <a:ext cx="7755120" cy="7365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286840" y="214200"/>
            <a:ext cx="714240" cy="992160"/>
          </a:xfrm>
          <a:prstGeom prst="rect">
            <a:avLst/>
          </a:prstGeom>
          <a:ln w="0">
            <a:noFill/>
          </a:ln>
        </p:spPr>
      </p:pic>
      <p:sp>
        <p:nvSpPr>
          <p:cNvPr id="269" name="TextBox 10"/>
          <p:cNvSpPr/>
          <p:nvPr/>
        </p:nvSpPr>
        <p:spPr>
          <a:xfrm>
            <a:off x="3929040" y="1071720"/>
            <a:ext cx="49291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many rainy days were ther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many sunny days were ther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many cloudy days were ther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What kind of weather was most common in Jun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many more sunny days were there than rainy day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many more rainy days were there than cloudy day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many more sunny days were there than cloudy day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reate 2 statements based on this dat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Chart 10" descr=""/>
          <p:cNvPicPr/>
          <p:nvPr/>
        </p:nvPicPr>
        <p:blipFill>
          <a:blip r:embed="rId3"/>
          <a:stretch/>
        </p:blipFill>
        <p:spPr>
          <a:xfrm>
            <a:off x="214200" y="1285920"/>
            <a:ext cx="3714840" cy="350028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11"/>
          <p:cNvSpPr/>
          <p:nvPr/>
        </p:nvSpPr>
        <p:spPr>
          <a:xfrm>
            <a:off x="214200" y="478620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When looking at graphs its important to.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8" descr="C:\Program Files\Microsoft Office\MEDIA\CAGCAT10\j0293828.wmf"/>
          <p:cNvPicPr/>
          <p:nvPr/>
        </p:nvPicPr>
        <p:blipFill>
          <a:blip r:embed="rId4"/>
          <a:stretch/>
        </p:blipFill>
        <p:spPr>
          <a:xfrm>
            <a:off x="0" y="714240"/>
            <a:ext cx="1015920" cy="10684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9" descr="C:\Program Files\Microsoft Office\Media\CntCD1\Animated\j0303440.gif"/>
          <p:cNvPicPr/>
          <p:nvPr/>
        </p:nvPicPr>
        <p:blipFill>
          <a:blip r:embed="rId5"/>
          <a:stretch/>
        </p:blipFill>
        <p:spPr>
          <a:xfrm>
            <a:off x="2643120" y="5286240"/>
            <a:ext cx="14288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Title 1" descr=""/>
          <p:cNvPicPr/>
          <p:nvPr/>
        </p:nvPicPr>
        <p:blipFill>
          <a:blip r:embed="rId1"/>
          <a:stretch/>
        </p:blipFill>
        <p:spPr>
          <a:xfrm>
            <a:off x="182520" y="420840"/>
            <a:ext cx="8480520" cy="7380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500040" y="1143000"/>
            <a:ext cx="77868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Complete the following counting problems by filling in the missing numbers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78, 83, 88, _____, 98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56, 51, 46, 41, _____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199, 194, 189, 184, _____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164, 174, 184, 194, _____, _____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751, 741, _____, 721, _____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966, 976, 986, _____, _____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829, 849, 869, 889, _____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717, _____, 757, 777, _____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353, 333, 313, _____, 273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775, 755, 735, 715, _____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6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001000" y="5214960"/>
            <a:ext cx="981000" cy="136188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4"/>
          <p:cNvSpPr/>
          <p:nvPr/>
        </p:nvSpPr>
        <p:spPr>
          <a:xfrm>
            <a:off x="285840" y="557208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I need to practise.............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6" descr="c:\Users\08760829\AppData\Local\Microsoft\Windows\Temporary Internet Files\Content.IE5\XM06B01Y\MP910216664[1].jpg"/>
          <p:cNvPicPr/>
          <p:nvPr/>
        </p:nvPicPr>
        <p:blipFill>
          <a:blip r:embed="rId3"/>
          <a:stretch/>
        </p:blipFill>
        <p:spPr>
          <a:xfrm>
            <a:off x="4429080" y="1643040"/>
            <a:ext cx="363528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Title 1" descr=""/>
          <p:cNvPicPr/>
          <p:nvPr/>
        </p:nvPicPr>
        <p:blipFill>
          <a:blip r:embed="rId1"/>
          <a:stretch/>
        </p:blipFill>
        <p:spPr>
          <a:xfrm>
            <a:off x="36360" y="-6480"/>
            <a:ext cx="8485200" cy="7383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7929720" y="785880"/>
            <a:ext cx="981000" cy="1361880"/>
          </a:xfrm>
          <a:prstGeom prst="rect">
            <a:avLst/>
          </a:prstGeom>
          <a:ln w="0">
            <a:noFill/>
          </a:ln>
        </p:spPr>
      </p:pic>
      <p:sp>
        <p:nvSpPr>
          <p:cNvPr id="281" name="TextBox 16"/>
          <p:cNvSpPr/>
          <p:nvPr/>
        </p:nvSpPr>
        <p:spPr>
          <a:xfrm>
            <a:off x="285840" y="642960"/>
            <a:ext cx="7929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iley spent $3.00. What could he have boug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annah spent $1.70. What could she have boug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Jay spent $3.05. What could he have boug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achel spent $2.90. What could she have boug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imon spent $4.75. What would his change be if he paid with a $5.00 dollar no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arah spent $7.50. What would her change be if she paid with a $10.00 dollar no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ow much did I spent if I bought 1 hot dog, 1 cream bun and a bottle of wat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ow much did I spent if I bought 1 Pie, 1 fruit bar, 1 frozen fruit and a bottle of wat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214200" y="4929120"/>
          <a:ext cx="7858080" cy="1514520"/>
        </p:xfrm>
        <a:graphic>
          <a:graphicData uri="http://schemas.openxmlformats.org/drawingml/2006/table">
            <a:tbl>
              <a:tblPr/>
              <a:tblGrid>
                <a:gridCol w="2341800"/>
                <a:gridCol w="2896920"/>
                <a:gridCol w="2619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t dogs 95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alad Sandwich $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ilkshakes $1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ausage Rolls 65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ream buns 60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Orange Drinks 75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ies $1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ruit bars 30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ter $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asties $1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otato Chips 55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rozen fruit 50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</a:tr>
            </a:tbl>
          </a:graphicData>
        </a:graphic>
      </p:graphicFrame>
      <p:sp>
        <p:nvSpPr>
          <p:cNvPr id="283" name="TextBox 31"/>
          <p:cNvSpPr/>
          <p:nvPr/>
        </p:nvSpPr>
        <p:spPr>
          <a:xfrm>
            <a:off x="2286000" y="4357800"/>
            <a:ext cx="42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7030a0"/>
                </a:solidFill>
                <a:latin typeface="Arial"/>
              </a:rPr>
              <a:t>Canteen Pric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01:16:01Z</dcterms:created>
  <dc:creator>Education</dc:creator>
  <dc:description/>
  <dc:language>en-US</dc:language>
  <cp:lastModifiedBy>Education</cp:lastModifiedBy>
  <dcterms:modified xsi:type="dcterms:W3CDTF">2010-09-11T02:54:04Z</dcterms:modified>
  <cp:revision>81</cp:revision>
  <dc:subject/>
  <dc:title>Weekly Mathematics Revision Activities</dc:title>
</cp:coreProperties>
</file>