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17.wmf" ContentType="image/x-wmf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12.png" ContentType="image/png"/>
  <Override PartName="/ppt/media/image30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png" ContentType="image/png"/>
  <Override PartName="/ppt/media/image2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1A8-AE1B-44CF-A344-D8057283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F6D-1F22-41C8-ACC1-78CAF347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EF0-8C63-4C3F-BEE2-7A0FE0BB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E5B-42FB-44D3-940B-0B6B0E74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074-F4B1-46B1-8ABF-AA2BF38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71F3-C492-49F4-AF16-B63D066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A0A-544E-45C7-83DF-75B58E3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49D5-6367-485E-8230-B4FE8B40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33E2-C5F6-46BB-ACAC-D43A747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63B1-D680-4854-918C-3EF09ADB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2422-7B96-4FBF-92F7-3CEEC9A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31C-CCD1-4872-9BFB-3EE30AE9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3A18-A3D5-4881-A4FE-F9CE2D0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C241-C0D4-437D-A8E2-7B9E1BE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1DD-A863-4A28-BF01-9915B2C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11F-A29A-45D2-8AF8-8381C50C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5781-CB11-4484-9D8D-9548A290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D4AF-A991-4A04-B573-85CCE837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6F24-A841-4521-8EAE-2E17298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85D5-DF89-4D51-B940-17B54C0B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A6A5-1109-440B-9B7D-68FBF77E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13E0-A9E8-44B2-9F53-FD459EC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592-6E25-4199-B953-14E77BAD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9269-BE33-427E-825E-D5CF90A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ED7F-FC02-4940-92D2-2FD90E1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6543-CFBF-4967-BD73-C79A0F4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C557-D217-4803-8ADA-2A7931F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24A4-74DA-49CD-9923-E67398B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57A7-B7F0-4ECD-8F6C-F85264D5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75AD-43E2-49FC-A535-F0D420E9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C718-F69C-435C-B0ED-949F5640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8C03-DE69-465A-9631-770C4C2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F439-6AD3-4B56-987C-9E164A9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B98-EC57-4A8B-BFCC-B716A807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AE7D-6228-4E58-8F91-980D6FF6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7759-7E8D-454E-8768-051ABD9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A81E-A21B-4ED8-9185-A54F530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790B-4D3A-4057-B878-824E856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1C5F-7731-406E-9056-8B2965EB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70B3-D85D-4AAB-B7F3-9639E1D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BB57-320C-460D-A426-ADDFB70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DEEF-5008-4C84-A3DE-B1F65C4C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D65A-F36A-4620-B28A-662D4FB9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6419-20BB-4A24-A3B8-13A7B636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5EF-4CD2-4FCC-AD44-FDB6284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A9DB-D917-425B-8606-2550925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B615-699A-4369-A6FB-300A7FE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5B4D8-707F-4B66-ACDA-977E69E4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3BD0-2D52-4BB4-973A-1F9BB70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29E4-38BC-476B-9FB0-1DFDC74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38DA-BBE2-4C54-ABAE-5C45E93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803A-3416-4B35-B181-A7193BA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C1C1-C411-4F30-B76F-DE389BED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B2BD-DB3B-4DA5-9296-4AEDC9D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99EC-5663-49A8-BF20-01664D8C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19A-2984-468B-A6EF-357CD94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D059-AD5E-4797-83D3-DC154A07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25C-DF32-4917-B961-D404F14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E71-67A6-4291-863D-C44BC03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69C-3020-48A3-B555-7623F0B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6021-D975-45E0-BC74-7BA97DE3B1D9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6B9-C011-4C78-B560-C9406C2412B8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5535-1B35-44F6-B0B0-619EA305AC71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FE7-10C0-4EB5-9254-D0C79FF09BE4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2CFB-C0AA-4530-A367-4392FE28601F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6.xml"/><Relationship Id="rId9" Type="http://schemas.openxmlformats.org/officeDocument/2006/relationships/image" Target="../media/image7.jpe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8.xml"/><Relationship Id="rId13" Type="http://schemas.openxmlformats.org/officeDocument/2006/relationships/image" Target="../media/image7.jpeg"/><Relationship Id="rId14" Type="http://schemas.openxmlformats.org/officeDocument/2006/relationships/slide" Target="slide9.xml"/><Relationship Id="rId15" Type="http://schemas.openxmlformats.org/officeDocument/2006/relationships/image" Target="../media/image7.jpeg"/><Relationship Id="rId16" Type="http://schemas.openxmlformats.org/officeDocument/2006/relationships/slide" Target="slide10.xml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139680" y="208080"/>
            <a:ext cx="4578480" cy="663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5840" y="856800"/>
            <a:ext cx="81439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ighlight the larger frac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¾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/8 or 4/5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½ or ½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/7 or 3/8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http://vels.vcaa.vic.edu.au/images/content/samples/maths/wall_stimulus.jpg"/>
          <p:cNvPicPr/>
          <p:nvPr/>
        </p:nvPicPr>
        <p:blipFill>
          <a:blip r:embed="rId3"/>
          <a:stretch/>
        </p:blipFill>
        <p:spPr>
          <a:xfrm>
            <a:off x="3429000" y="785880"/>
            <a:ext cx="571500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714240" y="3786120"/>
          <a:ext cx="7000920" cy="286560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  <a:gridCol w="1428840"/>
                <a:gridCol w="1357200"/>
                <a:gridCol w="1500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85840" y="1142640"/>
            <a:ext cx="55720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Solve these TIME problem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at is 2 hour before 5.15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an 2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.30pm – 25min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days in 2 week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seconds in 3 minut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7.15am and 7.45a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in 1 and ½ hou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ow many minutes are there between 5.40pm and 6.10pm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image.shutterstock.com/display_pic_with_logo/60208/60208,1180711812,2/stock-photo-aged-antique-clock-face-showing-time-of-pm-3426907.jpg"/>
          <p:cNvPicPr/>
          <p:nvPr/>
        </p:nvPicPr>
        <p:blipFill>
          <a:blip r:embed="rId3"/>
          <a:stretch/>
        </p:blipFill>
        <p:spPr>
          <a:xfrm>
            <a:off x="5715000" y="1571760"/>
            <a:ext cx="2365200" cy="2071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4857840" y="1214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9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5000760" y="56437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Rounded MT Bold"/>
                <a:ea typeface="Andalus"/>
              </a:rPr>
              <a:t>10. What time is shown on this cloc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0004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help with.....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http://images.rockler.com/rockler/images/23995-01-200.jpg"/>
          <p:cNvPicPr/>
          <p:nvPr/>
        </p:nvPicPr>
        <p:blipFill>
          <a:blip r:embed="rId4"/>
          <a:stretch/>
        </p:blipFill>
        <p:spPr>
          <a:xfrm>
            <a:off x="6000840" y="37861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0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18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/>
          <p:cNvPicPr/>
          <p:nvPr/>
        </p:nvPicPr>
        <p:blipFill>
          <a:blip r:embed="rId19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500040" y="107172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olve these following su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5 add 1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4 take away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 groups of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4 plus 5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80 betwe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plete the following fact t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00040" y="5500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643720" y="714240"/>
            <a:ext cx="2266920" cy="168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71680" y="3357720"/>
          <a:ext cx="6858000" cy="792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71680" y="4286160"/>
          <a:ext cx="6858000" cy="7923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85840" y="99972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 m + 8m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cm + 8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um of 30cm, 10cm, 15cm and 20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1 cm + 3cm +18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1cm – 6cm – 14cm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7m + 9cm + 5m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half of 15 mete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cm in 2.5 meter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6cm -15cm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Is 4m and 250cm the same or different? Why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http://www.freeworldu.org/Plumbing/FlashcardImages/4767/139017_convert%202a.jpg"/>
          <p:cNvPicPr/>
          <p:nvPr/>
        </p:nvPicPr>
        <p:blipFill>
          <a:blip r:embed="rId3"/>
          <a:stretch/>
        </p:blipFill>
        <p:spPr>
          <a:xfrm>
            <a:off x="5786280" y="1500120"/>
            <a:ext cx="2357640" cy="36892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485784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4291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onvert the following fractions into percentage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381600" y="571500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3880" y="1397160"/>
          <a:ext cx="4905360" cy="4079880"/>
        </p:xfrm>
        <a:graphic>
          <a:graphicData uri="http://schemas.openxmlformats.org/drawingml/2006/table">
            <a:tbl>
              <a:tblPr/>
              <a:tblGrid>
                <a:gridCol w="2333880"/>
                <a:gridCol w="25714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6500880" y="1714680"/>
            <a:ext cx="16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0"/>
          <p:cNvSpPr/>
          <p:nvPr/>
        </p:nvSpPr>
        <p:spPr>
          <a:xfrm>
            <a:off x="3929040" y="1071720"/>
            <a:ext cx="4929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rai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sunn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cloudy days we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kind of weather was most common in Ju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rain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rai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any more sunny days were there than cloudy d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2 statements based on this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hart 10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214200" y="47862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8" descr="C:\Program Files\Microsoft Office\MEDIA\CAGCAT10\j0293828.wmf"/>
          <p:cNvPicPr/>
          <p:nvPr/>
        </p:nvPicPr>
        <p:blipFill>
          <a:blip r:embed="rId4"/>
          <a:stretch/>
        </p:blipFill>
        <p:spPr>
          <a:xfrm>
            <a:off x="0" y="714240"/>
            <a:ext cx="1015920" cy="106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9" descr="C:\Program Files\Microsoft Office\Media\CntCD1\Animated\j0303440.gif"/>
          <p:cNvPicPr/>
          <p:nvPr/>
        </p:nvPicPr>
        <p:blipFill>
          <a:blip r:embed="rId5"/>
          <a:stretch/>
        </p:blipFill>
        <p:spPr>
          <a:xfrm>
            <a:off x="2643120" y="528624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8, 83, 88, _____, 98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56, 51, 46, 4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, 194, 189, 184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64, 174, 184, 19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1, 741, _____, 721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966, 976, 986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829, 849, 869, 889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53, 333, 313, _____, 27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75, 755, 735, 715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285840" y="55720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:\Users\08760829\AppData\Local\Microsoft\Windows\Temporary Internet Files\Content.IE5\XM06B01Y\MP910216664[1].jpg"/>
          <p:cNvPicPr/>
          <p:nvPr/>
        </p:nvPicPr>
        <p:blipFill>
          <a:blip r:embed="rId3"/>
          <a:stretch/>
        </p:blipFill>
        <p:spPr>
          <a:xfrm>
            <a:off x="4429080" y="164304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0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1.7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0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2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50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hot dog, 1 cream bun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1 Pie, 1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9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7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83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1T02:54:04Z</dcterms:modified>
  <cp:revision>81</cp:revision>
  <dc:subject/>
  <dc:title>Weekly Mathematics Revision Activities</dc:title>
</cp:coreProperties>
</file>