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4.jpeg" ContentType="image/jpeg"/>
  <Override PartName="/ppt/media/image22.gif" ContentType="image/gif"/>
  <Override PartName="/ppt/media/image25.png" ContentType="image/png"/>
  <Override PartName="/ppt/media/image6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3.wmf" ContentType="image/x-wmf"/>
  <Override PartName="/ppt/media/image30.png" ContentType="image/png"/>
  <Override PartName="/ppt/media/image9.png" ContentType="image/png"/>
  <Override PartName="/ppt/media/image10.jpeg" ContentType="image/jpeg"/>
  <Override PartName="/ppt/media/image14.png" ContentType="image/png"/>
  <Override PartName="/ppt/media/image11.gif" ContentType="image/gif"/>
  <Override PartName="/ppt/media/image3.png" ContentType="image/png"/>
  <Override PartName="/ppt/media/image26.png" ContentType="image/png"/>
  <Override PartName="/ppt/media/image12.png" ContentType="image/png"/>
  <Override PartName="/ppt/media/image23.jpeg" ContentType="image/jpeg"/>
  <Override PartName="/ppt/media/image24.png" ContentType="image/png"/>
  <Override PartName="/ppt/media/image29.wmf" ContentType="image/x-wmf"/>
  <Override PartName="/ppt/media/image1.png" ContentType="image/png"/>
  <Override PartName="/ppt/media/image15.wmf" ContentType="image/x-wmf"/>
  <Override PartName="/ppt/media/image16.png" ContentType="image/png"/>
  <Override PartName="/ppt/media/image17.png" ContentType="image/png"/>
  <Override PartName="/ppt/media/image20.png" ContentType="image/png"/>
  <Override PartName="/ppt/media/image2.jpeg" ContentType="image/jpeg"/>
  <Override PartName="/ppt/media/image18.wmf" ContentType="image/x-wmf"/>
  <Override PartName="/ppt/media/image19.wmf" ContentType="image/x-wmf"/>
  <Override PartName="/ppt/media/image21.png" ContentType="image/png"/>
  <Override PartName="/ppt/media/image2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C80-AAF0-4ADC-8788-2F8BACE1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D218-6C89-465B-B0E3-85DB1BD9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1B7-9480-4690-930C-DC8DF28F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B8E-D030-439E-A1C4-4F7F1FA9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9CB8-1BEB-457D-B240-D25F0BA3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5478-7A94-40A2-9033-6FAA9D9C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7E46-BF22-4CBC-8E29-4A633BF7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C7A5-1DCE-4D5B-BE7C-B4CE3E48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AA0F-C0F6-48A2-BD7F-E3280B3C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6679-15AF-47DB-915A-7415CFCD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EA39-5BE0-4E01-8DEF-F45D6E5C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0C6-3EAD-4A9A-9F1E-61EB2337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DEE8-7BBA-4F50-827B-5A1D9397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94A7-3176-4B5C-9D31-E7923FDB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49E9-A314-4C43-A576-2E9410BC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BDAF-337C-477E-B5CA-D7794AF3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643B-1B0F-42D4-AFDF-0BB9C2FD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A8C44-7EA8-45EE-92B2-0BD70574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4871E-CB1C-4827-9BEC-302878E5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7FE16-C856-4C65-A192-B971E625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7BDC3-3620-4CA6-92F2-E55D7D94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EFDA3-004A-4760-B875-D182CA94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1C90-80B8-431B-BA33-C7935030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83239-E19C-40CE-BC64-7A6B6319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A7610-099E-4309-980F-9BE3FFB5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3E034-5F62-43D9-B0CB-059F2BB6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11BE5-15F1-48C5-88DA-0724C84F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FC7AE-ECBC-4669-834A-2381B8A5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3FB6-2A3B-4303-AC37-37B54741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93AA8-23DF-4D48-A740-F7CE3B5B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37F46-305D-455B-8D2C-503581F4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C8ED0-6064-418C-8C8B-0258B09A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0B7DD-797F-4580-B5DC-DB7C4626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8BB-6C4C-448E-9D7E-5D763C5D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0CAAD-B2DF-44CC-B9E8-6DE197F6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7C10B-4C64-4B5F-A93E-806C1F5F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C443A-4B53-4C8A-AF59-952CDC1E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3AD19-5DE2-40F3-B1D4-1B51364F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74425-EE07-4E0D-B4AB-CD1C5D9D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9BB2C-D1F6-4551-AE69-1185BDBE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30B18-90F6-4EAD-AE26-0D676B70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CE92E-1F81-4EE0-8548-9F5EC8F1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53ABC-53CC-4A94-969F-F93495A7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30F0F-9676-49F7-87FF-8BB54A78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D93-A20D-4FDF-9094-18F7998A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7E822-8664-45A9-8BC2-808C3B0E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2DB29-D1C7-4B49-8061-506FD326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3FCF8-BD80-4708-BCA8-4EA8842C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92881-E58E-4B51-9BEC-51AE05D4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80548-3344-45E0-BB84-30FC4B4D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70D88-A6EC-4237-A868-99DAD574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2B330-8096-40CB-8464-7CC17B68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53B00-3662-4177-A8F5-C16BFDBA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9A85C-0516-4F80-B79E-84187ED4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1FA37-7838-483D-9149-E8E4D2F2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70E-26B5-4DF5-9378-4A11CCE9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E4B71-AB71-4629-9112-7717E1AE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D58-76D6-4C4E-A1DA-A90BBBAD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D804-1FBC-44F7-8BC9-796A1B33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1BE1-BE2F-438E-935F-9BB2CC25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2483-BDC5-4BEF-9423-ABC62A4B40F7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1656-203B-4537-9192-BAF29F3C5F88}" type="slidenum">
              <a:rPr b="0" lang="en-A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5A11-F5DB-4A16-80EA-C1C4A9940412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bf5f9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C75D-7BFA-4688-B50B-A5E606BA454C}" type="slidenum">
              <a:rPr b="0" lang="en-AU" sz="11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089A-C2BF-47B5-9499-DE3FEE584D74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0.jpe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" Target="slide4.xml"/><Relationship Id="rId5" Type="http://schemas.openxmlformats.org/officeDocument/2006/relationships/image" Target="../media/image7.jpeg"/><Relationship Id="rId6" Type="http://schemas.openxmlformats.org/officeDocument/2006/relationships/slide" Target="slide5.xml"/><Relationship Id="rId7" Type="http://schemas.openxmlformats.org/officeDocument/2006/relationships/image" Target="../media/image7.jpeg"/><Relationship Id="rId8" Type="http://schemas.openxmlformats.org/officeDocument/2006/relationships/slide" Target="slide7.xml"/><Relationship Id="rId9" Type="http://schemas.openxmlformats.org/officeDocument/2006/relationships/image" Target="../media/image7.jpeg"/><Relationship Id="rId10" Type="http://schemas.openxmlformats.org/officeDocument/2006/relationships/slide" Target="slide8.xml"/><Relationship Id="rId11" Type="http://schemas.openxmlformats.org/officeDocument/2006/relationships/image" Target="../media/image7.jpeg"/><Relationship Id="rId12" Type="http://schemas.openxmlformats.org/officeDocument/2006/relationships/slide" Target="slide9.xml"/><Relationship Id="rId13" Type="http://schemas.openxmlformats.org/officeDocument/2006/relationships/image" Target="../media/image7.jpeg"/><Relationship Id="rId14" Type="http://schemas.openxmlformats.org/officeDocument/2006/relationships/slide" Target="slide10.xml"/><Relationship Id="rId15" Type="http://schemas.openxmlformats.org/officeDocument/2006/relationships/image" Target="../media/image7.jpeg"/><Relationship Id="rId16" Type="http://schemas.openxmlformats.org/officeDocument/2006/relationships/slide" Target="slide12.xml"/><Relationship Id="rId17" Type="http://schemas.openxmlformats.org/officeDocument/2006/relationships/image" Target="../media/image7.jpeg"/><Relationship Id="rId18" Type="http://schemas.openxmlformats.org/officeDocument/2006/relationships/slide" Target="slide13.xml"/><Relationship Id="rId19" Type="http://schemas.openxmlformats.org/officeDocument/2006/relationships/image" Target="../media/image7.jpeg"/><Relationship Id="rId20" Type="http://schemas.openxmlformats.org/officeDocument/2006/relationships/slide" Target="slide14.xml"/><Relationship Id="rId21" Type="http://schemas.openxmlformats.org/officeDocument/2006/relationships/image" Target="../media/image8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jpeg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jpeg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401920" y="1206360"/>
            <a:ext cx="6254640" cy="2159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214800" y="48578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94f7dc"/>
                </a:solidFill>
                <a:latin typeface="Trebuchet MS"/>
              </a:rPr>
              <a:t>My name is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36360" y="-6480"/>
            <a:ext cx="8485200" cy="738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7929720" y="78588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6"/>
          <p:cNvSpPr/>
          <p:nvPr/>
        </p:nvSpPr>
        <p:spPr>
          <a:xfrm>
            <a:off x="285840" y="642960"/>
            <a:ext cx="7929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iley spent $3.50. What could 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annah spent $3.75. What could s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Jay spent $3.95. What could 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chel spent $6.90. What could s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mon spent $4.75. What would his change be if he paid with a $5.00 dollar no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arah spent $7.45. What would her change be if she paid with a $10.00 dollar no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did I spent if I bought 2 hot dogs, 3 cream buns and a bottle of wa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did I spent if I bought 2 Pies, 2 fruit bar, 1 frozen fruit and a bottle of wa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14200" y="4929120"/>
          <a:ext cx="7858080" cy="1514520"/>
        </p:xfrm>
        <a:graphic>
          <a:graphicData uri="http://schemas.openxmlformats.org/drawingml/2006/table">
            <a:tbl>
              <a:tblPr/>
              <a:tblGrid>
                <a:gridCol w="2341800"/>
                <a:gridCol w="2896920"/>
                <a:gridCol w="2619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t dogs $1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lad Sandwich $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lkshakes $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usage Rolls 6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eam buns 6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range Drinks $1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ies $2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uit bars 3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ter $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sties $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tato Chips 6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ozen fruit 5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</a:tbl>
          </a:graphicData>
        </a:graphic>
      </p:graphicFrame>
      <p:sp>
        <p:nvSpPr>
          <p:cNvPr id="296" name="TextBox 31"/>
          <p:cNvSpPr/>
          <p:nvPr/>
        </p:nvSpPr>
        <p:spPr>
          <a:xfrm>
            <a:off x="2286000" y="435780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Arial"/>
              </a:rPr>
              <a:t>Canteen Pri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5-Point Star 10"/>
          <p:cNvSpPr/>
          <p:nvPr/>
        </p:nvSpPr>
        <p:spPr>
          <a:xfrm>
            <a:off x="4786200" y="4286160"/>
            <a:ext cx="3143520" cy="2571840"/>
          </a:xfrm>
          <a:custGeom>
            <a:avLst/>
            <a:gdLst>
              <a:gd name="textAreaLeft" fmla="*/ 971280 w 3143520"/>
              <a:gd name="textAreaRight" fmla="*/ 2172240 w 3143520"/>
              <a:gd name="textAreaTop" fmla="*/ 982440 h 2571840"/>
              <a:gd name="textAreaBottom" fmla="*/ 1964880 h 2571840"/>
            </a:gdLst>
            <a:ahLst/>
            <a:rect l="textAreaLeft" t="textAreaTop" r="textAreaRight" b="textAreaBottom"/>
            <a:pathLst>
              <a:path w="3143250" h="2571750">
                <a:moveTo>
                  <a:pt x="3" y="982318"/>
                </a:moveTo>
                <a:lnTo>
                  <a:pt x="1200621" y="982325"/>
                </a:lnTo>
                <a:lnTo>
                  <a:pt x="1571625" y="0"/>
                </a:lnTo>
                <a:lnTo>
                  <a:pt x="1942629" y="982325"/>
                </a:lnTo>
                <a:lnTo>
                  <a:pt x="3143247" y="982318"/>
                </a:lnTo>
                <a:lnTo>
                  <a:pt x="2171922" y="1589421"/>
                </a:lnTo>
                <a:lnTo>
                  <a:pt x="2542944" y="2571741"/>
                </a:lnTo>
                <a:lnTo>
                  <a:pt x="1571625" y="1964629"/>
                </a:lnTo>
                <a:lnTo>
                  <a:pt x="600306" y="2571741"/>
                </a:lnTo>
                <a:lnTo>
                  <a:pt x="971328" y="158942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Isosceles Triangle 8"/>
          <p:cNvSpPr/>
          <p:nvPr/>
        </p:nvSpPr>
        <p:spPr>
          <a:xfrm>
            <a:off x="4500720" y="1071720"/>
            <a:ext cx="3500280" cy="30715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ounded Rectangle 7"/>
          <p:cNvSpPr/>
          <p:nvPr/>
        </p:nvSpPr>
        <p:spPr>
          <a:xfrm>
            <a:off x="500040" y="4143240"/>
            <a:ext cx="3786120" cy="22147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214200" y="1500120"/>
            <a:ext cx="4429080" cy="2357640"/>
          </a:xfrm>
          <a:prstGeom prst="ellipse">
            <a:avLst/>
          </a:prstGeom>
          <a:solidFill>
            <a:srgbClr val="59a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0" y="201600"/>
            <a:ext cx="8448840" cy="1170000"/>
          </a:xfrm>
          <a:prstGeom prst="rect">
            <a:avLst/>
          </a:prstGeom>
          <a:ln w="0">
            <a:noFill/>
          </a:ln>
        </p:spPr>
      </p:pic>
      <p:sp>
        <p:nvSpPr>
          <p:cNvPr id="302" name="TextBox 4"/>
          <p:cNvSpPr/>
          <p:nvPr/>
        </p:nvSpPr>
        <p:spPr>
          <a:xfrm>
            <a:off x="571680" y="1571760"/>
            <a:ext cx="4143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lete the following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2.25= ___________ 5c c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7.80= ___________ 20c c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15.20= ___________20c c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135.00= ___________ $5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640.00= ___________ $20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lve the following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1.20 x 4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1.80 x 8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11.70 x 3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7.20 ÷ 8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6.30 ÷ 9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4929120" y="2357280"/>
            <a:ext cx="278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is the fra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½ of $7.20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¼ of $28.00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/10 of $100.00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/10 of $20.00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¾ of $1600.00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9"/>
          <p:cNvSpPr/>
          <p:nvPr/>
        </p:nvSpPr>
        <p:spPr>
          <a:xfrm>
            <a:off x="5143680" y="5000760"/>
            <a:ext cx="278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are $160.00 between Corey and Abbey, so that Corey has 3 times as much as Abb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ounded Rectangle 8"/>
          <p:cNvSpPr/>
          <p:nvPr/>
        </p:nvSpPr>
        <p:spPr>
          <a:xfrm>
            <a:off x="357120" y="5000760"/>
            <a:ext cx="3786120" cy="1357200"/>
          </a:xfrm>
          <a:prstGeom prst="roundRect">
            <a:avLst>
              <a:gd name="adj" fmla="val 16667"/>
            </a:avLst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6"/>
          <p:cNvSpPr/>
          <p:nvPr/>
        </p:nvSpPr>
        <p:spPr>
          <a:xfrm>
            <a:off x="4286160" y="4214880"/>
            <a:ext cx="3643560" cy="1357200"/>
          </a:xfrm>
          <a:prstGeom prst="roundRect">
            <a:avLst>
              <a:gd name="adj" fmla="val 16667"/>
            </a:avLst>
          </a:prstGeom>
          <a:solidFill>
            <a:srgbClr val="59a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09440" y="139680"/>
            <a:ext cx="4694400" cy="731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549576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6"/>
          <p:cNvSpPr/>
          <p:nvPr/>
        </p:nvSpPr>
        <p:spPr>
          <a:xfrm>
            <a:off x="155520" y="-770040"/>
            <a:ext cx="147636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428760" y="857160"/>
            <a:ext cx="7429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nd the average for each of the following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24 and 148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93 and 111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92, 30 and 60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84, 40 and 40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7, 4, 18, and 9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4, 12, 16, 24, 10 and 8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56, 12, 24 and 24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7, 22, 94, 10 and 12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5, 20, 20, 7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4, 31, 25, 13 and 12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4286160" y="435780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average age of five children is 6. If four of their ages are 7, 6, 4 and 5, what is the age of the fifth chil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7"/>
          <p:cNvSpPr/>
          <p:nvPr/>
        </p:nvSpPr>
        <p:spPr>
          <a:xfrm>
            <a:off x="357120" y="507204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itch worked on 5 Saturdays and earned $15.40, $18.20, $20, 416.60 and $19.20. What was her average earning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2520" y="208080"/>
            <a:ext cx="8480520" cy="7365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214200" y="928440"/>
            <a:ext cx="7786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im works at the </a:t>
            </a:r>
            <a:r>
              <a:rPr b="0" lang="en-AU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hocolate factory </a:t>
            </a: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has to clock</a:t>
            </a:r>
            <a:r>
              <a:rPr b="0" lang="en-AU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in </a:t>
            </a: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</a:t>
            </a:r>
            <a:r>
              <a:rPr b="0" lang="en-AU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ut</a:t>
            </a: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work each day. Fill in the incomplete</a:t>
            </a:r>
            <a:r>
              <a:rPr b="0" lang="en-AU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timecard </a:t>
            </a: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low and answer the following question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many hours did Kim work this week?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40 hours work Kim receives $11.30 per hour. All time over 40 hours pays $16.70 per hour. What salary did Kim receive this week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much did Kim make at the overtime rate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much did Kim make at the regular rate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5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21420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9"/>
          <p:cNvSpPr/>
          <p:nvPr/>
        </p:nvSpPr>
        <p:spPr>
          <a:xfrm>
            <a:off x="357120" y="571500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Challenge Question: </a:t>
            </a:r>
            <a:r>
              <a:rPr b="0" lang="en-AU" sz="1800" spc="-1" strike="noStrike">
                <a:solidFill>
                  <a:srgbClr val="0070c0"/>
                </a:solidFill>
                <a:latin typeface="Arial"/>
              </a:rPr>
              <a:t>A pendulum swings 15 times in 30 seconds. How many times will it swing in one hour?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28760" y="3714840"/>
          <a:ext cx="7143480" cy="1854000"/>
        </p:xfrm>
        <a:graphic>
          <a:graphicData uri="http://schemas.openxmlformats.org/drawingml/2006/table">
            <a:tbl>
              <a:tblPr/>
              <a:tblGrid>
                <a:gridCol w="1714320"/>
                <a:gridCol w="1143000"/>
                <a:gridCol w="1071720"/>
                <a:gridCol w="1143000"/>
                <a:gridCol w="1071360"/>
                <a:gridCol w="100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.00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.30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.00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.00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.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.0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.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.15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.45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.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ME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VER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318" name="Picture 10" descr="c:\Users\08760829\AppData\Local\Microsoft\Windows\Temporary Internet Files\Content.IE5\KOIOT0NA\MC900351894[1].wmf"/>
          <p:cNvPicPr/>
          <p:nvPr/>
        </p:nvPicPr>
        <p:blipFill>
          <a:blip r:embed="rId3"/>
          <a:stretch/>
        </p:blipFill>
        <p:spPr>
          <a:xfrm>
            <a:off x="7500960" y="5715000"/>
            <a:ext cx="60012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182520" y="281160"/>
            <a:ext cx="848052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"/>
          <p:cNvGraphicFramePr/>
          <p:nvPr/>
        </p:nvGraphicFramePr>
        <p:xfrm>
          <a:off x="2214720" y="1143000"/>
          <a:ext cx="4186080" cy="4537080"/>
        </p:xfrm>
        <a:graphic>
          <a:graphicData uri="http://schemas.openxmlformats.org/drawingml/2006/table">
            <a:tbl>
              <a:tblPr/>
              <a:tblGrid>
                <a:gridCol w="2114280"/>
                <a:gridCol w="2071800"/>
              </a:tblGrid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y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 for ter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321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358120" y="142920"/>
            <a:ext cx="62064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884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ttp://www.google.lk/images?q=tbn:sfoaNe1Gr_bofM::www.uis.edu/studentaffairs/students/images/desk_calendar_1.gif&amp;h=94&amp;w=94&amp;usg=__wyHRRsORN8yqRXjwTh0oP5oolgA=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7120" y="1143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14288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http://www.google.lk/images?q=tbn:sfoaNe1Gr_bofM::www.uis.edu/studentaffairs/students/images/desk_calendar_1.gif&amp;h=94&amp;w=94&amp;usg=__wyHRRsORN8yqRXjwTh0oP5oolgA=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57120" y="221472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www.google.lk/images?q=tbn:sfoaNe1Gr_bofM::www.uis.edu/studentaffairs/students/images/desk_calendar_1.gif&amp;h=94&amp;w=94&amp;usg=__wyHRRsORN8yqRXjwTh0oP5oolgA=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7120" y="32148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ttp://www.google.lk/images?q=tbn:sfoaNe1Gr_bofM::www.uis.edu/studentaffairs/students/images/desk_calendar_1.gif&amp;h=94&amp;w=94&amp;usg=__wyHRRsORN8yqRXjwTh0oP5oolgA=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57120" y="4286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ttp://www.google.lk/images?q=tbn:sfoaNe1Gr_bofM::www.uis.edu/studentaffairs/students/images/desk_calendar_1.gif&amp;h=94&amp;w=94&amp;usg=__wyHRRsORN8yqRXjwTh0oP5oolgA=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7120" y="5286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http://www.google.lk/images?q=tbn:sfoaNe1Gr_bofM::www.uis.edu/studentaffairs/students/images/desk_calendar_1.gif&amp;h=94&amp;w=94&amp;usg=__wyHRRsORN8yqRXjwTh0oP5oolgA=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571920" y="11430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://www.google.lk/images?q=tbn:sfoaNe1Gr_bofM::www.uis.edu/studentaffairs/students/images/desk_calendar_1.gif&amp;h=94&amp;w=94&amp;usg=__wyHRRsORN8yqRXjwTh0oP5oolgA=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571920" y="214308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://www.google.lk/images?q=tbn:sfoaNe1Gr_bofM::www.uis.edu/studentaffairs/students/images/desk_calendar_1.gif&amp;h=94&amp;w=94&amp;usg=__wyHRRsORN8yqRXjwTh0oP5oolgA=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5719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www.google.lk/images?q=tbn:sfoaNe1Gr_bofM::www.uis.edu/studentaffairs/students/images/desk_calendar_1.gif&amp;h=94&amp;w=94&amp;usg=__wyHRRsORN8yqRXjwTh0oP5oolgA=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3571920" y="42148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4"/>
          <p:cNvSpPr/>
          <p:nvPr/>
        </p:nvSpPr>
        <p:spPr>
          <a:xfrm>
            <a:off x="1428840" y="2357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1428840" y="3500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1500120" y="4429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1571760" y="5429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48578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4929120" y="2214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4929120" y="3429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1"/>
          <p:cNvSpPr/>
          <p:nvPr/>
        </p:nvSpPr>
        <p:spPr>
          <a:xfrm>
            <a:off x="5000760" y="4429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5" descr="http://www.google.lk/images?q=tbn:fLsHEJNrLc7EDM::media1.behance.com/article_images/5718_1_results.gif&amp;h=94&amp;w=125&amp;usg=__TLOEutJG8_TWgzdz9_ouANkPjcA=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6786720" y="4214880"/>
            <a:ext cx="1643040" cy="1235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http://www.google.lk/images?q=tbn:sfoaNe1Gr_bofM::www.uis.edu/studentaffairs/students/images/desk_calendar_1.gif&amp;h=94&amp;w=94&amp;usg=__wyHRRsORN8yqRXjwTh0oP5oolgA="/>
          <p:cNvPicPr/>
          <p:nvPr/>
        </p:nvPicPr>
        <p:blipFill>
          <a:blip r:embed="rId22"/>
          <a:stretch/>
        </p:blipFill>
        <p:spPr>
          <a:xfrm>
            <a:off x="6715080" y="357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1"/>
          <p:cNvSpPr/>
          <p:nvPr/>
        </p:nvSpPr>
        <p:spPr>
          <a:xfrm>
            <a:off x="6429240" y="135720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alleng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1"/>
          <p:cNvSpPr/>
          <p:nvPr/>
        </p:nvSpPr>
        <p:spPr>
          <a:xfrm>
            <a:off x="6429240" y="31431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alleng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http://www.google.lk/images?q=tbn:sfoaNe1Gr_bofM::www.uis.edu/studentaffairs/students/images/desk_calendar_1.gif&amp;h=94&amp;w=94&amp;usg=__wyHRRsORN8yqRXjwTh0oP5oolgA="/>
          <p:cNvPicPr/>
          <p:nvPr/>
        </p:nvPicPr>
        <p:blipFill>
          <a:blip r:embed="rId23"/>
          <a:stretch/>
        </p:blipFill>
        <p:spPr>
          <a:xfrm>
            <a:off x="6786720" y="2000160"/>
            <a:ext cx="78552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738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48" name="TextBox 6"/>
          <p:cNvSpPr/>
          <p:nvPr/>
        </p:nvSpPr>
        <p:spPr>
          <a:xfrm>
            <a:off x="428760" y="571500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Today I was successful because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C:\Program Files\Microsoft Office\Media\CntCD1\Animated\j0205402.gif"/>
          <p:cNvPicPr/>
          <p:nvPr/>
        </p:nvPicPr>
        <p:blipFill>
          <a:blip r:embed="rId3"/>
          <a:stretch/>
        </p:blipFill>
        <p:spPr>
          <a:xfrm>
            <a:off x="5929200" y="0"/>
            <a:ext cx="201924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500040" y="1357200"/>
          <a:ext cx="6858000" cy="79236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500040" y="2357280"/>
          <a:ext cx="6858000" cy="79236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252" name="TextBox 13"/>
          <p:cNvSpPr/>
          <p:nvPr/>
        </p:nvSpPr>
        <p:spPr>
          <a:xfrm>
            <a:off x="714240" y="100008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lete these number gri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4"/>
          <p:cNvSpPr/>
          <p:nvPr/>
        </p:nvSpPr>
        <p:spPr>
          <a:xfrm>
            <a:off x="357120" y="328608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lete these squares so that each row, column and diagonal adds up to the same numb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00040" y="4143240"/>
          <a:ext cx="2500200" cy="1371600"/>
        </p:xfrm>
        <a:graphic>
          <a:graphicData uri="http://schemas.openxmlformats.org/drawingml/2006/table">
            <a:tbl>
              <a:tblPr/>
              <a:tblGrid>
                <a:gridCol w="928800"/>
                <a:gridCol w="785880"/>
                <a:gridCol w="785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d7ec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d7ec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d7ecd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ecf6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4572000" y="4143240"/>
          <a:ext cx="2500200" cy="1371600"/>
        </p:xfrm>
        <a:graphic>
          <a:graphicData uri="http://schemas.openxmlformats.org/drawingml/2006/table">
            <a:tbl>
              <a:tblPr/>
              <a:tblGrid>
                <a:gridCol w="928800"/>
                <a:gridCol w="785880"/>
                <a:gridCol w="785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36360" y="281160"/>
            <a:ext cx="8485200" cy="736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142920" y="1071720"/>
            <a:ext cx="7858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Volume= Length x Width x Height. Don’t forget to complete your answer with the correct measurement symbol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L= 5cm, H= 4cm, W=4cm= __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L= 25cm, H= 10cm, W=4cm= 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L= 75cm, H= 44cm, W=3cm= 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L= 10cm, H= 10cm, W=10cm= 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Find the missing value to complete the equatio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V= 60cm3  L= 10cm, W=3cm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=  _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V= 28cm3  L= 2cm, W=2cm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=  _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V= 750cm3  L= 10cm, H=15cm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=  _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V= 500cm3  L= 25cm, W=2cm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=  __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V= 150cm3  L= 3cm, H=5cm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L=  __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549576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7"/>
          <p:cNvSpPr/>
          <p:nvPr/>
        </p:nvSpPr>
        <p:spPr>
          <a:xfrm>
            <a:off x="285840" y="571500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b050"/>
                </a:solidFill>
                <a:latin typeface="Arial"/>
              </a:rPr>
              <a:t>Today I had a problem trying to 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c:\Users\08760829\AppData\Local\Microsoft\Windows\Temporary Internet Files\Content.IE5\XM06B01Y\MC900290936[1].wmf"/>
          <p:cNvPicPr/>
          <p:nvPr/>
        </p:nvPicPr>
        <p:blipFill>
          <a:blip r:embed="rId3"/>
          <a:stretch/>
        </p:blipFill>
        <p:spPr>
          <a:xfrm>
            <a:off x="6072120" y="1500120"/>
            <a:ext cx="1681200" cy="1441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c:\Users\08760829\AppData\Local\Microsoft\Windows\Temporary Internet Files\Content.IE5\XM06B01Y\MC900290936[1].wmf"/>
          <p:cNvPicPr/>
          <p:nvPr/>
        </p:nvPicPr>
        <p:blipFill>
          <a:blip r:embed="rId4"/>
          <a:stretch/>
        </p:blipFill>
        <p:spPr>
          <a:xfrm>
            <a:off x="7143840" y="2357280"/>
            <a:ext cx="16812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le 1" descr=""/>
          <p:cNvPicPr/>
          <p:nvPr/>
        </p:nvPicPr>
        <p:blipFill>
          <a:blip r:embed="rId1"/>
          <a:stretch/>
        </p:blipFill>
        <p:spPr>
          <a:xfrm>
            <a:off x="36360" y="208080"/>
            <a:ext cx="8485200" cy="736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549576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5"/>
          <p:cNvSpPr/>
          <p:nvPr/>
        </p:nvSpPr>
        <p:spPr>
          <a:xfrm>
            <a:off x="5429160" y="321480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030a0"/>
                </a:solidFill>
                <a:latin typeface="Arial"/>
              </a:rPr>
              <a:t>I think I am becoming an expert because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28760" y="928800"/>
          <a:ext cx="4905360" cy="4079880"/>
        </p:xfrm>
        <a:graphic>
          <a:graphicData uri="http://schemas.openxmlformats.org/drawingml/2006/table">
            <a:tbl>
              <a:tblPr/>
              <a:tblGrid>
                <a:gridCol w="2857320"/>
                <a:gridCol w="2048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What is..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y answer is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% of $2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% of $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3% of $3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% of $4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% of $15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5% of 5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% of 1 to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% of $2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% of 3min and 10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5% of $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66" name="Picture 76" descr="c:\Users\08760829\AppData\Local\Microsoft\Windows\Temporary Internet Files\Content.IE5\KOIOT0NA\MC900282188[1].wmf"/>
          <p:cNvPicPr/>
          <p:nvPr/>
        </p:nvPicPr>
        <p:blipFill>
          <a:blip r:embed="rId3"/>
          <a:stretch/>
        </p:blipFill>
        <p:spPr>
          <a:xfrm>
            <a:off x="5572080" y="428760"/>
            <a:ext cx="2143080" cy="239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" name=""/>
          <p:cNvGraphicFramePr/>
          <p:nvPr/>
        </p:nvGraphicFramePr>
        <p:xfrm>
          <a:off x="214200" y="5429160"/>
          <a:ext cx="7858080" cy="1036800"/>
        </p:xfrm>
        <a:graphic>
          <a:graphicData uri="http://schemas.openxmlformats.org/drawingml/2006/table">
            <a:tbl>
              <a:tblPr/>
              <a:tblGrid>
                <a:gridCol w="928800"/>
                <a:gridCol w="714240"/>
                <a:gridCol w="714600"/>
                <a:gridCol w="571320"/>
                <a:gridCol w="642960"/>
                <a:gridCol w="928800"/>
                <a:gridCol w="785880"/>
                <a:gridCol w="785880"/>
                <a:gridCol w="785520"/>
                <a:gridCol w="1000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1" descr=""/>
          <p:cNvPicPr/>
          <p:nvPr/>
        </p:nvPicPr>
        <p:blipFill>
          <a:blip r:embed="rId1"/>
          <a:stretch/>
        </p:blipFill>
        <p:spPr>
          <a:xfrm>
            <a:off x="36360" y="208080"/>
            <a:ext cx="848520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1214280" y="2500200"/>
          <a:ext cx="5286600" cy="2530440"/>
        </p:xfrm>
        <a:graphic>
          <a:graphicData uri="http://schemas.openxmlformats.org/drawingml/2006/table">
            <a:tbl>
              <a:tblPr/>
              <a:tblGrid>
                <a:gridCol w="1000440"/>
                <a:gridCol w="928440"/>
                <a:gridCol w="1214640"/>
                <a:gridCol w="1143000"/>
                <a:gridCol w="1000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 and 5te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70" name="TextBox 6"/>
          <p:cNvSpPr/>
          <p:nvPr/>
        </p:nvSpPr>
        <p:spPr>
          <a:xfrm>
            <a:off x="500040" y="1143000"/>
            <a:ext cx="67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92d050"/>
                </a:solidFill>
                <a:latin typeface="Arial"/>
              </a:rPr>
              <a:t>Fill in the gaps to complete the table. Good Lu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255600" y="353880"/>
            <a:ext cx="8480520" cy="7365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285840" y="999720"/>
            <a:ext cx="85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Following these instructions to test your number fact skill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on the </a:t>
            </a:r>
            <a:r>
              <a:rPr b="0" lang="en-AU" sz="2000" spc="-1" strike="noStrike">
                <a:solidFill>
                  <a:srgbClr val="ffc000"/>
                </a:solidFill>
                <a:latin typeface="Andalus"/>
                <a:ea typeface="Andalus"/>
              </a:rPr>
              <a:t>Maths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 button in </a:t>
            </a:r>
            <a:r>
              <a:rPr b="0" lang="en-AU" sz="2000" spc="-1" strike="noStrike">
                <a:solidFill>
                  <a:srgbClr val="0070c0"/>
                </a:solidFill>
                <a:latin typeface="Andalus"/>
                <a:ea typeface="Andalus"/>
              </a:rPr>
              <a:t>Edu st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on “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ux of Math Command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“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Play Alone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Select your play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game will start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See how far you can go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ndalus"/>
                <a:ea typeface="Andalus"/>
              </a:rPr>
              <a:t>Good Luck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285840" y="5286240"/>
            <a:ext cx="981000" cy="1362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c:\Users\08760829\AppData\Local\Microsoft\Windows\Temporary Internet Files\Content.IE5\KOIOT0NA\MC900052604[1].wmf"/>
          <p:cNvPicPr/>
          <p:nvPr/>
        </p:nvPicPr>
        <p:blipFill>
          <a:blip r:embed="rId3"/>
          <a:stretch/>
        </p:blipFill>
        <p:spPr>
          <a:xfrm>
            <a:off x="7358040" y="4786200"/>
            <a:ext cx="1322280" cy="1812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c:\Users\08760829\AppData\Local\Microsoft\Windows\Temporary Internet Files\Content.IE5\XM06B01Y\MC900057449[1].wmf"/>
          <p:cNvPicPr/>
          <p:nvPr/>
        </p:nvPicPr>
        <p:blipFill>
          <a:blip r:embed="rId4"/>
          <a:stretch/>
        </p:blipFill>
        <p:spPr>
          <a:xfrm>
            <a:off x="1428840" y="4857840"/>
            <a:ext cx="820800" cy="17287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8"/>
          <p:cNvSpPr/>
          <p:nvPr/>
        </p:nvSpPr>
        <p:spPr>
          <a:xfrm>
            <a:off x="2428920" y="528624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enjoyed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itle 1" descr=""/>
          <p:cNvPicPr/>
          <p:nvPr/>
        </p:nvPicPr>
        <p:blipFill>
          <a:blip r:embed="rId1"/>
          <a:stretch/>
        </p:blipFill>
        <p:spPr>
          <a:xfrm>
            <a:off x="109440" y="208080"/>
            <a:ext cx="7755120" cy="736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286840" y="214200"/>
            <a:ext cx="714240" cy="99216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0"/>
          <p:cNvSpPr/>
          <p:nvPr/>
        </p:nvSpPr>
        <p:spPr>
          <a:xfrm>
            <a:off x="3929040" y="1071720"/>
            <a:ext cx="492912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Which type of music was most popular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Which type of music was second most popular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List the music types in order of popularity from least popular to most popul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What is your estimation of the percentage of people who preferred rock music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What can you say about the popularity of classical music compared to folk music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What is your estimate of the percentage of people who preferred all of the other types of music except rock and pop music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What is your estimate of the percentage of people who preferred pop an rock music combined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Which 2 types of music were equal in popularit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True or False? More people like pop music than rock and classical music combine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True or False? More people like rock music than folk, classical and country music combined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285840" y="5286240"/>
            <a:ext cx="36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hen looking at graphs its important to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hart 8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3786480" cy="4286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C:\Program Files\Microsoft Office\Media\CntCD1\Animated\j0213485.gif"/>
          <p:cNvPicPr/>
          <p:nvPr/>
        </p:nvPicPr>
        <p:blipFill>
          <a:blip r:embed="rId4"/>
          <a:stretch/>
        </p:blipFill>
        <p:spPr>
          <a:xfrm>
            <a:off x="3286080" y="928800"/>
            <a:ext cx="695520" cy="1266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C:\Program Files\Microsoft Office\Media\CntCD1\Animated\j0213485.gif"/>
          <p:cNvPicPr/>
          <p:nvPr/>
        </p:nvPicPr>
        <p:blipFill>
          <a:blip r:embed="rId5"/>
          <a:stretch/>
        </p:blipFill>
        <p:spPr>
          <a:xfrm>
            <a:off x="357120" y="928800"/>
            <a:ext cx="695520" cy="1266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C:\Program Files\Microsoft Office\Media\CntCD1\Animated\j0213485.gif"/>
          <p:cNvPicPr/>
          <p:nvPr/>
        </p:nvPicPr>
        <p:blipFill>
          <a:blip r:embed="rId6"/>
          <a:stretch/>
        </p:blipFill>
        <p:spPr>
          <a:xfrm>
            <a:off x="3286080" y="4214880"/>
            <a:ext cx="6955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c:\Users\08760829\AppData\Local\Microsoft\Windows\Temporary Internet Files\Content.IE5\XM06B01Y\MP910216664[1].jpg"/>
          <p:cNvPicPr/>
          <p:nvPr/>
        </p:nvPicPr>
        <p:blipFill>
          <a:blip r:embed="rId1"/>
          <a:stretch/>
        </p:blipFill>
        <p:spPr>
          <a:xfrm>
            <a:off x="6215040" y="214200"/>
            <a:ext cx="1819440" cy="1214640"/>
          </a:xfrm>
          <a:prstGeom prst="rect">
            <a:avLst/>
          </a:prstGeom>
          <a:ln w="0">
            <a:noFill/>
          </a:ln>
        </p:spPr>
      </p:pic>
      <p:pic>
        <p:nvPicPr>
          <p:cNvPr id="286" name="Title 1" descr=""/>
          <p:cNvPicPr/>
          <p:nvPr/>
        </p:nvPicPr>
        <p:blipFill>
          <a:blip r:embed="rId2"/>
          <a:stretch/>
        </p:blipFill>
        <p:spPr>
          <a:xfrm>
            <a:off x="182520" y="420840"/>
            <a:ext cx="8480520" cy="738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500040" y="1143000"/>
            <a:ext cx="77868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Complete the following counting problems by filling in the missing number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754, 159, _____, 169, 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_____, 661, 656, 651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_____, 737, 727, 717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333, 666, _____, 2664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12, 424, 848, _____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3914, 8914, _____, 18 914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7497, 5497, 3497, _____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_____, 6394, 6284, 6174, _____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_____, 717, _____, 757, 777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7 336, _____, 7336, 2336, _____, _____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8" name="Picture 76" descr="http://t1.gstatic.com/images?q=tbn:kszp1p0xUM-35M:http://www.ene.gov.on.ca/en/myenvironment/house-small.jpg"/>
          <p:cNvPicPr/>
          <p:nvPr/>
        </p:nvPicPr>
        <p:blipFill>
          <a:blip r:embed="rId3"/>
          <a:stretch/>
        </p:blipFill>
        <p:spPr>
          <a:xfrm>
            <a:off x="8163000" y="549576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4"/>
          <p:cNvSpPr/>
          <p:nvPr/>
        </p:nvSpPr>
        <p:spPr>
          <a:xfrm>
            <a:off x="785880" y="53578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need to practise.......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429240" y="1643040"/>
          <a:ext cx="547920" cy="4303800"/>
        </p:xfrm>
        <a:graphic>
          <a:graphicData uri="http://schemas.openxmlformats.org/drawingml/2006/table">
            <a:tbl>
              <a:tblPr/>
              <a:tblGrid>
                <a:gridCol w="547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7358040" y="1687680"/>
          <a:ext cx="633600" cy="5170320"/>
        </p:xfrm>
        <a:graphic>
          <a:graphicData uri="http://schemas.openxmlformats.org/drawingml/2006/table">
            <a:tbl>
              <a:tblPr/>
              <a:tblGrid>
                <a:gridCol w="633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1:16:01Z</dcterms:created>
  <dc:creator>Education</dc:creator>
  <dc:description/>
  <dc:language>en-US</dc:language>
  <cp:lastModifiedBy>Education</cp:lastModifiedBy>
  <dcterms:modified xsi:type="dcterms:W3CDTF">2010-09-12T10:29:33Z</dcterms:modified>
  <cp:revision>104</cp:revision>
  <dc:subject/>
  <dc:title>Weekly Mathematics Revision Activities</dc:title>
</cp:coreProperties>
</file>