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2.gif" ContentType="image/gif"/>
  <Override PartName="/ppt/media/image25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4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C78-D0A2-4020-A337-9222C265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596-E009-4989-92A9-C441B81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D63-AA5D-4E9A-A10D-A6D32B1C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455-6755-43D0-BF26-35E77774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ED9-EEE2-4A52-837F-12B6DCCB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8DE-D227-4DC6-A067-6B6FDA7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FA2-0B83-44CC-B88E-005B0DE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7609-EC05-47EF-9EDA-24C04B9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271F-4AF1-42A4-8C06-AB76932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C08-B4FF-4F84-8E42-53CFB4FC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8C4C-1B22-4EB5-A74B-C3EAD2C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8E5-814A-4CE6-AD16-CE330BD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E546-BC0A-42C3-88FB-420C6F3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1A5-D0E9-4AC3-AEC1-CD30014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BC9C-A0BB-4DC2-9551-315AA8B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784D-A52C-491C-B6CB-D5E88A0A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F2B-7BAD-428F-82E8-4D120C4D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3B19-0FD8-4A51-ACFD-26DFAC84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7986-C4D5-4F73-91C9-CDF259F6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DD28-C982-43F2-9E71-D0B18793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A18F-9B9D-48A1-B3D6-8DD0310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B7D0-F044-4076-AAEA-D2839CB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035-B461-4A63-8E54-13399FF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9B64-A2EA-42EE-91DB-42EEF9E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2747-DCE0-43CD-B455-B8E72DD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927B-45A2-4AE8-8DAE-E0B108A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5FE9-E464-46CD-AACE-2EE39EC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ECBC-B207-4A04-BBDB-70D7E05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34E9-4634-442C-BB89-212ABAD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5223-2D40-4D75-9AAE-F76A0234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FA62-86DD-48FE-A962-F79EF6D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C1C9-6403-49A3-8E66-DEB31DE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8FDA-A106-406E-B2F0-199B2722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CFE-0098-4674-B6E2-ADCBA2DD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01BB-B126-4648-AC91-79935F8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CBE8-3D6E-4227-B7E8-463675AD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8770-5254-498E-A37D-6AC3850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E9F2-8B4B-4AD7-8076-64E3F0E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65DE-8937-41CE-ACCE-46BD956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6915-6AEA-49F9-AFCE-5D5A591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DE12-24A8-43AF-AA11-79A8F37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0B29-C737-4E66-A97A-068837C6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E08F-13BB-43D8-8C11-BA137AF5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FDB4-5D36-4CEF-B311-840C69AC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333-8BB9-4656-9EA5-387C2498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8FBE-217C-4CB5-9924-7B92CAA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D97D-3FDC-4AB8-9B32-3464A3C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EA3D-3F90-4E17-AC24-F08E2491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E0C24-3A63-4430-8EA0-1CAD9C5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F45F-CFF6-46A5-BA63-60E7AD59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CCFA-8289-4581-8746-48110E3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26B6-AC9D-4CE3-AE3E-CCB2C2B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D419-405D-4CD7-B1F0-34E0DEE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F3C7-2A90-4AF4-8C4C-E9EF0D67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31EC-0069-4BCE-A530-CC945B04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C87-B9A7-448A-A3E2-33CF5281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E4F1-93C8-4FAA-96E0-BF6A75DE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D62-A449-4E3E-8522-E603DD3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4DA-ECF3-4FD1-8C09-DFFFD2F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5C7-3D6F-4EB9-B82A-FA040CF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C183-F08E-4A1C-8354-A0F5A3A8527B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D569-B0AA-4243-AD80-1B6AE93D91E0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53D-46A5-4232-9F11-43D00B5BFEEC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7A6F-1DC3-4131-B282-2A44F58D53DC}" type="slidenum">
              <a:rPr b="0" lang="en-AU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84D-6957-41E6-85B4-3F4C954A6680}" type="slidenum">
              <a:rPr b="0" lang="en-A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7.jpeg"/><Relationship Id="rId10" Type="http://schemas.openxmlformats.org/officeDocument/2006/relationships/slide" Target="slide8.xml"/><Relationship Id="rId11" Type="http://schemas.openxmlformats.org/officeDocument/2006/relationships/image" Target="../media/image7.jpeg"/><Relationship Id="rId12" Type="http://schemas.openxmlformats.org/officeDocument/2006/relationships/slide" Target="slide9.xml"/><Relationship Id="rId13" Type="http://schemas.openxmlformats.org/officeDocument/2006/relationships/image" Target="../media/image7.jpeg"/><Relationship Id="rId14" Type="http://schemas.openxmlformats.org/officeDocument/2006/relationships/slide" Target="slide10.xml"/><Relationship Id="rId15" Type="http://schemas.openxmlformats.org/officeDocument/2006/relationships/image" Target="../media/image7.jpeg"/><Relationship Id="rId16" Type="http://schemas.openxmlformats.org/officeDocument/2006/relationships/slide" Target="slide12.xml"/><Relationship Id="rId17" Type="http://schemas.openxmlformats.org/officeDocument/2006/relationships/image" Target="../media/image7.jpeg"/><Relationship Id="rId18" Type="http://schemas.openxmlformats.org/officeDocument/2006/relationships/slide" Target="slide13.xml"/><Relationship Id="rId19" Type="http://schemas.openxmlformats.org/officeDocument/2006/relationships/image" Target="../media/image7.jpeg"/><Relationship Id="rId20" Type="http://schemas.openxmlformats.org/officeDocument/2006/relationships/slide" Target="slide14.xml"/><Relationship Id="rId21" Type="http://schemas.openxmlformats.org/officeDocument/2006/relationships/image" Target="../media/image8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1920" y="1206360"/>
            <a:ext cx="6254640" cy="21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4f7dc"/>
                </a:solidFill>
                <a:latin typeface="Trebuchet MS"/>
              </a:rPr>
              <a:t>My name i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485200" cy="738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7929720" y="78588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6"/>
          <p:cNvSpPr/>
          <p:nvPr/>
        </p:nvSpPr>
        <p:spPr>
          <a:xfrm>
            <a:off x="285840" y="64296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ley spent $3.50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nnah spent $3.75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y spent $3.95. What could 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 spent $6.90. What could she hav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on spent $4.75. What would his change be if he paid with a $5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rah spent $7.45. What would her change be if she paid with a $10.00 dollar no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hot dogs, 3 cream buns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did I spent if I bought 2 Pies, 2 fruit bar, 1 frozen fruit and a bottle of wa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14200" y="4929120"/>
          <a:ext cx="7858080" cy="1514520"/>
        </p:xfrm>
        <a:graphic>
          <a:graphicData uri="http://schemas.openxmlformats.org/drawingml/2006/table">
            <a:tbl>
              <a:tblPr/>
              <a:tblGrid>
                <a:gridCol w="2341800"/>
                <a:gridCol w="2896920"/>
                <a:gridCol w="2619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t dogs $1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ad Sandwich 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lkshakes $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usage Roll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eam bun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nge Drinks $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s $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uit bars 3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 $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ties $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tato Chips 6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ozen fruit 5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296" name="TextBox 31"/>
          <p:cNvSpPr/>
          <p:nvPr/>
        </p:nvSpPr>
        <p:spPr>
          <a:xfrm>
            <a:off x="2286000" y="4357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"/>
              </a:rPr>
              <a:t>Canteen Pri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5-Point Star 10"/>
          <p:cNvSpPr/>
          <p:nvPr/>
        </p:nvSpPr>
        <p:spPr>
          <a:xfrm>
            <a:off x="4786200" y="4286160"/>
            <a:ext cx="3143520" cy="2571840"/>
          </a:xfrm>
          <a:custGeom>
            <a:avLst/>
            <a:gdLst>
              <a:gd name="textAreaLeft" fmla="*/ 971280 w 3143520"/>
              <a:gd name="textAreaRight" fmla="*/ 2172240 w 3143520"/>
              <a:gd name="textAreaTop" fmla="*/ 982440 h 2571840"/>
              <a:gd name="textAreaBottom" fmla="*/ 1964880 h 2571840"/>
            </a:gdLst>
            <a:ahLst/>
            <a:rect l="textAreaLeft" t="textAreaTop" r="textAreaRight" b="textAreaBottom"/>
            <a:pathLst>
              <a:path w="3143250" h="2571750">
                <a:moveTo>
                  <a:pt x="3" y="982318"/>
                </a:moveTo>
                <a:lnTo>
                  <a:pt x="1200621" y="982325"/>
                </a:lnTo>
                <a:lnTo>
                  <a:pt x="1571625" y="0"/>
                </a:lnTo>
                <a:lnTo>
                  <a:pt x="1942629" y="982325"/>
                </a:lnTo>
                <a:lnTo>
                  <a:pt x="3143247" y="982318"/>
                </a:lnTo>
                <a:lnTo>
                  <a:pt x="2171922" y="1589421"/>
                </a:lnTo>
                <a:lnTo>
                  <a:pt x="2542944" y="2571741"/>
                </a:lnTo>
                <a:lnTo>
                  <a:pt x="1571625" y="1964629"/>
                </a:lnTo>
                <a:lnTo>
                  <a:pt x="600306" y="2571741"/>
                </a:lnTo>
                <a:lnTo>
                  <a:pt x="971328" y="158942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Isosceles Triangle 8"/>
          <p:cNvSpPr/>
          <p:nvPr/>
        </p:nvSpPr>
        <p:spPr>
          <a:xfrm>
            <a:off x="4500720" y="1071720"/>
            <a:ext cx="3500280" cy="3071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7"/>
          <p:cNvSpPr/>
          <p:nvPr/>
        </p:nvSpPr>
        <p:spPr>
          <a:xfrm>
            <a:off x="500040" y="4143240"/>
            <a:ext cx="3786120" cy="2214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214200" y="1500120"/>
            <a:ext cx="4429080" cy="23576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0" y="201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571680" y="1571760"/>
            <a:ext cx="4143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2.25= ___________ 5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80= ___________ 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5.20= ___________20c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35.00= ___________ $5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40.00= ___________ $20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ve the following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20 x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.80 x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1.70 x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7.20 ÷ 8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6.30 ÷ 9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4929120" y="235728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the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½ of $7.2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¼ of $28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/10 of $1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/10 of $20.00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¾ of $1600.0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5143680" y="500076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re $160.00 between Corey and Abbey, so that Corey has 3 times as much as Abb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ounded Rectangle 8"/>
          <p:cNvSpPr/>
          <p:nvPr/>
        </p:nvSpPr>
        <p:spPr>
          <a:xfrm>
            <a:off x="357120" y="5000760"/>
            <a:ext cx="3786120" cy="1357200"/>
          </a:xfrm>
          <a:prstGeom prst="roundRect">
            <a:avLst>
              <a:gd name="adj" fmla="val 16667"/>
            </a:avLst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4286160" y="4214880"/>
            <a:ext cx="3643560" cy="1357200"/>
          </a:xfrm>
          <a:prstGeom prst="roundRect">
            <a:avLst>
              <a:gd name="adj" fmla="val 16667"/>
            </a:avLst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09440" y="139680"/>
            <a:ext cx="4694400" cy="731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155520" y="-770040"/>
            <a:ext cx="1476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428760" y="85716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d the average for each of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4 and 14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93 and 11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2, 30 and 6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84, 40 and 4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7, 4, 18, and 9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, 12, 16, 24, 10 and 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6, 12, 24 and 24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7, 22, 94, 10 and 1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5, 20, 20, 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4, 31, 25, 13 and 12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4286160" y="435780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verage age of five children is 6. If four of their ages are 7, 6, 4 and 5, what is the age of the fifth chi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357120" y="50720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tch worked on 5 Saturdays and earned $15.40, $18.20, $20, 416.60 and $19.20. What was her average earn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14200" y="9284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im works at the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hocolate factory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has to clock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n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ut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work each day. Fill in the incomplete</a:t>
            </a:r>
            <a:r>
              <a:rPr b="0" lang="en-A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timecard 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low and answer the following questio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hours did Kim work this week?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40 hours work Kim receives $11.30 per hour. All time over 40 hours pays $16.70 per hour. What salary did Kim receive this week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overtime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did Kim make at the regular rat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21420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9"/>
          <p:cNvSpPr/>
          <p:nvPr/>
        </p:nvSpPr>
        <p:spPr>
          <a:xfrm>
            <a:off x="357120" y="57150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allenge Question: </a:t>
            </a:r>
            <a:r>
              <a:rPr b="0" lang="en-AU" sz="1800" spc="-1" strike="noStrike">
                <a:solidFill>
                  <a:srgbClr val="0070c0"/>
                </a:solidFill>
                <a:latin typeface="Arial"/>
              </a:rPr>
              <a:t>A pendulum swings 15 times in 30 seconds. How many times will it swing in one hour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28760" y="3714840"/>
          <a:ext cx="7143480" cy="1854000"/>
        </p:xfrm>
        <a:graphic>
          <a:graphicData uri="http://schemas.openxmlformats.org/drawingml/2006/table">
            <a:tbl>
              <a:tblPr/>
              <a:tblGrid>
                <a:gridCol w="1714320"/>
                <a:gridCol w="1143000"/>
                <a:gridCol w="1071720"/>
                <a:gridCol w="1143000"/>
                <a:gridCol w="1071360"/>
                <a:gridCol w="100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3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.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.1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.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VER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318" name="Picture 10" descr="c:\Users\08760829\AppData\Local\Microsoft\Windows\Temporary Internet Files\Content.IE5\KOIOT0NA\MC900351894[1].wmf"/>
          <p:cNvPicPr/>
          <p:nvPr/>
        </p:nvPicPr>
        <p:blipFill>
          <a:blip r:embed="rId3"/>
          <a:stretch/>
        </p:blipFill>
        <p:spPr>
          <a:xfrm>
            <a:off x="7500960" y="5715000"/>
            <a:ext cx="6001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48052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2214720" y="1143000"/>
          <a:ext cx="4186080" cy="4537080"/>
        </p:xfrm>
        <a:graphic>
          <a:graphicData uri="http://schemas.openxmlformats.org/drawingml/2006/table">
            <a:tbl>
              <a:tblPr/>
              <a:tblGrid>
                <a:gridCol w="2114280"/>
                <a:gridCol w="20718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for ter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2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358120" y="142920"/>
            <a:ext cx="620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google.lk/images?q=tbn:sfoaNe1Gr_bofM::www.uis.edu/studentaffairs/students/images/desk_calendar_1.gif&amp;h=94&amp;w=94&amp;usg=__wyHRRsORN8yqRXjwTh0oP5oolgA=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google.lk/images?q=tbn:sfoaNe1Gr_bofM::www.uis.edu/studentaffairs/students/images/desk_calendar_1.gif&amp;h=94&amp;w=94&amp;usg=__wyHRRsORN8yqRXjwTh0oP5oolgA=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google.lk/images?q=tbn:sfoaNe1Gr_bofM::www.uis.edu/studentaffairs/students/images/desk_calendar_1.gif&amp;h=94&amp;w=94&amp;usg=__wyHRRsORN8yqRXjwTh0oP5oolgA=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google.lk/images?q=tbn:sfoaNe1Gr_bofM::www.uis.edu/studentaffairs/students/images/desk_calendar_1.gif&amp;h=94&amp;w=94&amp;usg=__wyHRRsORN8yqRXjwTh0oP5oolgA=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google.lk/images?q=tbn:sfoaNe1Gr_bofM::www.uis.edu/studentaffairs/students/images/desk_calendar_1.gif&amp;h=94&amp;w=94&amp;usg=__wyHRRsORN8yqRXjwTh0oP5oolgA=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google.lk/images?q=tbn:sfoaNe1Gr_bofM::www.uis.edu/studentaffairs/students/images/desk_calendar_1.gif&amp;h=94&amp;w=94&amp;usg=__wyHRRsORN8yqRXjwTh0oP5oolgA=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google.lk/images?q=tbn:sfoaNe1Gr_bofM::www.uis.edu/studentaffairs/students/images/desk_calendar_1.gif&amp;h=94&amp;w=94&amp;usg=__wyHRRsORN8yqRXjwTh0oP5oolgA=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google.lk/images?q=tbn:sfoaNe1Gr_bofM::www.uis.edu/studentaffairs/students/images/desk_calendar_1.gif&amp;h=94&amp;w=94&amp;usg=__wyHRRsORN8yqRXjwTh0oP5oolgA=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www.google.lk/images?q=tbn:sfoaNe1Gr_bofM::www.uis.edu/studentaffairs/students/images/desk_calendar_1.gif&amp;h=94&amp;w=94&amp;usg=__wyHRRsORN8yqRXjwTh0oP5oolgA=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http://www.google.lk/images?q=tbn:fLsHEJNrLc7EDM::media1.behance.com/article_images/5718_1_results.gif&amp;h=94&amp;w=125&amp;usg=__TLOEutJG8_TWgzdz9_ouANkPjcA=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2"/>
          <a:stretch/>
        </p:blipFill>
        <p:spPr>
          <a:xfrm>
            <a:off x="6715080" y="357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1"/>
          <p:cNvSpPr/>
          <p:nvPr/>
        </p:nvSpPr>
        <p:spPr>
          <a:xfrm>
            <a:off x="6429240" y="13572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6429240" y="3143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llen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www.google.lk/images?q=tbn:sfoaNe1Gr_bofM::www.uis.edu/studentaffairs/students/images/desk_calendar_1.gif&amp;h=94&amp;w=94&amp;usg=__wyHRRsORN8yqRXjwTh0oP5oolgA="/>
          <p:cNvPicPr/>
          <p:nvPr/>
        </p:nvPicPr>
        <p:blipFill>
          <a:blip r:embed="rId23"/>
          <a:stretch/>
        </p:blipFill>
        <p:spPr>
          <a:xfrm>
            <a:off x="6786720" y="2000160"/>
            <a:ext cx="785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42876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oday I was successful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C:\Program Files\Microsoft Office\Media\CntCD1\Animated\j0205402.gif"/>
          <p:cNvPicPr/>
          <p:nvPr/>
        </p:nvPicPr>
        <p:blipFill>
          <a:blip r:embed="rId3"/>
          <a:stretch/>
        </p:blipFill>
        <p:spPr>
          <a:xfrm>
            <a:off x="5929200" y="0"/>
            <a:ext cx="201924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500040" y="135720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00040" y="2357280"/>
          <a:ext cx="685800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13"/>
          <p:cNvSpPr/>
          <p:nvPr/>
        </p:nvSpPr>
        <p:spPr>
          <a:xfrm>
            <a:off x="714240" y="1000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number gri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357120" y="3286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lete these squares so that each row, column and diagonal adds up to the same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004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d7ec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0" y="4143240"/>
          <a:ext cx="2500200" cy="1371600"/>
        </p:xfrm>
        <a:graphic>
          <a:graphicData uri="http://schemas.openxmlformats.org/drawingml/2006/table">
            <a:tbl>
              <a:tblPr/>
              <a:tblGrid>
                <a:gridCol w="928800"/>
                <a:gridCol w="785880"/>
                <a:gridCol w="78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36360" y="281160"/>
            <a:ext cx="8485200" cy="736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42920" y="107172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olume= Length x Width x Height. Don’t forget to complete your answer with the correct measurement symbo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5cm, H= 4cm, W=4cm=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25cm, H= 10cm, W=4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75cm, H= 44cm, W=3cm= 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10cm, H= 10cm, W=10cm= 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nd the missing value to complete the equ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60cm3  L= 10cm, W=3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28cm3  L= 2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750cm3  L= 10cm, H=1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=  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500cm3  L= 25cm, W=2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V= 150cm3  L= 3cm, H=5cm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L=  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85840" y="57150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Arial"/>
              </a:rPr>
              <a:t>Today I had a problem trying to 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c:\Users\08760829\AppData\Local\Microsoft\Windows\Temporary Internet Files\Content.IE5\XM06B01Y\MC900290936[1].wmf"/>
          <p:cNvPicPr/>
          <p:nvPr/>
        </p:nvPicPr>
        <p:blipFill>
          <a:blip r:embed="rId3"/>
          <a:stretch/>
        </p:blipFill>
        <p:spPr>
          <a:xfrm>
            <a:off x="6072120" y="1500120"/>
            <a:ext cx="1681200" cy="1441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c:\Users\08760829\AppData\Local\Microsoft\Windows\Temporary Internet Files\Content.IE5\XM06B01Y\MC900290936[1].wmf"/>
          <p:cNvPicPr/>
          <p:nvPr/>
        </p:nvPicPr>
        <p:blipFill>
          <a:blip r:embed="rId4"/>
          <a:stretch/>
        </p:blipFill>
        <p:spPr>
          <a:xfrm>
            <a:off x="7143840" y="2357280"/>
            <a:ext cx="1681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5429160" y="32148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0a0"/>
                </a:solidFill>
                <a:latin typeface="Arial"/>
              </a:rPr>
              <a:t>I think I am becoming an expert becaus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8760" y="928800"/>
          <a:ext cx="4905360" cy="4079880"/>
        </p:xfrm>
        <a:graphic>
          <a:graphicData uri="http://schemas.openxmlformats.org/drawingml/2006/table">
            <a:tbl>
              <a:tblPr/>
              <a:tblGrid>
                <a:gridCol w="2857320"/>
                <a:gridCol w="2048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hat is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y answer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$2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% of $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% of $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% of $4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% of $15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% of 5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1 t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% of $2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% of 3min and 10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5% of 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76" descr="c:\Users\08760829\AppData\Local\Microsoft\Windows\Temporary Internet Files\Content.IE5\KOIOT0NA\MC900282188[1].wmf"/>
          <p:cNvPicPr/>
          <p:nvPr/>
        </p:nvPicPr>
        <p:blipFill>
          <a:blip r:embed="rId3"/>
          <a:stretch/>
        </p:blipFill>
        <p:spPr>
          <a:xfrm>
            <a:off x="5572080" y="428760"/>
            <a:ext cx="2143080" cy="239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214200" y="5429160"/>
          <a:ext cx="7858080" cy="1036800"/>
        </p:xfrm>
        <a:graphic>
          <a:graphicData uri="http://schemas.openxmlformats.org/drawingml/2006/table">
            <a:tbl>
              <a:tblPr/>
              <a:tblGrid>
                <a:gridCol w="928800"/>
                <a:gridCol w="714240"/>
                <a:gridCol w="714600"/>
                <a:gridCol w="571320"/>
                <a:gridCol w="642960"/>
                <a:gridCol w="928800"/>
                <a:gridCol w="785880"/>
                <a:gridCol w="785880"/>
                <a:gridCol w="785520"/>
                <a:gridCol w="100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36360" y="208080"/>
            <a:ext cx="84852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1214280" y="2500200"/>
          <a:ext cx="5286600" cy="2530440"/>
        </p:xfrm>
        <a:graphic>
          <a:graphicData uri="http://schemas.openxmlformats.org/drawingml/2006/table">
            <a:tbl>
              <a:tblPr/>
              <a:tblGrid>
                <a:gridCol w="1000440"/>
                <a:gridCol w="928440"/>
                <a:gridCol w="1214640"/>
                <a:gridCol w="1143000"/>
                <a:gridCol w="1000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 and 5te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6"/>
          <p:cNvSpPr/>
          <p:nvPr/>
        </p:nvSpPr>
        <p:spPr>
          <a:xfrm>
            <a:off x="500040" y="114300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2d050"/>
                </a:solidFill>
                <a:latin typeface="Arial"/>
              </a:rPr>
              <a:t>Fill in the gaps to complete the table. 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80520" cy="736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85840" y="99972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ollowing these instructions to test your number fact skill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the </a:t>
            </a:r>
            <a:r>
              <a:rPr b="0" lang="en-AU" sz="2000" spc="-1" strike="noStrike">
                <a:solidFill>
                  <a:srgbClr val="ffc000"/>
                </a:solidFill>
                <a:latin typeface="Andalus"/>
                <a:ea typeface="Andalus"/>
              </a:rPr>
              <a:t>Maths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 button in </a:t>
            </a:r>
            <a:r>
              <a:rPr b="0" lang="en-AU" sz="2000" spc="-1" strike="noStrike">
                <a:solidFill>
                  <a:srgbClr val="0070c0"/>
                </a:solidFill>
                <a:latin typeface="Andalus"/>
                <a:ea typeface="Andalus"/>
              </a:rPr>
              <a:t>Edu 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on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ux of Math Command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lick “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lay Alone</a:t>
            </a: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lect your play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game will star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ee how far you can go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ndal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ndalus"/>
                <a:ea typeface="Andalus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285840" y="5286240"/>
            <a:ext cx="981000" cy="1362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:\Users\08760829\AppData\Local\Microsoft\Windows\Temporary Internet Files\Content.IE5\KOIOT0NA\MC900052604[1].wmf"/>
          <p:cNvPicPr/>
          <p:nvPr/>
        </p:nvPicPr>
        <p:blipFill>
          <a:blip r:embed="rId3"/>
          <a:stretch/>
        </p:blipFill>
        <p:spPr>
          <a:xfrm>
            <a:off x="7358040" y="4786200"/>
            <a:ext cx="1322280" cy="181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c:\Users\08760829\AppData\Local\Microsoft\Windows\Temporary Internet Files\Content.IE5\XM06B01Y\MC900057449[1].wmf"/>
          <p:cNvPicPr/>
          <p:nvPr/>
        </p:nvPicPr>
        <p:blipFill>
          <a:blip r:embed="rId4"/>
          <a:stretch/>
        </p:blipFill>
        <p:spPr>
          <a:xfrm>
            <a:off x="1428840" y="4857840"/>
            <a:ext cx="820800" cy="1728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2428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enjoyed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7755120" cy="736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286840" y="214200"/>
            <a:ext cx="714240" cy="992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3929040" y="1071720"/>
            <a:ext cx="4929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type of music was second most popu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List the music types in order of popularity from least popular to most pop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ion of the percentage of people who preferred roc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can you say about the popularity of classical music compared to folk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all of the other types of music except rock and pop mus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s your estimate of the percentage of people who preferred pop an rock music combin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ich 2 types of music were equal in popularit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pop music than rock and classical music combin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True or False? More people like rock music than folk, classical and country music combine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2858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en looking at graphs its important to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hart 8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3786480" cy="428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Program Files\Microsoft Office\Media\CntCD1\Animated\j0213485.gif"/>
          <p:cNvPicPr/>
          <p:nvPr/>
        </p:nvPicPr>
        <p:blipFill>
          <a:blip r:embed="rId4"/>
          <a:stretch/>
        </p:blipFill>
        <p:spPr>
          <a:xfrm>
            <a:off x="328608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Program Files\Microsoft Office\Media\CntCD1\Animated\j0213485.gif"/>
          <p:cNvPicPr/>
          <p:nvPr/>
        </p:nvPicPr>
        <p:blipFill>
          <a:blip r:embed="rId5"/>
          <a:stretch/>
        </p:blipFill>
        <p:spPr>
          <a:xfrm>
            <a:off x="357120" y="92880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C:\Program Files\Microsoft Office\Media\CntCD1\Animated\j0213485.gif"/>
          <p:cNvPicPr/>
          <p:nvPr/>
        </p:nvPicPr>
        <p:blipFill>
          <a:blip r:embed="rId6"/>
          <a:stretch/>
        </p:blipFill>
        <p:spPr>
          <a:xfrm>
            <a:off x="3286080" y="421488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c:\Users\08760829\AppData\Local\Microsoft\Windows\Temporary Internet Files\Content.IE5\XM06B01Y\MP910216664[1].jpg"/>
          <p:cNvPicPr/>
          <p:nvPr/>
        </p:nvPicPr>
        <p:blipFill>
          <a:blip r:embed="rId1"/>
          <a:stretch/>
        </p:blipFill>
        <p:spPr>
          <a:xfrm>
            <a:off x="6215040" y="214200"/>
            <a:ext cx="1819440" cy="1214640"/>
          </a:xfrm>
          <a:prstGeom prst="rect">
            <a:avLst/>
          </a:prstGeom>
          <a:ln w="0">
            <a:noFill/>
          </a:ln>
        </p:spPr>
      </p:pic>
      <p:pic>
        <p:nvPicPr>
          <p:cNvPr id="286" name="Title 1" descr=""/>
          <p:cNvPicPr/>
          <p:nvPr/>
        </p:nvPicPr>
        <p:blipFill>
          <a:blip r:embed="rId2"/>
          <a:stretch/>
        </p:blipFill>
        <p:spPr>
          <a:xfrm>
            <a:off x="182520" y="420840"/>
            <a:ext cx="8480520" cy="73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500040" y="1143000"/>
            <a:ext cx="77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the following counting problems by filling in the missing number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54, 159, _____, 169, 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61, 656, 651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37, 727, 717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33, 666, _____, 266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12, 424, 848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3914, 8914, _____, 18 914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7497, 5497, 3497, _____, _____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6394, 6284, 6174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_____, 717, _____, 757, 777, 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7 336, _____, 7336, 2336, _____, _____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Picture 76" descr="http://t1.gstatic.com/images?q=tbn:kszp1p0xUM-35M:http://www.ene.gov.on.ca/en/myenvironment/house-small.jpg"/>
          <p:cNvPicPr/>
          <p:nvPr/>
        </p:nvPicPr>
        <p:blipFill>
          <a:blip r:embed="rId3"/>
          <a:stretch/>
        </p:blipFill>
        <p:spPr>
          <a:xfrm>
            <a:off x="8163000" y="5495760"/>
            <a:ext cx="981000" cy="13622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785880" y="5357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 need to practise.............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429240" y="1643040"/>
          <a:ext cx="547920" cy="4303800"/>
        </p:xfrm>
        <a:graphic>
          <a:graphicData uri="http://schemas.openxmlformats.org/drawingml/2006/table">
            <a:tbl>
              <a:tblPr/>
              <a:tblGrid>
                <a:gridCol w="5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358040" y="1687680"/>
          <a:ext cx="633600" cy="5170320"/>
        </p:xfrm>
        <a:graphic>
          <a:graphicData uri="http://schemas.openxmlformats.org/drawingml/2006/table">
            <a:tbl>
              <a:tblPr/>
              <a:tblGrid>
                <a:gridCol w="63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cca62"/>
                      </a:solidFill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5e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Education</cp:lastModifiedBy>
  <dcterms:modified xsi:type="dcterms:W3CDTF">2010-09-12T10:29:33Z</dcterms:modified>
  <cp:revision>104</cp:revision>
  <dc:subject/>
  <dc:title>Weekly Mathematics Revision Activities</dc:title>
</cp:coreProperties>
</file>