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CA9-2387-4DCA-A806-6E572DAA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615-49D3-4468-B72C-C122A232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8FC-E572-4033-9EB5-179AF8FA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08D-F826-430E-AF3B-0CE82B8C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710-037D-4E1B-8AF7-944FC35D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C7F-9443-4C87-854E-62F76E24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4E9-3156-4273-B57C-F6ED23B4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342-02C7-436E-9484-C0BD55B9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E6A-2FDC-484D-8571-34F5A432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75B-D82F-4538-ABFC-EF597FDD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1E3-2AE6-47AF-B648-2A31E52E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A87-55B5-4B9B-8FD4-34A5CCF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2594-DA4A-47D0-8199-55E3E46649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4.xml"/><Relationship Id="rId4" Type="http://schemas.openxmlformats.org/officeDocument/2006/relationships/image" Target="../media/image1.jpeg"/><Relationship Id="rId5" Type="http://schemas.openxmlformats.org/officeDocument/2006/relationships/slide" Target="slide5.xml"/><Relationship Id="rId6" Type="http://schemas.openxmlformats.org/officeDocument/2006/relationships/image" Target="../media/image1.jpeg"/><Relationship Id="rId7" Type="http://schemas.openxmlformats.org/officeDocument/2006/relationships/slide" Target="slide6.xml"/><Relationship Id="rId8" Type="http://schemas.openxmlformats.org/officeDocument/2006/relationships/image" Target="../media/image1.jpeg"/><Relationship Id="rId9" Type="http://schemas.openxmlformats.org/officeDocument/2006/relationships/slide" Target="slide7.xml"/><Relationship Id="rId10" Type="http://schemas.openxmlformats.org/officeDocument/2006/relationships/image" Target="../media/image1.jpeg"/><Relationship Id="rId11" Type="http://schemas.openxmlformats.org/officeDocument/2006/relationships/slide" Target="slide8.xml"/><Relationship Id="rId12" Type="http://schemas.openxmlformats.org/officeDocument/2006/relationships/image" Target="../media/image1.jpeg"/><Relationship Id="rId13" Type="http://schemas.openxmlformats.org/officeDocument/2006/relationships/slide" Target="slide9.xml"/><Relationship Id="rId14" Type="http://schemas.openxmlformats.org/officeDocument/2006/relationships/image" Target="../media/image1.jpeg"/><Relationship Id="rId15" Type="http://schemas.openxmlformats.org/officeDocument/2006/relationships/slide" Target="slide10.xml"/><Relationship Id="rId16" Type="http://schemas.openxmlformats.org/officeDocument/2006/relationships/image" Target="../media/image1.jpeg"/><Relationship Id="rId17" Type="http://schemas.openxmlformats.org/officeDocument/2006/relationships/slide" Target="slide11.xml"/><Relationship Id="rId18" Type="http://schemas.openxmlformats.org/officeDocument/2006/relationships/image" Target="../media/image1.jpeg"/><Relationship Id="rId19" Type="http://schemas.openxmlformats.org/officeDocument/2006/relationships/slide" Target="slide12.xml"/><Relationship Id="rId20" Type="http://schemas.openxmlformats.org/officeDocument/2006/relationships/image" Target="../media/image1.jpeg"/><Relationship Id="rId21" Type="http://schemas.openxmlformats.org/officeDocument/2006/relationships/slide" Target="slide14.xml"/><Relationship Id="rId22" Type="http://schemas.openxmlformats.org/officeDocument/2006/relationships/image" Target="../media/image2.jpeg"/><Relationship Id="rId23" Type="http://schemas.openxmlformats.org/officeDocument/2006/relationships/slide" Target="slide13.xml"/><Relationship Id="rId24" Type="http://schemas.openxmlformats.org/officeDocument/2006/relationships/image" Target="../media/image3.jpe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Weekly Mathematics</a:t>
            </a:r>
            <a:br>
              <a:rPr sz="4800"/>
            </a:b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Revision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My name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785880"/>
            <a:ext cx="5286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ontinue the following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, 4, 9, 16, 25, __, ___, ___, ___, ___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5, 10, 15, 20, 25, __, ___, ___, ___, ___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6, 12, 18, 24, 30, __, ___, ___, ___, ___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4, 8, 12, 16, 20, __, ___, ___, ___, ___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olve the following equation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00 – 27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00-63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2 + _____ =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85 + _____ =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43 + _____ =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3 + _____ =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2 / 4 + 5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6 / 6 + 7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48 / 6 + 7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429160" y="928800"/>
            <a:ext cx="342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Which shapes have right ang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ndalus"/>
                <a:ea typeface="Andalus"/>
              </a:rPr>
              <a:t>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857920" y="1571760"/>
            <a:ext cx="1643040" cy="8571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6"/>
          <p:cNvSpPr/>
          <p:nvPr/>
        </p:nvSpPr>
        <p:spPr>
          <a:xfrm>
            <a:off x="5857920" y="257184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5857920" y="3857760"/>
            <a:ext cx="100008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arallelogram 8"/>
          <p:cNvSpPr/>
          <p:nvPr/>
        </p:nvSpPr>
        <p:spPr>
          <a:xfrm>
            <a:off x="6143760" y="5072040"/>
            <a:ext cx="1143000" cy="928800"/>
          </a:xfrm>
          <a:prstGeom prst="parallelogram">
            <a:avLst>
              <a:gd name="adj" fmla="val 24994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nswer the following ques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75 – 38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Multiply 4 by 5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digits in 196 315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rite 29% as a decimal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50c coins are needed to total $9.5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Change from $10 if I spent $5.5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quarters in 8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 + 7 + 7 + 7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20c coins in $4.0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 hundred + 7 tens + 3 ones + 6 tenths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Divide 900 by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85 – 46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.86 x 10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rite 80% as a decim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28760" y="785880"/>
            <a:ext cx="36432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nswer the following ques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84 divided by 4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45 divided by 3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8 divided by 6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9 divided by 3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1 divided by 7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8760" y="3143160"/>
          <a:ext cx="8143920" cy="2714760"/>
        </p:xfrm>
        <a:graphic>
          <a:graphicData uri="http://schemas.openxmlformats.org/drawingml/2006/table">
            <a:tbl>
              <a:tblPr/>
              <a:tblGrid>
                <a:gridCol w="1357200"/>
                <a:gridCol w="1357200"/>
                <a:gridCol w="1357560"/>
                <a:gridCol w="1357200"/>
                <a:gridCol w="1357200"/>
                <a:gridCol w="135756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16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7929720" y="14292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57200" y="1143000"/>
          <a:ext cx="2328840" cy="4537080"/>
        </p:xfrm>
        <a:graphic>
          <a:graphicData uri="http://schemas.openxmlformats.org/drawingml/2006/table">
            <a:tbl>
              <a:tblPr/>
              <a:tblGrid>
                <a:gridCol w="1163520"/>
                <a:gridCol w="116532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My Resul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hart 5" descr=""/>
          <p:cNvPicPr/>
          <p:nvPr/>
        </p:nvPicPr>
        <p:blipFill>
          <a:blip r:embed="rId1"/>
          <a:stretch/>
        </p:blipFill>
        <p:spPr>
          <a:xfrm>
            <a:off x="3286080" y="2357280"/>
            <a:ext cx="5357880" cy="3286440"/>
          </a:xfrm>
          <a:prstGeom prst="rect">
            <a:avLst/>
          </a:prstGeom>
          <a:ln w="0">
            <a:noFill/>
          </a:ln>
        </p:spPr>
      </p:pic>
      <p:sp>
        <p:nvSpPr>
          <p:cNvPr id="120" name="Title 1"/>
          <p:cNvSpPr/>
          <p:nvPr/>
        </p:nvSpPr>
        <p:spPr>
          <a:xfrm>
            <a:off x="3214800" y="1500120"/>
            <a:ext cx="5586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ndalus"/>
                <a:ea typeface="Andalus"/>
              </a:rPr>
              <a:t>At the end of the term you are to complete the below graph based on your terms results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6" descr="http://t1.gstatic.com/images?q=tbn:kszp1p0xUM-35M:http://www.ene.gov.on.ca/en/myenvironment/house-small.jpg"/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haroni"/>
                <a:ea typeface="Aharoni"/>
              </a:rPr>
              <a:t>Where are you 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haroni"/>
                <a:ea typeface="Aharoni"/>
              </a:rPr>
              <a:t>Using the following link create a mind map of your progress in Mathematics. This is to be based on all your Maths learning not just the work completed in this task bo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haroni"/>
                <a:ea typeface="Aharoni"/>
              </a:rPr>
              <a:t>http://www.spicynodes.org/index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8001000" y="535788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haroni"/>
                <a:ea typeface="Aharoni"/>
              </a:rPr>
              <a:t>My Mind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google.lk/images?q=tbn:sfoaNe1Gr_bofM::www.uis.edu/studentaffairs/students/images/desk_calendar_1.gif&amp;h=94&amp;w=94&amp;usg=__wyHRRsORN8yqRXjwTh0oP5oolgA=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7120" y="1143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1428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google.lk/images?q=tbn:sfoaNe1Gr_bofM::www.uis.edu/studentaffairs/students/images/desk_calendar_1.gif&amp;h=94&amp;w=94&amp;usg=__wyHRRsORN8yqRXjwTh0oP5oolgA=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ww.google.lk/images?q=tbn:sfoaNe1Gr_bofM::www.uis.edu/studentaffairs/students/images/desk_calendar_1.gif&amp;h=94&amp;w=94&amp;usg=__wyHRRsORN8yqRXjwTh0oP5oolgA=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7120" y="32148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google.lk/images?q=tbn:sfoaNe1Gr_bofM::www.uis.edu/studentaffairs/students/images/desk_calendar_1.gif&amp;h=94&amp;w=94&amp;usg=__wyHRRsORN8yqRXjwTh0oP5oolgA=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712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google.lk/images?q=tbn:sfoaNe1Gr_bofM::www.uis.edu/studentaffairs/students/images/desk_calendar_1.gif&amp;h=94&amp;w=94&amp;usg=__wyHRRsORN8yqRXjwTh0oP5oolgA=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google.lk/images?q=tbn:sfoaNe1Gr_bofM::www.uis.edu/studentaffairs/students/images/desk_calendar_1.gif&amp;h=94&amp;w=94&amp;usg=__wyHRRsORN8yqRXjwTh0oP5oolgA=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71920" y="1143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www.google.lk/images?q=tbn:sfoaNe1Gr_bofM::www.uis.edu/studentaffairs/students/images/desk_calendar_1.gif&amp;h=94&amp;w=94&amp;usg=__wyHRRsORN8yqRXjwTh0oP5oolgA=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571920" y="2143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google.lk/images?q=tbn:sfoaNe1Gr_bofM::www.uis.edu/studentaffairs/students/images/desk_calendar_1.gif&amp;h=94&amp;w=94&amp;usg=__wyHRRsORN8yqRXjwTh0oP5oolgA=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5719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google.lk/images?q=tbn:sfoaNe1Gr_bofM::www.uis.edu/studentaffairs/students/images/desk_calendar_1.gif&amp;h=94&amp;w=94&amp;usg=__wyHRRsORN8yqRXjwTh0oP5oolgA=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571920" y="42148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google.lk/images?q=tbn:sfoaNe1Gr_bofM::www.uis.edu/studentaffairs/students/images/desk_calendar_1.gif&amp;h=94&amp;w=94&amp;usg=__wyHRRsORN8yqRXjwTh0oP5oolgA=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571920" y="52862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4"/>
          <p:cNvSpPr/>
          <p:nvPr/>
        </p:nvSpPr>
        <p:spPr>
          <a:xfrm>
            <a:off x="1428840" y="2357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428840" y="3500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150012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157176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48578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49291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49291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5000760" y="4429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5072040" y="5429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See full size image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786720" y="2500200"/>
            <a:ext cx="1643040" cy="128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http://www.google.lk/images?q=tbn:fLsHEJNrLc7EDM::media1.behance.com/article_images/5718_1_results.gif&amp;h=94&amp;w=125&amp;usg=__TLOEutJG8_TWgzdz9_ouANkPjcA=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6786720" y="4214880"/>
            <a:ext cx="1643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ll in the missing numbers in the following t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1397160"/>
          <a:ext cx="6096240" cy="4821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RT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76" descr="http://t1.gstatic.com/images?q=tbn:kszp1p0xUM-35M:http://www.ene.gov.on.ca/en/myenvironment/house-small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2876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nswer the following ques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5 + 4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1 – 8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 x 3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5 / 5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alf of 12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5 – 7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dd 10 to 37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ich is larger 239 or 293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 hundred + 3 tens + 6 ones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ones in 238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6 + 4 + 3 + 7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alf of 30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Divide 24 by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2 minus 9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Round off 16 to the nearest 10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6" descr="http://t1.gstatic.com/images?q=tbn:kszp1p0xUM-35M:http://www.ene.gov.on.ca/en/myenvironment/house-small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ll in the missing numbers in the following t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1397160"/>
          <a:ext cx="6096240" cy="4821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RT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6" descr="http://t1.gstatic.com/images?q=tbn:kszp1p0xUM-35M:http://www.ene.gov.on.ca/en/myenvironment/house-small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43280" y="785880"/>
            <a:ext cx="4143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sides in 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exa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Penta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Octa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Trapez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581040" y="938160"/>
            <a:ext cx="414324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nswer the following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Use &lt; and &gt; fo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60 _________ 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99 _________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57 _________ 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Round off to the nearest 1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Round off to the nearest 10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3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8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5"/>
          <p:cNvSpPr/>
          <p:nvPr/>
        </p:nvSpPr>
        <p:spPr>
          <a:xfrm>
            <a:off x="3714840" y="3643200"/>
            <a:ext cx="4857840" cy="3000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857760" y="4143240"/>
            <a:ext cx="47862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Solve the following problem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Grandma will be 80 in 5 years time. In which year will she turn 100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7858080" y="214200"/>
            <a:ext cx="981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92880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Fill in the missing numbers in the following t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397160"/>
          <a:ext cx="6096240" cy="4821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RT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2876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nswer the following ques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67 + 29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alve of eleven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0 / 5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2 x 4x 4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Add 9 and 4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$45 - $9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hours in 3 day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7000 + 600 + 50 + 9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is the place value of 3 in 3109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How many tens in 4831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rite 8 tenths as a decima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Make the largest number you can with 8, 6, 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are the factors of 1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dalu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12 – 4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8001000" y="5214960"/>
            <a:ext cx="98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loud 11"/>
          <p:cNvSpPr/>
          <p:nvPr/>
        </p:nvSpPr>
        <p:spPr>
          <a:xfrm>
            <a:off x="4929120" y="714240"/>
            <a:ext cx="3714840" cy="1928880"/>
          </a:xfrm>
          <a:prstGeom prst="pi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ndalus"/>
                <a:ea typeface="Andalus"/>
              </a:rPr>
              <a:t>Week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571680" y="642960"/>
            <a:ext cx="7777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ndalus"/>
                <a:ea typeface="Andalus"/>
              </a:rPr>
              <a:t>What number am 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 5"/>
          <p:cNvSpPr/>
          <p:nvPr/>
        </p:nvSpPr>
        <p:spPr>
          <a:xfrm>
            <a:off x="214200" y="4000680"/>
            <a:ext cx="4357800" cy="2500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0" y="4071960"/>
            <a:ext cx="4500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I am bigger than 1000, but only just. My hundreds place is occupied by a 0. My digits add up to 5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7-Point Star 8"/>
          <p:cNvSpPr/>
          <p:nvPr/>
        </p:nvSpPr>
        <p:spPr>
          <a:xfrm>
            <a:off x="357120" y="928800"/>
            <a:ext cx="3643560" cy="2500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0" y="1000080"/>
            <a:ext cx="4500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I am bigger than 1000 and smaller than 2000. My hundreds and tens digits add up to 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57800" y="1071720"/>
            <a:ext cx="45003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I am halfway between 500 and 1000. My digits total 1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-Point Star 13"/>
          <p:cNvSpPr/>
          <p:nvPr/>
        </p:nvSpPr>
        <p:spPr>
          <a:xfrm>
            <a:off x="4286160" y="2643120"/>
            <a:ext cx="2500560" cy="142884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3714840" y="2643120"/>
            <a:ext cx="3857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I am the biggest six-digit numb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5143680" y="4429080"/>
            <a:ext cx="3643200" cy="207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4929120" y="4643280"/>
            <a:ext cx="3857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17375e"/>
                </a:solidFill>
                <a:latin typeface="Andalus"/>
                <a:ea typeface="Andalus"/>
              </a:rPr>
              <a:t>If you double me I am almost 10 00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6" descr="http://t1.gstatic.com/images?q=tbn:kszp1p0xUM-35M:http://www.ene.gov.on.ca/en/myenvironment/house-small.jpg"/>
          <p:cNvPicPr/>
          <p:nvPr/>
        </p:nvPicPr>
        <p:blipFill>
          <a:blip r:embed="rId1"/>
          <a:stretch/>
        </p:blipFill>
        <p:spPr>
          <a:xfrm>
            <a:off x="7929720" y="2786040"/>
            <a:ext cx="981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6:01Z</dcterms:created>
  <dc:creator>Education</dc:creator>
  <dc:description/>
  <dc:language>en-US</dc:language>
  <cp:lastModifiedBy>02101783</cp:lastModifiedBy>
  <dcterms:modified xsi:type="dcterms:W3CDTF">2010-01-25T05:58:04Z</dcterms:modified>
  <cp:revision>24</cp:revision>
  <dc:subject/>
  <dc:title>Weekly Mathematics Revision Activities</dc:title>
</cp:coreProperties>
</file>