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8AF-D0E4-4990-BA61-4DB5619B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55D-1CDB-4181-A7ED-F9CAA857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BD3-44D5-4C80-BFC2-0FB30F1F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C15-7B76-4C22-BD46-9AA113E4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CDB-639C-4518-9052-DC8E5331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D2FE-6DCC-47F3-9B11-DBB1CC44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F52-44F3-46F1-8B23-3EBB0B02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4688-E978-423F-AC4E-ECEAF6E6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7BB4-5BC6-47A1-B0B2-57379E41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081-DC2B-4440-876E-0B8502D5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030-2AA5-4383-8B1A-8AB619CF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D353-29C4-421A-99C4-B635C069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CB7D-29FC-4C49-8DA1-AA9BA1AA77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4.xml"/><Relationship Id="rId13" Type="http://schemas.openxmlformats.org/officeDocument/2006/relationships/slide" Target="slide4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3.xm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260280"/>
            <a:ext cx="813600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hs interactive quiz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692360" y="2852640"/>
            <a:ext cx="6048360" cy="15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Nick Jon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843280" y="530064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QUI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>
            <a:off x="1403280" y="549360"/>
            <a:ext cx="684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quiz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826920" y="1557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Question 1: Which of these is the same as 25/1000?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826920" y="2060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0.25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0.02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5.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5/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826920" y="2637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Question 2: What is 25 times 7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826920" y="3141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25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17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0.17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826920" y="3716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Question 3: 10, 20, 30, 4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826920" y="422100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.5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5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5.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5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826920" y="47242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Question 4: What is 0.79 add 0.2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826920" y="5229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1.0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1.2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1.20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5867280" y="6237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Next page of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826920" y="404640"/>
            <a:ext cx="748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quiz continue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0000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Question 5: What is 9 add 9 add 9 add 9 add 9 take-away 7 take-away 8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900000" y="24922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2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900000" y="306864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Question 6: Is 41 divisible by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900000" y="3573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Y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900000" y="4149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Question 7: What is 81 take-away 3 divided by 6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900000" y="4653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.1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1.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900000" y="515772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Question 8: There are 6 boys and 9 girls. What is the ratio of boys to gir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900000" y="6093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:6, 6:9, 9:6, .6: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1476360" y="549360"/>
            <a:ext cx="676908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LL DONE!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5"/>
          <p:cNvSpPr txBox="1"/>
          <p:nvPr/>
        </p:nvSpPr>
        <p:spPr>
          <a:xfrm>
            <a:off x="468360" y="3573360"/>
            <a:ext cx="83534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at's absolutely right!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Picture 7" descr="MCWB01372_0000[1]"/>
          <p:cNvPicPr/>
          <p:nvPr/>
        </p:nvPicPr>
        <p:blipFill>
          <a:blip r:embed="rId1"/>
          <a:stretch/>
        </p:blipFill>
        <p:spPr>
          <a:xfrm>
            <a:off x="3924360" y="4724280"/>
            <a:ext cx="1439640" cy="1362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540720" y="558324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ck to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1835280" y="333360"/>
            <a:ext cx="6265800" cy="17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oops! 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539640" y="2637000"/>
            <a:ext cx="81057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at's wrong! try again!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PubCross"/>
          <p:cNvSpPr/>
          <p:nvPr/>
        </p:nvSpPr>
        <p:spPr>
          <a:xfrm rot="2706600">
            <a:off x="4225680" y="3990600"/>
            <a:ext cx="1584360" cy="1324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95280" y="566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ck to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1:30:06Z</dcterms:created>
  <dc:creator>99JONESN</dc:creator>
  <dc:description/>
  <dc:language>en-US</dc:language>
  <cp:lastModifiedBy>Education</cp:lastModifiedBy>
  <dcterms:modified xsi:type="dcterms:W3CDTF">2010-01-31T09:55:10Z</dcterms:modified>
  <cp:revision>10</cp:revision>
  <dc:subject/>
  <dc:title>Slide 1</dc:title>
</cp:coreProperties>
</file>