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C50-D669-4D10-8F17-46CB50F0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345-A048-4947-88DF-0C001E6D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245-35C1-42EA-93D4-EE33AD65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A24-CCB9-4D37-A98E-768BE9F3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786-4DAC-43DC-8DC3-B185B471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239-1EF0-42C3-B0C5-431693C9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396-DA52-4D79-B6EA-9926BB8E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75E-E70D-4039-B500-75C9B0CA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874-562D-4B02-BBAD-9ECC3208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E59-EB2C-4E48-BB6F-43462B1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D31-6F68-4B1A-BFD5-2A42F60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4A7-0B48-4A50-9AF8-0BED7B69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71C-7C79-4380-97ED-B49D227DD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260280"/>
            <a:ext cx="813600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hs interactive quiz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692360" y="2852640"/>
            <a:ext cx="604836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Nick Jon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43280" y="53006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1403280" y="549360"/>
            <a:ext cx="684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uiz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26920" y="1557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1: Which of these is the same as 25/1000?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826920" y="2060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0.25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0.02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5.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5/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826920" y="2637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2: What is 25 times 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826920" y="31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5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0.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26920" y="3716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3: 10, 20, 30, 4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826920" y="422100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.5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5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.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826920" y="4724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4: What is 0.79 add 0.2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26920" y="5229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.0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.2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.20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5867280" y="6237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Next page of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826920" y="404640"/>
            <a:ext cx="748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uiz continu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0000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5: What is 9 add 9 add 9 add 9 add 9 take-away 7 take-away 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00000" y="2492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00000" y="3068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6: Is 41 divisible by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900000" y="35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Y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00000" y="4149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7: What is 81 take-away 3 divided by 6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00000" y="465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.1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.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900000" y="51577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Question 8: There are 6 boys and 9 girls. What is the ratio of boys to gir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6093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:6, 6:9, 9:6, .6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1476360" y="549360"/>
            <a:ext cx="67690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 DON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468360" y="3573360"/>
            <a:ext cx="8353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t's absolutely right!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7" descr="MCWB01372_0000[1]"/>
          <p:cNvPicPr/>
          <p:nvPr/>
        </p:nvPicPr>
        <p:blipFill>
          <a:blip r:embed="rId1"/>
          <a:stretch/>
        </p:blipFill>
        <p:spPr>
          <a:xfrm>
            <a:off x="3924360" y="4724280"/>
            <a:ext cx="1439640" cy="1362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540720" y="558324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ck to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1835280" y="333360"/>
            <a:ext cx="626580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oops! 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539640" y="2637000"/>
            <a:ext cx="8105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t's wrong! try again!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PubCross"/>
          <p:cNvSpPr/>
          <p:nvPr/>
        </p:nvSpPr>
        <p:spPr>
          <a:xfrm rot="2706600">
            <a:off x="4225680" y="3990600"/>
            <a:ext cx="1584360" cy="1324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95280" y="566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ck to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1:30:06Z</dcterms:created>
  <dc:creator>99JONESN</dc:creator>
  <dc:description/>
  <dc:language>en-US</dc:language>
  <cp:lastModifiedBy>Education</cp:lastModifiedBy>
  <dcterms:modified xsi:type="dcterms:W3CDTF">2010-01-31T09:55:10Z</dcterms:modified>
  <cp:revision>10</cp:revision>
  <dc:subject/>
  <dc:title>Slide 1</dc:title>
</cp:coreProperties>
</file>