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D04-DAE0-4F11-A45F-B1BB88B80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38D-8812-44BD-9547-8CEB34DD24F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each question, click on the answer.  If correct, the next page will load with a graphic first – these can be used to check that pupils are getting the correct answers in much the same way that you do in a normal treasure h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9C6-C9FA-490E-9339-BCD13A877875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078-AB70-47B6-89B1-878E619F392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DF40-CB6B-4300-8464-9B3F973DE65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123A-3CAF-4804-8540-7C98CA0B8927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A70C-B5E9-4E8A-932F-16E3AC94F88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BF0-F121-4FC4-89CD-9FFDBCE2C5A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7377-E840-4A10-B645-EDA6832C2435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75C-F300-4941-877D-9FB4717C9159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C66-E551-4BE6-9FB2-8F6A5BEEB45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AA2F-3DC1-4BD5-BB04-23966EDB9FFA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37BC-C9C0-46A6-86F8-886394D2C39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AFE-6BAF-42A8-933C-D56180CEB172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312-FA22-4C37-803E-8BA71C6ED799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BE5-B6AC-4F36-B0C9-012B23F447C8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C6EC-56D1-4864-8ECA-97680E20875B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741-3CC8-40D2-A35A-7B15BBE123BD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78C-DBD8-4CF1-993A-E9B97D2B2BD5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D49-6557-4F9E-BAE4-97BCC7352EFA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EB39-8D66-46C2-A6A9-0134E3D83B99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43E-5590-46C9-BF1B-24CEFD63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019-2041-42DF-8A43-EF0CEC2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716-3079-47E6-8042-AB0ADF5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8E7-84A5-41E8-9CAB-F78B6FFA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6E2-E2C7-43DD-8C2C-FFE523A1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5DB4-F324-485B-AD4F-0C23140C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2C25-931E-4129-9CFE-AED922EE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DB13-B44E-462F-B82D-17ABF155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19F-7B7B-4244-BF1E-46EF418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BE1-E300-4F39-A33D-2D42E66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26F6-CC6D-4EB2-8EAA-2BA0FFE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570-0CAF-4D69-92F9-C6016A3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9BFE-9B83-425A-BEE6-8EFEB9B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3C7-1709-4A2F-9D84-9F24A36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2334-FCBC-40F6-962B-1C248CA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2D3-D9B9-4C8A-92A7-69751778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3F0-1427-43E0-8B3D-AF1D5B0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BFB-0195-4345-9F4A-2C6668B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E22-E9F9-46C4-B3EE-0FA947C1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B15-5FBF-4C63-9625-2D5D5FB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4C9-0391-4F7A-92A6-09636D97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4DC-6131-4F2D-B86A-CB59FA6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BE8-91E6-4408-BD9D-CCE8141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0F1-4820-401D-B3BB-EF4E8A99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F6F-3859-44BA-B074-BFEE842B8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9F48-F6DF-4BBF-941A-07CC9299C2F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"/><Relationship Id="rId9" Type="http://schemas.openxmlformats.org/officeDocument/2006/relationships/slide" Target="slide19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image" Target="../media/image17.wmf"/><Relationship Id="rId27" Type="http://schemas.openxmlformats.org/officeDocument/2006/relationships/image" Target="../media/image18.wmf"/><Relationship Id="rId28" Type="http://schemas.openxmlformats.org/officeDocument/2006/relationships/image" Target="../media/image19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20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3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"/><Relationship Id="rId10" Type="http://schemas.openxmlformats.org/officeDocument/2006/relationships/slide" Target="slide19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image" Target="../media/image13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4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3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image" Target="../media/image16.wm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GEM009"/>
          <p:cNvPicPr/>
          <p:nvPr/>
        </p:nvPicPr>
        <p:blipFill>
          <a:blip r:embed="rId1"/>
          <a:stretch/>
        </p:blipFill>
        <p:spPr>
          <a:xfrm>
            <a:off x="1371600" y="380880"/>
            <a:ext cx="4662360" cy="515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GEM010"/>
          <p:cNvPicPr/>
          <p:nvPr/>
        </p:nvPicPr>
        <p:blipFill>
          <a:blip r:embed="rId2"/>
          <a:stretch/>
        </p:blipFill>
        <p:spPr>
          <a:xfrm>
            <a:off x="3048120" y="2971800"/>
            <a:ext cx="3308400" cy="373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EM012"/>
          <p:cNvPicPr/>
          <p:nvPr/>
        </p:nvPicPr>
        <p:blipFill>
          <a:blip r:embed="rId3"/>
          <a:stretch/>
        </p:blipFill>
        <p:spPr>
          <a:xfrm>
            <a:off x="5486400" y="609480"/>
            <a:ext cx="314172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sides does an Octagon hav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10" descr="ELEPH001"/>
          <p:cNvPicPr/>
          <p:nvPr/>
        </p:nvPicPr>
        <p:blipFill>
          <a:blip r:embed="rId26"/>
          <a:stretch/>
        </p:blipFill>
        <p:spPr>
          <a:xfrm>
            <a:off x="1752480" y="1600200"/>
            <a:ext cx="1567080" cy="122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AD003453"/>
          <p:cNvPicPr/>
          <p:nvPr/>
        </p:nvPicPr>
        <p:blipFill>
          <a:blip r:embed="rId27"/>
          <a:stretch/>
        </p:blipFill>
        <p:spPr>
          <a:xfrm>
            <a:off x="2209680" y="4419720"/>
            <a:ext cx="1482840" cy="154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SPIDR001"/>
          <p:cNvPicPr/>
          <p:nvPr/>
        </p:nvPicPr>
        <p:blipFill>
          <a:blip r:embed="rId28"/>
          <a:stretch/>
        </p:blipFill>
        <p:spPr>
          <a:xfrm>
            <a:off x="6248520" y="4332240"/>
            <a:ext cx="204768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of the week have an ‘n’ in their nam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6934320" y="4800600"/>
            <a:ext cx="990360" cy="99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4f307"/>
              </a:gs>
              <a:gs pos="100000">
                <a:srgbClr val="187003"/>
              </a:gs>
            </a:gsLst>
            <a:lin ang="27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faces does a cube hav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minutes is it to 12 o’clock if the time is now 11.36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4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905120" y="1676520"/>
            <a:ext cx="1066680" cy="1066680"/>
          </a:xfrm>
          <a:prstGeom prst="rect">
            <a:avLst/>
          </a:prstGeom>
          <a:gradFill rotWithShape="0">
            <a:gsLst>
              <a:gs pos="0">
                <a:srgbClr val="f81902"/>
              </a:gs>
              <a:gs pos="100000">
                <a:srgbClr val="730c0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781680" y="1752480"/>
            <a:ext cx="1067040" cy="1067040"/>
          </a:xfrm>
          <a:prstGeom prst="rect">
            <a:avLst/>
          </a:prstGeom>
          <a:gradFill rotWithShape="0">
            <a:gsLst>
              <a:gs pos="0">
                <a:srgbClr val="730c01"/>
              </a:gs>
              <a:gs pos="100000">
                <a:srgbClr val="f8190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in 3 weeks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1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10" descr="TIME012"/>
          <p:cNvPicPr/>
          <p:nvPr/>
        </p:nvPicPr>
        <p:blipFill>
          <a:blip r:embed="rId36"/>
          <a:stretch/>
        </p:blipFill>
        <p:spPr>
          <a:xfrm>
            <a:off x="5867280" y="3581280"/>
            <a:ext cx="2560680" cy="25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MONTH06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600200"/>
            <a:ext cx="3290760" cy="40384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b00b"/>
                </a:solidFill>
                <a:latin typeface="Times New Roman"/>
              </a:rPr>
              <a:t>How many minutes in one quarter of an hour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" descr="TIME045"/>
          <p:cNvPicPr/>
          <p:nvPr/>
        </p:nvPicPr>
        <p:blipFill>
          <a:blip r:embed="rId1"/>
          <a:stretch/>
        </p:blipFill>
        <p:spPr>
          <a:xfrm>
            <a:off x="5791320" y="1371600"/>
            <a:ext cx="2473200" cy="41720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514600" y="28195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If a TV programme started at 7.15 pm and finished at 7.41 pm, how long did it last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BAD LUCK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ve another go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RD LINE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Try agai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NOT QUIT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ve another try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in a week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INAN046"/>
          <p:cNvPicPr/>
          <p:nvPr/>
        </p:nvPicPr>
        <p:blipFill>
          <a:blip r:embed="rId1"/>
          <a:stretch/>
        </p:blipFill>
        <p:spPr>
          <a:xfrm>
            <a:off x="2133720" y="1676520"/>
            <a:ext cx="5333760" cy="3144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514600" y="28195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Well don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Picture 5" descr="FSA06628"/>
          <p:cNvPicPr/>
          <p:nvPr/>
        </p:nvPicPr>
        <p:blipFill>
          <a:blip r:embed="rId2"/>
          <a:stretch/>
        </p:blipFill>
        <p:spPr>
          <a:xfrm>
            <a:off x="1447920" y="4495680"/>
            <a:ext cx="186192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uch change would I get from £1 if I spend 72p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12" descr="TIME077"/>
          <p:cNvPicPr/>
          <p:nvPr/>
        </p:nvPicPr>
        <p:blipFill>
          <a:blip r:embed="rId36"/>
          <a:stretch/>
        </p:blipFill>
        <p:spPr>
          <a:xfrm>
            <a:off x="6694560" y="3962520"/>
            <a:ext cx="1468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Divide the number of degrees in a right angle by 10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7 18 19 20 21 22 23 24 25 26 2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0" descr="10pence"/>
          <p:cNvPicPr/>
          <p:nvPr/>
        </p:nvPicPr>
        <p:blipFill>
          <a:blip r:embed="rId29"/>
          <a:stretch/>
        </p:blipFill>
        <p:spPr>
          <a:xfrm>
            <a:off x="2057400" y="1523880"/>
            <a:ext cx="114300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1penny"/>
          <p:cNvPicPr/>
          <p:nvPr/>
        </p:nvPicPr>
        <p:blipFill>
          <a:blip r:embed="rId30"/>
          <a:stretch/>
        </p:blipFill>
        <p:spPr>
          <a:xfrm>
            <a:off x="2819520" y="1752480"/>
            <a:ext cx="857160" cy="87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5pence"/>
          <p:cNvPicPr/>
          <p:nvPr/>
        </p:nvPicPr>
        <p:blipFill>
          <a:blip r:embed="rId31"/>
          <a:stretch/>
        </p:blipFill>
        <p:spPr>
          <a:xfrm>
            <a:off x="3352680" y="1828800"/>
            <a:ext cx="8114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Double 3, then multiply that number by 3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1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10" descr="setsquare"/>
          <p:cNvPicPr/>
          <p:nvPr/>
        </p:nvPicPr>
        <p:blipFill>
          <a:blip r:embed="rId36"/>
          <a:stretch/>
        </p:blipFill>
        <p:spPr>
          <a:xfrm>
            <a:off x="5867280" y="1523880"/>
            <a:ext cx="1886040" cy="110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rotractor"/>
          <p:cNvPicPr/>
          <p:nvPr/>
        </p:nvPicPr>
        <p:blipFill>
          <a:blip r:embed="rId37"/>
          <a:stretch/>
        </p:blipFill>
        <p:spPr>
          <a:xfrm>
            <a:off x="2514600" y="1523880"/>
            <a:ext cx="194328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alf the number of legs on a spid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13" descr="NA1012"/>
          <p:cNvPicPr/>
          <p:nvPr/>
        </p:nvPicPr>
        <p:blipFill>
          <a:blip r:embed="rId32"/>
          <a:stretch/>
        </p:blipFill>
        <p:spPr>
          <a:xfrm>
            <a:off x="6858000" y="1600200"/>
            <a:ext cx="108756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14600" y="281952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en-GB" sz="4800" spc="-1" strike="noStrike" baseline="40000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5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" descr="AD003828"/>
          <p:cNvPicPr/>
          <p:nvPr/>
        </p:nvPicPr>
        <p:blipFill>
          <a:blip r:embed="rId36"/>
          <a:stretch/>
        </p:blipFill>
        <p:spPr>
          <a:xfrm>
            <a:off x="5638680" y="1447920"/>
            <a:ext cx="2629080" cy="32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If A=1, B=2, C=3 etc., what would W + G b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Picture 10" descr="XMSTX061"/>
          <p:cNvPicPr/>
          <p:nvPr/>
        </p:nvPicPr>
        <p:blipFill>
          <a:blip r:embed="rId36"/>
          <a:stretch/>
        </p:blipFill>
        <p:spPr>
          <a:xfrm>
            <a:off x="1752480" y="4038480"/>
            <a:ext cx="278604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14600" y="28195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legs do two elephants, two spiders and two ants have altogether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10" descr="COBJE034"/>
          <p:cNvPicPr/>
          <p:nvPr/>
        </p:nvPicPr>
        <p:blipFill>
          <a:blip r:embed="rId33"/>
          <a:stretch/>
        </p:blipFill>
        <p:spPr>
          <a:xfrm>
            <a:off x="6400800" y="3962520"/>
            <a:ext cx="19224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35:14Z</dcterms:created>
  <dc:creator>Ian Guest</dc:creator>
  <dc:description>Following each question, click on the answer.  If correct, the next page will load with a graphic first – these can be used to check that pupils are getting the correct answers in much the same way that you do in a normal treasure hunt.</dc:description>
  <dc:language>en-US</dc:language>
  <cp:lastModifiedBy>Education</cp:lastModifiedBy>
  <dcterms:modified xsi:type="dcterms:W3CDTF">2010-01-31T09:57:49Z</dcterms:modified>
  <cp:revision>28</cp:revision>
  <dc:subject/>
  <dc:title>Numbers Treasure Hunt</dc:title>
</cp:coreProperties>
</file>