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344-7ECD-440D-AF66-65E306FC21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8712-E577-4292-A526-10D2D5E3928D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each question, click on the answer.  If correct, the next page will load with a graphic first – these can be used to check that pupils are getting the correct answers in much the same way that you do in a normal treasure h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7672-DA3C-45C6-8462-86CE7F21260E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892E-3DCD-4DFC-93E6-42930417C2F9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C6F7-869C-4CC6-A739-5D455FCF4DD2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550-B78F-4898-A922-0827783DE77F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814-F993-41A7-9C02-CA302218C826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074-EB81-43B6-A0E5-AC01B1C29838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BED0-C5A4-4901-BAA6-411B68A5B389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454-A7B8-4573-BAA3-5ED4D7649B51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2F4-1795-460F-B679-E58FB5C62C17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282-46AC-4774-BC00-BDA9A053CDF6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6A81-71A1-4810-AF77-2CC5FD651BA0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A699-9A3C-490D-8439-644A2948CE30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C0EF-E7D6-4FD0-B3AB-189495669A4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CFC7-C76C-40BE-92C9-E2D02A093112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79A3-A609-4E32-AD7B-E9DAF0E4D400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554-34A3-4E9B-A652-4E18A7CBE4EE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C51-7BBE-4746-A90F-AA6FAC263984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B94-A096-425A-821D-69232DCF0EC6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CBE-716C-41FD-9A02-FA92DC058B4D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927-502C-4A27-AB05-494020A4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6B1-EA55-461F-BD94-BBCC7637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963-F9BE-4D77-B74F-8A6FA39C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19A-6265-4702-AC92-E58482B7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6B74-51EE-4426-A56D-F1B52A41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7CF-CD6C-437D-A623-ABCF396A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AC60-864A-43FB-86F9-11E17260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FDA0-6D0C-46DF-8C42-9FDFA2E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40A3-428A-4276-A53B-92323F97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9A7D-A350-4772-BD7C-0684895F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6756-5D0D-446B-A442-5889FCC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FD0-5255-4C08-B984-1D2C924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8003-7699-42AD-AF9D-8126F45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3E40-BD07-44B1-8198-B0881943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09A2-469E-4110-9910-A1C4697B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74E-1C72-412E-B9F3-BDDD703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1C5A-CED0-40ED-89BA-70B08909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61C-E169-44C5-B751-C79DFE2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DC2-16DC-47AF-BCE3-D984A04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D83-7234-4EC7-BEC9-3E5A75E8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976-ADF4-4E6C-9DA0-D994EDD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603-165C-4A57-87A3-3F20CD4A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6AA-7B19-4D37-9C2B-005CE3E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9B9-AC43-425A-B46B-28D99E91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90FF-C116-4F87-AFE2-35975877BF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855-AB5A-4A11-B0C4-BCBF6AC7FCF2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"/><Relationship Id="rId9" Type="http://schemas.openxmlformats.org/officeDocument/2006/relationships/slide" Target="slide19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image" Target="../media/image17.wmf"/><Relationship Id="rId27" Type="http://schemas.openxmlformats.org/officeDocument/2006/relationships/image" Target="../media/image18.wmf"/><Relationship Id="rId28" Type="http://schemas.openxmlformats.org/officeDocument/2006/relationships/image" Target="../media/image19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20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3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"/><Relationship Id="rId10" Type="http://schemas.openxmlformats.org/officeDocument/2006/relationships/slide" Target="slide19.xml"/><Relationship Id="rId11" Type="http://schemas.openxmlformats.org/officeDocument/2006/relationships/slide" Target="slide17.xml"/><Relationship Id="rId12" Type="http://schemas.openxmlformats.org/officeDocument/2006/relationships/slide" Target="slide19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image" Target="../media/image13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14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3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image" Target="../media/image16.wm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GEM009"/>
          <p:cNvPicPr/>
          <p:nvPr/>
        </p:nvPicPr>
        <p:blipFill>
          <a:blip r:embed="rId1"/>
          <a:stretch/>
        </p:blipFill>
        <p:spPr>
          <a:xfrm>
            <a:off x="1371600" y="380880"/>
            <a:ext cx="4662360" cy="515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GEM010"/>
          <p:cNvPicPr/>
          <p:nvPr/>
        </p:nvPicPr>
        <p:blipFill>
          <a:blip r:embed="rId2"/>
          <a:stretch/>
        </p:blipFill>
        <p:spPr>
          <a:xfrm>
            <a:off x="3048120" y="2971800"/>
            <a:ext cx="3308400" cy="373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EM012"/>
          <p:cNvPicPr/>
          <p:nvPr/>
        </p:nvPicPr>
        <p:blipFill>
          <a:blip r:embed="rId3"/>
          <a:stretch/>
        </p:blipFill>
        <p:spPr>
          <a:xfrm>
            <a:off x="5486400" y="609480"/>
            <a:ext cx="314172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sides does an Octagon hav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10" descr="ELEPH001"/>
          <p:cNvPicPr/>
          <p:nvPr/>
        </p:nvPicPr>
        <p:blipFill>
          <a:blip r:embed="rId26"/>
          <a:stretch/>
        </p:blipFill>
        <p:spPr>
          <a:xfrm>
            <a:off x="1752480" y="1600200"/>
            <a:ext cx="1567080" cy="122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AD003453"/>
          <p:cNvPicPr/>
          <p:nvPr/>
        </p:nvPicPr>
        <p:blipFill>
          <a:blip r:embed="rId27"/>
          <a:stretch/>
        </p:blipFill>
        <p:spPr>
          <a:xfrm>
            <a:off x="2209680" y="4419720"/>
            <a:ext cx="1482840" cy="1544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SPIDR001"/>
          <p:cNvPicPr/>
          <p:nvPr/>
        </p:nvPicPr>
        <p:blipFill>
          <a:blip r:embed="rId28"/>
          <a:stretch/>
        </p:blipFill>
        <p:spPr>
          <a:xfrm>
            <a:off x="6248520" y="4332240"/>
            <a:ext cx="204768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days of the week have an ‘n’ in their nam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6934320" y="4800600"/>
            <a:ext cx="990360" cy="99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4f307"/>
              </a:gs>
              <a:gs pos="100000">
                <a:srgbClr val="187003"/>
              </a:gs>
            </a:gsLst>
            <a:lin ang="27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faces does a cube hav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minutes is it to 12 o’clock if the time is now 11.36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4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905120" y="1676520"/>
            <a:ext cx="1066680" cy="1066680"/>
          </a:xfrm>
          <a:prstGeom prst="rect">
            <a:avLst/>
          </a:prstGeom>
          <a:gradFill rotWithShape="0">
            <a:gsLst>
              <a:gs pos="0">
                <a:srgbClr val="f81902"/>
              </a:gs>
              <a:gs pos="100000">
                <a:srgbClr val="730c0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781680" y="1752480"/>
            <a:ext cx="1067040" cy="1067040"/>
          </a:xfrm>
          <a:prstGeom prst="rect">
            <a:avLst/>
          </a:prstGeom>
          <a:gradFill rotWithShape="0">
            <a:gsLst>
              <a:gs pos="0">
                <a:srgbClr val="730c01"/>
              </a:gs>
              <a:gs pos="100000">
                <a:srgbClr val="f8190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days in 3 weeks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1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10" descr="TIME012"/>
          <p:cNvPicPr/>
          <p:nvPr/>
        </p:nvPicPr>
        <p:blipFill>
          <a:blip r:embed="rId36"/>
          <a:stretch/>
        </p:blipFill>
        <p:spPr>
          <a:xfrm>
            <a:off x="5867280" y="3581280"/>
            <a:ext cx="2560680" cy="25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" descr="MONTH06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1600200"/>
            <a:ext cx="3290760" cy="40384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b00b"/>
                </a:solidFill>
                <a:latin typeface="Times New Roman"/>
              </a:rPr>
              <a:t>How many minutes in one quarter of an hour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" descr="TIME045"/>
          <p:cNvPicPr/>
          <p:nvPr/>
        </p:nvPicPr>
        <p:blipFill>
          <a:blip r:embed="rId1"/>
          <a:stretch/>
        </p:blipFill>
        <p:spPr>
          <a:xfrm>
            <a:off x="5791320" y="1371600"/>
            <a:ext cx="2473200" cy="41720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514600" y="28195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If a TV programme started at 7.15 pm and finished at 7.41 pm, how long did it last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BAD LUCK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Have another go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AutoShape 7">
            <a:hlinkClick r:id="" action="ppaction://hlinkshowjump?jump=previousslide"/>
          </p:cNvPr>
          <p:cNvSpPr/>
          <p:nvPr/>
        </p:nvSpPr>
        <p:spPr>
          <a:xfrm>
            <a:off x="4495680" y="43434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HARD LINE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Try agai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AutoShape 7">
            <a:hlinkClick r:id="" action="ppaction://hlinkshowjump?jump=previousslide"/>
          </p:cNvPr>
          <p:cNvSpPr/>
          <p:nvPr/>
        </p:nvSpPr>
        <p:spPr>
          <a:xfrm>
            <a:off x="4495680" y="43434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NOT QUIT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Have another try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7">
            <a:hlinkClick r:id="" action="ppaction://hlinkshowjump?jump=previousslide"/>
          </p:cNvPr>
          <p:cNvSpPr/>
          <p:nvPr/>
        </p:nvSpPr>
        <p:spPr>
          <a:xfrm>
            <a:off x="4495680" y="43434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days in a week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FINAN046"/>
          <p:cNvPicPr/>
          <p:nvPr/>
        </p:nvPicPr>
        <p:blipFill>
          <a:blip r:embed="rId1"/>
          <a:stretch/>
        </p:blipFill>
        <p:spPr>
          <a:xfrm>
            <a:off x="2133720" y="1676520"/>
            <a:ext cx="5333760" cy="3144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514600" y="28195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cc"/>
                </a:solidFill>
                <a:latin typeface="Times New Roman"/>
              </a:rPr>
              <a:t>Well don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Picture 5" descr="FSA06628"/>
          <p:cNvPicPr/>
          <p:nvPr/>
        </p:nvPicPr>
        <p:blipFill>
          <a:blip r:embed="rId2"/>
          <a:stretch/>
        </p:blipFill>
        <p:spPr>
          <a:xfrm>
            <a:off x="1447920" y="4495680"/>
            <a:ext cx="186192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uch change would I get from £1 if I spend 72p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525320" y="609588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8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12" descr="TIME077"/>
          <p:cNvPicPr/>
          <p:nvPr/>
        </p:nvPicPr>
        <p:blipFill>
          <a:blip r:embed="rId36"/>
          <a:stretch/>
        </p:blipFill>
        <p:spPr>
          <a:xfrm>
            <a:off x="6694560" y="3962520"/>
            <a:ext cx="1468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514600" y="281952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Divide the number of degrees in a right angle by 10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525320" y="609588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7 18 19 20 21 22 23 24 25 26 27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8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0" descr="10pence"/>
          <p:cNvPicPr/>
          <p:nvPr/>
        </p:nvPicPr>
        <p:blipFill>
          <a:blip r:embed="rId29"/>
          <a:stretch/>
        </p:blipFill>
        <p:spPr>
          <a:xfrm>
            <a:off x="2057400" y="1523880"/>
            <a:ext cx="114300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1penny"/>
          <p:cNvPicPr/>
          <p:nvPr/>
        </p:nvPicPr>
        <p:blipFill>
          <a:blip r:embed="rId30"/>
          <a:stretch/>
        </p:blipFill>
        <p:spPr>
          <a:xfrm>
            <a:off x="2819520" y="1752480"/>
            <a:ext cx="857160" cy="87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5pence"/>
          <p:cNvPicPr/>
          <p:nvPr/>
        </p:nvPicPr>
        <p:blipFill>
          <a:blip r:embed="rId31"/>
          <a:stretch/>
        </p:blipFill>
        <p:spPr>
          <a:xfrm>
            <a:off x="3352680" y="1828800"/>
            <a:ext cx="81144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Double 3, then multiply that number by 3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18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10" descr="setsquare"/>
          <p:cNvPicPr/>
          <p:nvPr/>
        </p:nvPicPr>
        <p:blipFill>
          <a:blip r:embed="rId36"/>
          <a:stretch/>
        </p:blipFill>
        <p:spPr>
          <a:xfrm>
            <a:off x="5867280" y="1523880"/>
            <a:ext cx="1886040" cy="110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protractor"/>
          <p:cNvPicPr/>
          <p:nvPr/>
        </p:nvPicPr>
        <p:blipFill>
          <a:blip r:embed="rId37"/>
          <a:stretch/>
        </p:blipFill>
        <p:spPr>
          <a:xfrm>
            <a:off x="2514600" y="1523880"/>
            <a:ext cx="194328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alf the number of legs on a spid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13" descr="NA1012"/>
          <p:cNvPicPr/>
          <p:nvPr/>
        </p:nvPicPr>
        <p:blipFill>
          <a:blip r:embed="rId32"/>
          <a:stretch/>
        </p:blipFill>
        <p:spPr>
          <a:xfrm>
            <a:off x="6858000" y="1600200"/>
            <a:ext cx="1087560" cy="10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14600" y="281952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1" lang="en-GB" sz="4800" spc="-1" strike="noStrike" baseline="40000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525320" y="609588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25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" descr="AD003828"/>
          <p:cNvPicPr/>
          <p:nvPr/>
        </p:nvPicPr>
        <p:blipFill>
          <a:blip r:embed="rId36"/>
          <a:stretch/>
        </p:blipFill>
        <p:spPr>
          <a:xfrm>
            <a:off x="5638680" y="1447920"/>
            <a:ext cx="2629080" cy="32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514600" y="2819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If A=1, B=2, C=3 etc., what would W + G b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5" action="ppaction://hlinksldjump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Picture 10" descr="XMSTX061"/>
          <p:cNvPicPr/>
          <p:nvPr/>
        </p:nvPicPr>
        <p:blipFill>
          <a:blip r:embed="rId36"/>
          <a:stretch/>
        </p:blipFill>
        <p:spPr>
          <a:xfrm>
            <a:off x="1752480" y="4038480"/>
            <a:ext cx="278604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3244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Numbers Treasure Hu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514600" y="28195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Times New Roman"/>
              </a:rPr>
              <a:t>How many legs do two elephants, two spiders and two ants have altogether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14444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5680" y="609588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17 18 19 20 21 22 23 24 25 26 27 28 29 30 31 32 33 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8383680" y="609480"/>
            <a:ext cx="48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3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10" descr="COBJE034"/>
          <p:cNvPicPr/>
          <p:nvPr/>
        </p:nvPicPr>
        <p:blipFill>
          <a:blip r:embed="rId33"/>
          <a:stretch/>
        </p:blipFill>
        <p:spPr>
          <a:xfrm>
            <a:off x="6400800" y="3962520"/>
            <a:ext cx="19224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20:35:14Z</dcterms:created>
  <dc:creator>Ian Guest</dc:creator>
  <dc:description>Following each question, click on the answer.  If correct, the next page will load with a graphic first – these can be used to check that pupils are getting the correct answers in much the same way that you do in a normal treasure hunt.</dc:description>
  <dc:language>en-US</dc:language>
  <cp:lastModifiedBy>Education</cp:lastModifiedBy>
  <dcterms:modified xsi:type="dcterms:W3CDTF">2010-01-31T09:57:49Z</dcterms:modified>
  <cp:revision>28</cp:revision>
  <dc:subject/>
  <dc:title>Numbers Treasure Hunt</dc:title>
</cp:coreProperties>
</file>