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B72-EDEB-47A6-8EB7-A5FD7925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97C-78B3-4E27-91F2-B51AFC11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6C5-E0DB-47B8-9EF9-9F49F15A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AF0-511E-4C5B-8786-93308B6E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1FD9-EDDF-4755-A8D2-2E931190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7314-5E49-4DCB-89CE-C30C0F0C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BD24-2828-46B4-96D1-C99DA701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C4CA-84B4-41BB-A2FC-37F54DAF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965F-9512-432E-80B7-1C6F2D5D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BC61-E67B-490E-9CF2-9C21BE5A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7BC6-AE0E-4461-A8E0-654D2A1F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AB6-6F3C-477F-AC8B-8F294A77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375A-F8B0-4026-9FB0-8DFE708D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504F-BD4B-4E06-94DD-7A7D56DF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BDD0-C017-4240-B08A-3ACCF348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C17E-81C2-41FC-9858-313BDA08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EC52-A9CE-4AD4-8773-32FF178B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8F5-7A6B-4D38-B702-7ED9282E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5E4-00BA-4E44-95DA-1FEA2E34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1EE-872C-467D-A255-9D2A1A82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42D-FFA0-44D2-A40F-C94A01C1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DA0-74BD-4EB9-A9B4-1A268C5B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108-9BD0-45BD-8391-85CC778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1D9-7D10-4917-B829-B0CAE94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0EBD-1CA8-43C7-BEAB-A097ABA13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6B1C-C074-4EE7-8808-25B4C53A8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ty Most Frequent Prefixes and Suf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Beginnings and Ending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Really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What Are Suffix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238880" cy="4038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uffixes are last syllables like “ed” and “ly” that have their own mea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ffixes combine with words to create new mean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urn + ed = Turned (in the pa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Quick + ly = Quickly (how it turn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8660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hy Learn Suffix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16292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ffixes add meaning to thousands of wo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Learn a few Suffixes, and you open up the meaning of thousands of wo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four most frequent suffixes ar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97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% of suffixed word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239240" cy="990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Suf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39116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able, ible = can be done : do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al, ial = has property of : pers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= past verb : tur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en = made of : gol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er = comparative : hig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er = one who : doer, 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est = superlative : best, bigg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suf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3429000" cy="4038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3238560" cy="4038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de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wh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erl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Suf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467480" cy="4343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–ful = full of : careful, joy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 –ic = having property of : linguist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–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= present participle : run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–(t)ion = act, process : 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–(i)ty = state of : infinity, san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–(t)ive = adjective : motive, vo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. –less = without : fearless, carel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suf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429000" cy="4038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–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 –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–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. –(t)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. –(i)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. –(t)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. –l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3238560" cy="4038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artici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 property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ec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Suf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6479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. –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= having : quickly, quiet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6. –ment = action, process : enjoy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7. –ness = state of : kind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8. –ous = having : joyous, religi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. –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= more than one : boo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. –y = having : happy, wi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Use these suffixes correctly, an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you look and sound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Comic Sans MS"/>
              </a:rPr>
              <a:t>pretty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Comic Sans MS"/>
              </a:rPr>
              <a:t>smar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suf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429000" cy="4038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. –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. –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7. –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. –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. –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. –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3238560" cy="4038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an you use common affix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45820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a different idea; I __agre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’t be; it’s just __possi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that again; please __peat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ens look bad; they are __friend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na took the car since she want__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he car is run__ down the ro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na is in a hurry; she’s driving quick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think that she has any ticket__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What Are Prefix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467480" cy="380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fixes are first syllables like “non-” and “re-” that have their own mea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fixes combine with words to create new mean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re + View = Preview (first loo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Super + Star = Superstar (top play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Why Learn Prefix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39152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fixes add meaning to thousands of wo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Learn a few prefixes, and you open up the meaning of thousands of wo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four most frequent prefixes ar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97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% of prefixed word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Pre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391520" cy="4114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ti = against : anti-w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 = opposite : destr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s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not, opposite of : disagr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(m) = cause to : encode, emb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 = before : foreca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(m) = in : intake, impl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 = between : inte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pre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342900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is*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(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(m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10160" y="1447920"/>
            <a:ext cx="3238560" cy="4038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. cause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. again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.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 bef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. 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. oppo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Pre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d = Middle : Mid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 = Wrongly : Mistak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 = Not : Non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 = Over : Overl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 = Before : Previe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e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Again : Retu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mi = Half : Semi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pre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342900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. P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3. 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. Sem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0160" y="1447920"/>
            <a:ext cx="3238560" cy="4038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Pre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. Sub = Under : Submar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6. Super = Above: Superst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7. Trans = Across : Trans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8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Not : Unfriend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. Under = Under : Underse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, Im, Il, Ir 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Not : Injustic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ssible, Illiterate, Irreligio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pre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342900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. Su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6. Su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. Tra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. U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. 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. In, Il, 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0160" y="1447920"/>
            <a:ext cx="3238560" cy="4038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5:50:27Z</dcterms:created>
  <dc:creator>DSC</dc:creator>
  <dc:description/>
  <dc:language>en-US</dc:language>
  <cp:lastModifiedBy>02101783</cp:lastModifiedBy>
  <dcterms:modified xsi:type="dcterms:W3CDTF">2010-02-17T21:18:19Z</dcterms:modified>
  <cp:revision>12</cp:revision>
  <dc:subject/>
  <dc:title>Common Prefixes</dc:title>
</cp:coreProperties>
</file>