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30A-AF7D-4768-954E-4FE3AFF6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039-1993-4BC5-8549-9B82C6A5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1D4-C3A7-4B0A-9E47-0D519547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3BE-B4AA-43FE-89E2-D16DB9E3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F5FA-C2FA-48E5-8DF7-68561DB1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32AE-B0D5-4752-9E5B-8AC7EDF4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FF4A-20AC-4CB2-853B-95106C7C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653F-CA28-4D34-B6F3-FBC3FDB1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501F-681D-42A6-BC68-B245F6F3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4F62-64F6-4216-B253-E93482D9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2246-9CCC-4CF3-89F8-CB220E0D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77B-F3A7-4E4D-B72C-129ADDD7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E611-DCD7-43DA-A205-F3131FB7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A203-9115-432E-8179-A6612782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F43D-D0F1-4E98-B6AA-1FE5E10D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E123-F860-4527-A803-7E5CE89D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89F6-824F-48DB-B44B-694BCA4D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655-BF2B-46C8-BAF3-B5F96821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9CB-93CD-49DA-BEFF-DDB5709C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EE6-ADD1-4FF5-9C3B-218846F5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251-1202-4903-B6D0-29F447F9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01D-8F04-44F9-891D-E39111DC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4DF-4276-4549-81AF-B190675A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885-721B-4F67-B811-7C20F445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17D2-508B-46C5-8CE9-019F29547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1ECF-5DE0-409D-82EC-E2216C3EE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rty Most Frequent Prefixes and Suf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Beginnings and Ending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Really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What Are Suffix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238880" cy="4038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Suffixes are last syllables like “ed” and “ly” that have their own mea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ffixes combine with words to create new meanin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urn + ed = Turned (in the pas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Quick + ly = Quickly (how it turne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86600" cy="1067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Why Learn Suffix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162920" cy="4114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ffixes add meaning to thousands of wor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Learn a few Suffixes, and you open up the meaning of thousands of wor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four most frequent suffixes ar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97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% of suffixed word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239240" cy="990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Most Common Suf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39116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able, ible = can be done : do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al, ial = has property of : pers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 = past verb : turn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en = made of : gold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er = comparative : hig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er = one who : doer, 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est = superlative : best, bigg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you know common suffix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3429000" cy="4038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3238560" cy="4038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de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wh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erla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Most Common Suf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467480" cy="4343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 –ful = full of : careful, joy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. –ic = having property of : linguist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 –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 = present participle : run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. –(t)ion = act, process : 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. –(i)ty = state of : infinity, san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. –(t)ive = adjective : motive, vo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. –less = without : fearless, carel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you know common suffix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3429000" cy="4038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. –f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 –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–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. –(t)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. –(i)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. –(t)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. –l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3238560" cy="4038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 partici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e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ing property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ll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jec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Most Common Suf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6479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. –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 = having : quickly, quiet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6. –ment = action, process : enjoy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7. –ness = state of : kindn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8. –ous = having : joyous, religi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9. –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 = more than one : boo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. –y = having : happy, wi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Use these suffixes correctly, an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you look and sound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Comic Sans MS"/>
              </a:rPr>
              <a:t>pretty</a:t>
            </a: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Comic Sans MS"/>
              </a:rPr>
              <a:t>smar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you know common suffix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3429000" cy="4038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. –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. –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7. –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. –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. –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. –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3238560" cy="4038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ur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e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Can you use common affix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45820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ve a different idea; I __agre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’t be; it’s just __possib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that again; please __peat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iens look bad; they are __friendl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na took the car since she want__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he car is run__ down the ro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na is in a hurry; she’s driving quick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think that she has any ticket__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What Are Prefix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467480" cy="380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fixes are first syllables like “non-” and “re-” that have their own mea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fixes combine with words to create new meanin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Pre + View = Preview (first loo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Super + Star = Superstar (top play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Why Learn Prefix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391520" cy="4114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fixes add meaning to thousands of wor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Learn a few prefixes, and you open up the meaning of thousands of wor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four most frequent prefixes ar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97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% of prefixed word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1067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Most Common Pre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391520" cy="4114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ti = against : anti-w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 = opposite : destr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s*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not, opposite of : disagre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(m) = cause to : encode, emb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 = before : foreca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(m) = in : intake, impl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 = between : inte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you know common prefix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342900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is*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(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(m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10160" y="1447920"/>
            <a:ext cx="3238560" cy="4038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. cause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. again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.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. bef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. 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. oppo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Most Common Pre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d = Middle : Mid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 = Wrongly : Mistak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n = Not : Nons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ver = Over : Overl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 = Before : Previe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e*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Again : Retu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mi = Half : Semicir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you know common prefix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342900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2. P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3. 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4. Sem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0160" y="1447920"/>
            <a:ext cx="3238560" cy="4038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g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Most Common Pre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. Sub = Under : Submar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6. Super = Above: Superst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7. Trans = Across : Trans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8.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n*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Not : Unfriend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9. Under = Under : Underse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.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, Im, Il, Ir *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Not : Injustic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ossible, Illiterate, Irreligio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you know common prefix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342900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. Su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6. Sup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7. Tra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. U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. 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. In, Il, 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0160" y="1447920"/>
            <a:ext cx="3238560" cy="4038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5:50:27Z</dcterms:created>
  <dc:creator>DSC</dc:creator>
  <dc:description/>
  <dc:language>en-US</dc:language>
  <cp:lastModifiedBy>02101783</cp:lastModifiedBy>
  <dcterms:modified xsi:type="dcterms:W3CDTF">2010-02-17T21:18:19Z</dcterms:modified>
  <cp:revision>12</cp:revision>
  <dc:subject/>
  <dc:title>Common Prefixes</dc:title>
</cp:coreProperties>
</file>