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AAC-67B7-4D61-852C-72ADE10D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583-4C4C-45BA-B556-7202B078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D26-80B5-485C-B9B4-46D03FFB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A93-3C00-4C29-A437-0CA4FEDF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140-D0FD-4670-9A58-DAFA2A58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5D7-C698-4443-BE19-88AA51F8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3A1-4A0E-42F7-A430-B6D2BE8A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BC4-BB13-48DA-87A9-F51E6644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B1B-B5E6-48D3-A54E-10401520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E14-4F5D-49FF-BD1E-019E51FC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495-441B-4F9A-92DF-68EED04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583-74B2-4E68-BCFF-D9ED9EB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C5F9-165B-492B-9E9A-6891FEF0AE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14680" y="14292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dnesday March 1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85840" y="571680"/>
            <a:ext cx="4143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Ma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nnect th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Read the instruction carefully then complete on the she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ste sheet into maths book then g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http://www.dositey.com/math/m/mystery1AM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d play at least 2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57120" y="2357280"/>
            <a:ext cx="4143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31859c"/>
                </a:solidFill>
                <a:uFillTx/>
                <a:latin typeface="Calibri"/>
              </a:rPr>
              <a:t>Sp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1859c"/>
                </a:solidFill>
                <a:latin typeface="Calibri"/>
              </a:rPr>
              <a:t>Go to spelling task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1859c"/>
                </a:solidFill>
                <a:latin typeface="Calibri"/>
              </a:rPr>
              <a:t>Week 6 spelling words- which are the words you have copied for ho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1859c"/>
                </a:solidFill>
                <a:latin typeface="Calibri"/>
              </a:rPr>
              <a:t>Complete the 2 tasks related to thes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31859c"/>
                </a:solidFill>
                <a:latin typeface="Calibri"/>
              </a:rPr>
              <a:t>Save into your English folder in your own folder in s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57120" y="3965400"/>
            <a:ext cx="39290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ff0000"/>
                </a:solidFill>
                <a:uFillTx/>
                <a:latin typeface="Calibri"/>
              </a:rPr>
              <a:t>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Re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This is the activity we started on Tues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Remember to have www.writingfun.com  open as a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But write in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Remember you are writing about one aspect of your week, last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Remember your work needs to be descriptive and eng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Save your work in </a:t>
            </a:r>
            <a:r>
              <a:rPr b="0" i="1" lang="en-AU" sz="1400" spc="-1" strike="noStrike">
                <a:solidFill>
                  <a:srgbClr val="ff0000"/>
                </a:solidFill>
                <a:latin typeface="Calibri"/>
              </a:rPr>
              <a:t>your English folder in your own folder in s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572000" y="1071720"/>
            <a:ext cx="4286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953735"/>
                </a:solidFill>
                <a:uFillTx/>
                <a:latin typeface="Calibri"/>
              </a:rPr>
              <a:t>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Go to the Kangaroobie home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http://www.kangaroobie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Go to the home page, Kangaroobie,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Read about the history of the farm and the family that run the f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Then make a story board, using word or powerpoint, that outlines the history of the farm and c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953735"/>
                </a:solidFill>
                <a:latin typeface="Calibri"/>
              </a:rPr>
              <a:t>Save into your English folder in your own folder in s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643280" y="3571920"/>
            <a:ext cx="4143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4f6228"/>
                </a:solidFill>
                <a:uFillTx/>
                <a:latin typeface="Calibri"/>
              </a:rPr>
              <a:t>Integrated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4f6228"/>
                </a:solidFill>
                <a:latin typeface="Calibri"/>
              </a:rPr>
              <a:t>Choose one of the cabin names from camp </a:t>
            </a:r>
            <a:r>
              <a:rPr b="0" lang="en-AU" sz="1400" spc="-1" strike="noStrike">
                <a:solidFill>
                  <a:srgbClr val="4f6228"/>
                </a:solidFill>
                <a:latin typeface="Calibri"/>
              </a:rPr>
              <a:t>i.e. </a:t>
            </a:r>
            <a:r>
              <a:rPr b="0" i="1" lang="en-AU" sz="1400" spc="-1" strike="noStrike">
                <a:solidFill>
                  <a:srgbClr val="4f6228"/>
                </a:solidFill>
                <a:latin typeface="Calibri"/>
              </a:rPr>
              <a:t>Schomberg, Eric the Red, Black Witch, Napier, Elizabeth, Falls of Hallidale, Johanna </a:t>
            </a:r>
            <a:r>
              <a:rPr b="0" lang="en-AU" sz="1400" spc="-1" strike="noStrike">
                <a:solidFill>
                  <a:srgbClr val="4f6228"/>
                </a:solidFill>
                <a:latin typeface="Calibri"/>
              </a:rPr>
              <a:t>and investigate the Shipwreck which this cabin was named af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4f6228"/>
                </a:solidFill>
                <a:latin typeface="Calibri"/>
              </a:rPr>
              <a:t>Details must include: </a:t>
            </a:r>
            <a:r>
              <a:rPr b="1" lang="en-AU" sz="1400" spc="-1" strike="noStrike">
                <a:solidFill>
                  <a:srgbClr val="4f6228"/>
                </a:solidFill>
                <a:latin typeface="Calibri"/>
              </a:rPr>
              <a:t>why, when, how, where and w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4f6228"/>
                </a:solidFill>
                <a:latin typeface="Calibri"/>
              </a:rPr>
              <a:t>Use the following program to write a paragraph about camp.  Read the instructions carefu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4f6228"/>
                </a:solidFill>
                <a:latin typeface="Calibri"/>
              </a:rPr>
              <a:t>www.</a:t>
            </a:r>
            <a:r>
              <a:rPr b="1" i="1" lang="en-AU" sz="1400" spc="-1" strike="noStrike">
                <a:solidFill>
                  <a:srgbClr val="4f6228"/>
                </a:solidFill>
                <a:latin typeface="Calibri"/>
              </a:rPr>
              <a:t>wordle</a:t>
            </a:r>
            <a:r>
              <a:rPr b="0" i="1" lang="en-AU" sz="1400" spc="-1" strike="noStrike">
                <a:solidFill>
                  <a:srgbClr val="4f6228"/>
                </a:solidFill>
                <a:latin typeface="Calibri"/>
              </a:rPr>
              <a:t>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1:52:53Z</dcterms:created>
  <dc:creator>Education</dc:creator>
  <dc:description/>
  <dc:language>en-US</dc:language>
  <cp:lastModifiedBy>02101783</cp:lastModifiedBy>
  <dcterms:modified xsi:type="dcterms:W3CDTF">2010-03-09T04:03:44Z</dcterms:modified>
  <cp:revision>1</cp:revision>
  <dc:subject/>
  <dc:title>Slide 1</dc:title>
</cp:coreProperties>
</file>