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684-82C4-4455-9BBF-51BC2815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C63-0AFC-4181-9F5D-10F8F53C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81C9-0FDC-43D0-B479-C3F5FE03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2C6A-9BC7-4748-BBC3-2F88BA5D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590-CE8B-47C2-8D71-CDAB4C4D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4291-41A7-4147-928C-64725427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58B-C5F1-4D92-9F8F-6168709C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2E0-BAB5-4877-BDCF-5689C0FE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102-1692-44BD-A61F-F57FCB83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B405-C655-4986-9EB7-48AA0AFD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AB5-2EC1-4F5D-B2BE-AEBDF79E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93FE-5CE1-41FB-B7A6-F37D6562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3597-2821-482E-817A-08D4729854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714680" y="142920"/>
            <a:ext cx="53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dnesday March 10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85840" y="571680"/>
            <a:ext cx="4143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Ma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Connect the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Read the instruction carefully then complete on the she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aste sheet into maths book then go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http://www.dositey.com/math/m/mystery1AM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nd play at least 2 g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57120" y="2357280"/>
            <a:ext cx="4143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31859c"/>
                </a:solidFill>
                <a:uFillTx/>
                <a:latin typeface="Calibri"/>
              </a:rPr>
              <a:t>Spe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1859c"/>
                </a:solidFill>
                <a:latin typeface="Calibri"/>
              </a:rPr>
              <a:t>Go to spelling task 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1859c"/>
                </a:solidFill>
                <a:latin typeface="Calibri"/>
              </a:rPr>
              <a:t>Week 6 spelling words- which are the words you have copied for ho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1859c"/>
                </a:solidFill>
                <a:latin typeface="Calibri"/>
              </a:rPr>
              <a:t>Complete the 2 tasks related to thes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31859c"/>
                </a:solidFill>
                <a:latin typeface="Calibri"/>
              </a:rPr>
              <a:t>Save into your English folder in your own folder in s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57120" y="3965400"/>
            <a:ext cx="39290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ff0000"/>
                </a:solidFill>
                <a:uFillTx/>
                <a:latin typeface="Calibri"/>
              </a:rPr>
              <a:t>Wr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Calibri"/>
              </a:rPr>
              <a:t>Re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Calibri"/>
              </a:rPr>
              <a:t>This is the activity we started on Tues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Calibri"/>
              </a:rPr>
              <a:t>Remember to have www.writingfun.com  open as a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Calibri"/>
              </a:rPr>
              <a:t>But write in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Calibri"/>
              </a:rPr>
              <a:t>Remember you are writing about one aspect of your week, last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Calibri"/>
              </a:rPr>
              <a:t>Remember your work needs to be descriptive and eng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Calibri"/>
              </a:rPr>
              <a:t>Save your work in </a:t>
            </a:r>
            <a:r>
              <a:rPr b="0" i="1" lang="en-AU" sz="1400" spc="-1" strike="noStrike">
                <a:solidFill>
                  <a:srgbClr val="ff0000"/>
                </a:solidFill>
                <a:latin typeface="Calibri"/>
              </a:rPr>
              <a:t>your English folder in your own folder in s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572000" y="1071720"/>
            <a:ext cx="4286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953735"/>
                </a:solidFill>
                <a:uFillTx/>
                <a:latin typeface="Calibri"/>
              </a:rPr>
              <a:t>Re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953735"/>
                </a:solidFill>
                <a:latin typeface="Calibri"/>
              </a:rPr>
              <a:t>Go to the Kangaroobie home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953735"/>
                </a:solidFill>
                <a:latin typeface="Calibri"/>
              </a:rPr>
              <a:t>http://www.kangaroobie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953735"/>
                </a:solidFill>
                <a:latin typeface="Calibri"/>
              </a:rPr>
              <a:t>Go to the home page, Kangaroobie,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953735"/>
                </a:solidFill>
                <a:latin typeface="Calibri"/>
              </a:rPr>
              <a:t>Read about the history of the farm and the family that run the fa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953735"/>
                </a:solidFill>
                <a:latin typeface="Calibri"/>
              </a:rPr>
              <a:t>Then make a story board, using word or powerpoint, that outlines the history of the farm and ca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953735"/>
                </a:solidFill>
                <a:latin typeface="Calibri"/>
              </a:rPr>
              <a:t>Save into your English folder in your own folder in s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4643280" y="3571920"/>
            <a:ext cx="4143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4f6228"/>
                </a:solidFill>
                <a:uFillTx/>
                <a:latin typeface="Calibri"/>
              </a:rPr>
              <a:t>Integrated Curric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4f6228"/>
                </a:solidFill>
                <a:latin typeface="Calibri"/>
              </a:rPr>
              <a:t>Choose one of the cabin names from camp </a:t>
            </a:r>
            <a:r>
              <a:rPr b="0" lang="en-AU" sz="1400" spc="-1" strike="noStrike">
                <a:solidFill>
                  <a:srgbClr val="4f6228"/>
                </a:solidFill>
                <a:latin typeface="Calibri"/>
              </a:rPr>
              <a:t>i.e. </a:t>
            </a:r>
            <a:r>
              <a:rPr b="0" i="1" lang="en-AU" sz="1400" spc="-1" strike="noStrike">
                <a:solidFill>
                  <a:srgbClr val="4f6228"/>
                </a:solidFill>
                <a:latin typeface="Calibri"/>
              </a:rPr>
              <a:t>Schomberg, Eric the Red, Black Witch, Napier, Elizabeth, Falls of Hallidale, Johanna </a:t>
            </a:r>
            <a:r>
              <a:rPr b="0" lang="en-AU" sz="1400" spc="-1" strike="noStrike">
                <a:solidFill>
                  <a:srgbClr val="4f6228"/>
                </a:solidFill>
                <a:latin typeface="Calibri"/>
              </a:rPr>
              <a:t>and investigate the Shipwreck which this cabin was named af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4f6228"/>
                </a:solidFill>
                <a:latin typeface="Calibri"/>
              </a:rPr>
              <a:t>Details must include: </a:t>
            </a:r>
            <a:r>
              <a:rPr b="1" lang="en-AU" sz="1400" spc="-1" strike="noStrike">
                <a:solidFill>
                  <a:srgbClr val="4f6228"/>
                </a:solidFill>
                <a:latin typeface="Calibri"/>
              </a:rPr>
              <a:t>why, when, how, where and wh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4f6228"/>
                </a:solidFill>
                <a:latin typeface="Calibri"/>
              </a:rPr>
              <a:t>Use the following program to write a paragraph about camp.  Read the instructions careful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4f6228"/>
                </a:solidFill>
                <a:latin typeface="Calibri"/>
              </a:rPr>
              <a:t>www.</a:t>
            </a:r>
            <a:r>
              <a:rPr b="1" i="1" lang="en-AU" sz="1400" spc="-1" strike="noStrike">
                <a:solidFill>
                  <a:srgbClr val="4f6228"/>
                </a:solidFill>
                <a:latin typeface="Calibri"/>
              </a:rPr>
              <a:t>wordle</a:t>
            </a:r>
            <a:r>
              <a:rPr b="0" i="1" lang="en-AU" sz="1400" spc="-1" strike="noStrike">
                <a:solidFill>
                  <a:srgbClr val="4f6228"/>
                </a:solidFill>
                <a:latin typeface="Calibri"/>
              </a:rPr>
              <a:t>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1:52:53Z</dcterms:created>
  <dc:creator>Education</dc:creator>
  <dc:description/>
  <dc:language>en-US</dc:language>
  <cp:lastModifiedBy>02101783</cp:lastModifiedBy>
  <dcterms:modified xsi:type="dcterms:W3CDTF">2010-03-09T04:03:44Z</dcterms:modified>
  <cp:revision>1</cp:revision>
  <dc:subject/>
  <dc:title>Slide 1</dc:title>
</cp:coreProperties>
</file>