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818-9412-422F-833E-1E4C0F3B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0BB-5EEE-4534-976D-C39DCE18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07C-9F1D-4172-9158-F8A86593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3B0-3E32-48DF-9DEC-E3313420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B7D-24F9-460E-94FD-08837ACE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6BF-13DD-4525-A26A-320D0034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3F8-984C-4908-863D-99189E21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AE2-1667-42DE-883E-1D117E57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BB3-58E8-4664-ABD5-1D857AA0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C84-70C4-43FA-84DE-8FE20FC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5EB-643C-4B44-B8B1-FA3FA73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BD5-975E-4563-8B0A-05C3A3B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6F0-A18C-49CB-B813-D0585DE8D5ED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hyperlink" Target="file:///../New%20Folder/Desktop/grade%2056%20planners/Solve%20Me%20taskboard.ppt" TargetMode="External"/><Relationship Id="rId4" Type="http://schemas.openxmlformats.org/officeDocument/2006/relationships/hyperlink" Target="file:///../New%20Folder/Desktop/grade%2056%20planners/Solve%20Me%20taskboard.ppt" TargetMode="External"/><Relationship Id="rId5" Type="http://schemas.openxmlformats.org/officeDocument/2006/relationships/hyperlink" Target="file:///Weekly%20Mathematics.ppt" TargetMode="External"/><Relationship Id="rId6" Type="http://schemas.openxmlformats.org/officeDocument/2006/relationships/hyperlink" Target="file:///Weekly%20Mathematics.ppt" TargetMode="External"/><Relationship Id="rId7" Type="http://schemas.openxmlformats.org/officeDocument/2006/relationships/hyperlink" Target="http://www.coolmath4kids.com/" TargetMode="External"/><Relationship Id="rId8" Type="http://schemas.openxmlformats.org/officeDocument/2006/relationships/hyperlink" Target="http://www.coolmath4kids.com/" TargetMode="External"/><Relationship Id="rId9" Type="http://schemas.openxmlformats.org/officeDocument/2006/relationships/hyperlink" Target="http://www.mathsisfun.com/" TargetMode="External"/><Relationship Id="rId10" Type="http://schemas.openxmlformats.org/officeDocument/2006/relationships/hyperlink" Target="http://www.teachers.ash.org.au/jeather/maths/dictionary.html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hyperlink" Target="http://www.wordle.net/" TargetMode="External"/><Relationship Id="rId5" Type="http://schemas.openxmlformats.org/officeDocument/2006/relationships/hyperlink" Target="http://www.wordle.net/" TargetMode="External"/><Relationship Id="rId6" Type="http://schemas.openxmlformats.org/officeDocument/2006/relationships/hyperlink" Target="http://www.wordle.net/" TargetMode="External"/><Relationship Id="rId7" Type="http://schemas.openxmlformats.org/officeDocument/2006/relationships/hyperlink" Target="http://www.wordle.net/" TargetMode="External"/><Relationship Id="rId8" Type="http://schemas.openxmlformats.org/officeDocument/2006/relationships/hyperlink" Target="http://www.wordle.net/show/wrdl/1092476/Period_G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iscovering%20your%20SMARTS%20-%20MI%20checklist.doc" TargetMode="External"/><Relationship Id="rId2" Type="http://schemas.openxmlformats.org/officeDocument/2006/relationships/hyperlink" Target="file:///../New%20Folder/Desktop/2009/how%20many%20ways%20are%20you%20smart%20survey!.pdf" TargetMode="External"/><Relationship Id="rId3" Type="http://schemas.openxmlformats.org/officeDocument/2006/relationships/image" Target="../media/image4.gif"/><Relationship Id="rId4" Type="http://schemas.openxmlformats.org/officeDocument/2006/relationships/slide" Target="slide1.xml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hyperlink" Target="http://www.typingtest.com/" TargetMode="External"/><Relationship Id="rId4" Type="http://schemas.openxmlformats.org/officeDocument/2006/relationships/hyperlink" Target="file:///Weekly%20Writing%20Tasks.ppt" TargetMode="External"/><Relationship Id="rId5" Type="http://schemas.openxmlformats.org/officeDocument/2006/relationships/hyperlink" Target="file:///Weekly%20Writing%20Tasks.ppt" TargetMode="External"/><Relationship Id="rId6" Type="http://schemas.openxmlformats.org/officeDocument/2006/relationships/hyperlink" Target="file:///../homework%202010/Green%20Spelling%20Group.ppt" TargetMode="External"/><Relationship Id="rId7" Type="http://schemas.openxmlformats.org/officeDocument/2006/relationships/hyperlink" Target="file:///../homework%202010/Green%20Spelling%20Group.ppt" TargetMode="External"/><Relationship Id="rId8" Type="http://schemas.openxmlformats.org/officeDocument/2006/relationships/hyperlink" Target="file:///../homework%202010/Green%20Spelling%20Group.ppt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cf04"/>
                </a:solidFill>
                <a:latin typeface="Arial"/>
              </a:rPr>
              <a:t>Term one week 6</a:t>
            </a:r>
            <a:br>
              <a:rPr sz="4400"/>
            </a:br>
            <a:r>
              <a:rPr b="0" lang="en-AU" sz="2000" spc="-1" strike="noStrike">
                <a:solidFill>
                  <a:srgbClr val="00b0f0"/>
                </a:solidFill>
                <a:latin typeface="Arial"/>
              </a:rPr>
              <a:t>You need to complete all tasks by the end of the week!</a:t>
            </a:r>
            <a:r>
              <a:rPr b="0" lang="en-AU" sz="4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AU" sz="4400" spc="-1" strike="noStrike">
                <a:solidFill>
                  <a:srgbClr val="dfcf0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0" y="271476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en-AU" sz="4000" spc="-1" strike="noStrike" u="sng">
                <a:solidFill>
                  <a:srgbClr val="8e58b6"/>
                </a:solidFill>
                <a:uFillTx/>
                <a:latin typeface="Arial"/>
                <a:hlinkClick r:id="rId1" action="ppaction://hlinksldjump"/>
              </a:rPr>
              <a:t>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>
            <a:hlinkClick r:id="rId2" action="ppaction://hlinksldjump"/>
          </p:cNvPr>
          <p:cNvSpPr/>
          <p:nvPr/>
        </p:nvSpPr>
        <p:spPr>
          <a:xfrm>
            <a:off x="3143160" y="264312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AU" sz="4000" spc="-1" strike="noStrike">
                <a:solidFill>
                  <a:srgbClr val="ff0000"/>
                </a:solidFill>
                <a:latin typeface="Arial"/>
              </a:rPr>
              <a:t>Maths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42960" y="4143240"/>
            <a:ext cx="221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 u="sng">
                <a:solidFill>
                  <a:srgbClr val="8e58b6"/>
                </a:solidFill>
                <a:uFillTx/>
                <a:latin typeface="Arial"/>
                <a:hlinkClick r:id="rId3" action="ppaction://hlinksldjump"/>
              </a:rPr>
              <a:t>Integrated studies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857760" y="42861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8e58b6"/>
                </a:solidFill>
                <a:uFillTx/>
                <a:latin typeface="Arial"/>
                <a:hlinkClick r:id="rId4" action="ppaction://hlinksldjump"/>
              </a:rPr>
              <a:t>Person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>
            <a:hlinkClick r:id="rId5" action="ppaction://hlinksldjump"/>
          </p:cNvPr>
          <p:cNvSpPr/>
          <p:nvPr/>
        </p:nvSpPr>
        <p:spPr>
          <a:xfrm>
            <a:off x="6429240" y="4286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7030a0"/>
                </a:solidFill>
                <a:latin typeface="Arial"/>
              </a:rPr>
              <a:t>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ths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Program Files\Microsoft Office\MEDIA\CAGCAT10\j0185604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43800" y="457200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357200" y="192888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.Complete the maths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.\New Folder\Desktop\grade 56 planners\Solve Me taskboard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214960" y="17859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Complete week 4, 5 &amp; 6 if you haven’t already done so. Save in your own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Weekly Mathematics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1071720" y="4429080"/>
            <a:ext cx="5000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1214280" y="4572000"/>
            <a:ext cx="5000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214280" y="4209120"/>
            <a:ext cx="50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7"/>
              </a:rPr>
              <a:t>Some websites to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8"/>
              </a:rPr>
              <a:t>http://www.coolmath4kid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9"/>
              </a:rPr>
              <a:t>http://www.mathsisfun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0"/>
              </a:rPr>
              <a:t>http://www.teachers.ash.org.au/jeather/maths/dictiona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70c0"/>
                </a:solidFill>
                <a:latin typeface="Arial"/>
              </a:rPr>
              <a:t>Integrated studie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Program Files\Microsoft Office\MEDIA\CAGCAT10\j0185604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43880" y="535788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000080" y="128592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b0f0"/>
                </a:solidFill>
                <a:latin typeface="Arial"/>
              </a:rPr>
              <a:t>Choose one of the cabin names from camp </a:t>
            </a:r>
            <a:r>
              <a:rPr b="0" lang="en-AU" sz="1800" spc="-1" strike="noStrike">
                <a:solidFill>
                  <a:srgbClr val="00b0f0"/>
                </a:solidFill>
                <a:latin typeface="Arial"/>
              </a:rPr>
              <a:t>i.e. </a:t>
            </a:r>
            <a:r>
              <a:rPr b="0" i="1" lang="en-AU" sz="1800" spc="-1" strike="noStrike">
                <a:solidFill>
                  <a:srgbClr val="00b0f0"/>
                </a:solidFill>
                <a:latin typeface="Arial"/>
              </a:rPr>
              <a:t>Schomberg, Eric the Red, Black Witch, Napier, Elizabeth, Falls of Hallidale, Johanna </a:t>
            </a:r>
            <a:r>
              <a:rPr b="0" lang="en-AU" sz="1800" spc="-1" strike="noStrike">
                <a:solidFill>
                  <a:srgbClr val="00b0f0"/>
                </a:solidFill>
                <a:latin typeface="Arial"/>
              </a:rPr>
              <a:t>and investigate the Shipwreck which this cabin was named af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f0"/>
                </a:solidFill>
                <a:latin typeface="Arial"/>
              </a:rPr>
              <a:t>Details must include: </a:t>
            </a:r>
            <a:r>
              <a:rPr b="1" lang="en-AU" sz="1800" spc="-1" strike="noStrike">
                <a:solidFill>
                  <a:srgbClr val="00b0f0"/>
                </a:solidFill>
                <a:latin typeface="Arial"/>
              </a:rPr>
              <a:t>why, when, how, where and w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b0f0"/>
                </a:solidFill>
                <a:latin typeface="Arial"/>
              </a:rPr>
              <a:t>Present this in an interesting way to share with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Program Files\Microsoft Office\Media\CntCD1\ClipArt6\j0290351.wmf"/>
          <p:cNvPicPr/>
          <p:nvPr/>
        </p:nvPicPr>
        <p:blipFill>
          <a:blip r:embed="rId3"/>
          <a:stretch/>
        </p:blipFill>
        <p:spPr>
          <a:xfrm>
            <a:off x="0" y="4143240"/>
            <a:ext cx="2786040" cy="1995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643120" y="314316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Use the following program to write a paragraph about camp.  Read the instruction s care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www.</a:t>
            </a: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wordle</a:t>
            </a: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http://www.wordle.net/thumb/wrdl/1092476/Period_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6200" y="40006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ersonal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Complete the following surveys on Personal learning sty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Discovering your SMARTS - MI checklist.d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..\New Folder\Desktop\2009\how many ways are you smart survey!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0000"/>
                </a:solidFill>
                <a:latin typeface="Arial"/>
              </a:rPr>
              <a:t>Write a summary on your find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Program Files\Microsoft Office\Media\CntCD1\Animated\j0283537.gif"/>
          <p:cNvPicPr/>
          <p:nvPr/>
        </p:nvPicPr>
        <p:blipFill>
          <a:blip r:embed="rId3"/>
          <a:stretch/>
        </p:blipFill>
        <p:spPr>
          <a:xfrm>
            <a:off x="6418440" y="4572000"/>
            <a:ext cx="1015920" cy="98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Program Files\Microsoft Office\MEDIA\CAGCAT10\j0185604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72240" y="507204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Program Files\Microsoft Office\MEDIA\CAGCAT10\j0185604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15160" y="5429160"/>
            <a:ext cx="922320" cy="924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642960" y="1500120"/>
            <a:ext cx="314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a typing test for this week and record your results in your digital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http://www.typingtes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57120" y="3571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Complete the Feelings of the fores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Weekly Writing Tasks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357200"/>
            <a:ext cx="378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weeks spelling activities. We need to complete week 4 &amp; 5 please. Make sure you are doing the correct colour!</a:t>
            </a: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.\</a:t>
            </a:r>
            <a:r>
              <a:rPr b="0" lang="en-AU" sz="1800" spc="-1" strike="noStrike" u="sng">
                <a:solidFill>
                  <a:srgbClr val="8e58b6"/>
                </a:solidFill>
                <a:uFillTx/>
                <a:latin typeface="Arial"/>
                <a:hlinkClick r:id="rId8"/>
              </a:rPr>
              <a:t>homework 2010\Green Spelling Group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70c0"/>
                </a:solidFill>
                <a:latin typeface="Arial"/>
              </a:rPr>
              <a:t>..\homework 2010\Red Spelling Group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70c0"/>
                </a:solidFill>
                <a:latin typeface="Arial"/>
              </a:rPr>
              <a:t>..\homework 2010\Blue Spelling Group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000080" y="5000760"/>
            <a:ext cx="514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a novel to complete a book response on. Choose 4 different activities from 4 different sections of the following grid. Complete in your English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\Literacy ideas\Investigating Fiction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030a0"/>
                </a:solidFill>
                <a:latin typeface="Arial"/>
              </a:rPr>
              <a:t>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7286760" y="4643280"/>
            <a:ext cx="922320" cy="924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357120" y="1785960"/>
            <a:ext cx="692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ease make sure your digital portfolio is up to date. It should include the following pages all hyperlinked back to the first 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Math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ntegrated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rack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with hyperlinks to pages to record spelling results and blitz ma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Goal sheet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ould include a learning goal and a personal goal for this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arent record she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cc"/>
                </a:solidFill>
                <a:latin typeface="Arial"/>
              </a:rPr>
              <a:t>Here is an example for you to check yours with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..\ICT TASKS\My Portfolio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4:47:59Z</dcterms:created>
  <dc:creator>Education</dc:creator>
  <dc:description/>
  <dc:language>en-US</dc:language>
  <cp:lastModifiedBy>Education</cp:lastModifiedBy>
  <dcterms:modified xsi:type="dcterms:W3CDTF">2010-03-08T08:38:56Z</dcterms:modified>
  <cp:revision>26</cp:revision>
  <dc:subject/>
  <dc:title>Slide 1</dc:title>
</cp:coreProperties>
</file>