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9957-BC32-4BBB-AF0E-D16C793630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E64B-9B51-4694-8121-DDC1799FD7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39C-9453-4C4C-BD50-0EE75910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434-BC82-4819-A39F-B5C71D8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7B2-4FDB-43F3-B433-2CAD3BC0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D96-852D-445F-A215-D91BBE77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D66-8EDA-4077-BE88-3AC17F06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99E-3603-4082-AF74-440AEF19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518-D653-42E0-90D1-2152CDFE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729-DCE4-4AA3-B1FD-6F6BCAA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421-2130-4CDC-8C1E-263C465D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C32-05DD-4EC7-973B-C111373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1EF-D965-40DC-9820-1BF2791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45A-F970-47F6-9A59-F25D85A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CA34-758B-4D64-A451-FEB033C4A1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nguagearts.pppst.com/synonyms.html" TargetMode="External"/><Relationship Id="rId3" Type="http://schemas.openxmlformats.org/officeDocument/2006/relationships/hyperlink" Target="http://thesaurus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hyperlink" Target="http://www.harcourtschool.com/activity/basketball/index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gfl-cymru.org.uk/vtc/ngfl/english/monmouthshire/choose_adj_monmouthshir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www.bbc.co.uk/skillswise/words/spelling/plurals/pluralrules/factsheet1.shtml" TargetMode="External"/><Relationship Id="rId3" Type="http://schemas.openxmlformats.org/officeDocument/2006/relationships/hyperlink" Target="http://www.lancsngfl.ac.uk/curriculum/literacy/lit_site/lit_sites/plurals/pl_6/plurals6.htm" TargetMode="External"/><Relationship Id="rId4" Type="http://schemas.openxmlformats.org/officeDocument/2006/relationships/hyperlink" Target="http://www.manythings.org/wbg/irr_plurals1-mw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http://www.bbc.co.uk/skillswise/words/grammar/punctuation/commas/flash0.s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bbc.co.uk/skillswise/words/grammar/punctuation/apostrophes/game.s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rickweb.co.uk/assets/resources/flash.php?&amp;file=compound%20words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xplosion 2 1"/>
          <p:cNvSpPr/>
          <p:nvPr/>
        </p:nvSpPr>
        <p:spPr>
          <a:xfrm>
            <a:off x="0" y="0"/>
            <a:ext cx="2928960" cy="2714760"/>
          </a:xfrm>
          <a:prstGeom prst="irregularSeal2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SYN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 2"/>
          <p:cNvSpPr/>
          <p:nvPr/>
        </p:nvSpPr>
        <p:spPr>
          <a:xfrm>
            <a:off x="3071880" y="214200"/>
            <a:ext cx="3429000" cy="1571760"/>
          </a:xfrm>
          <a:prstGeom prst="pie">
            <a:avLst/>
          </a:prstGeom>
          <a:solidFill>
            <a:srgbClr val="c595c3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CAPITAL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PER 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uble Wave 3"/>
          <p:cNvSpPr/>
          <p:nvPr/>
        </p:nvSpPr>
        <p:spPr>
          <a:xfrm rot="693000">
            <a:off x="7267680" y="151920"/>
            <a:ext cx="1611360" cy="2824200"/>
          </a:xfrm>
          <a:custGeom>
            <a:avLst/>
            <a:gdLst>
              <a:gd name="textAreaLeft" fmla="*/ 0 w 1611360"/>
              <a:gd name="textAreaRight" fmla="*/ 1611720 w 1611360"/>
              <a:gd name="textAreaTop" fmla="*/ 352800 h 2824200"/>
              <a:gd name="textAreaBottom" fmla="*/ 247140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D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xplosion 2 6"/>
          <p:cNvSpPr/>
          <p:nvPr/>
        </p:nvSpPr>
        <p:spPr>
          <a:xfrm>
            <a:off x="5072040" y="4071960"/>
            <a:ext cx="4071960" cy="278604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Display 7"/>
          <p:cNvSpPr/>
          <p:nvPr/>
        </p:nvSpPr>
        <p:spPr>
          <a:xfrm>
            <a:off x="0" y="5357880"/>
            <a:ext cx="2428920" cy="1285920"/>
          </a:xfrm>
          <a:prstGeom prst="flowChartDisplay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APOSTROP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 8"/>
          <p:cNvSpPr/>
          <p:nvPr/>
        </p:nvSpPr>
        <p:spPr>
          <a:xfrm rot="20179200">
            <a:off x="2514240" y="5209920"/>
            <a:ext cx="2747880" cy="1357200"/>
          </a:xfrm>
          <a:prstGeom prst="pi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 11"/>
          <p:cNvSpPr/>
          <p:nvPr/>
        </p:nvSpPr>
        <p:spPr>
          <a:xfrm rot="20541600">
            <a:off x="-7560" y="2572920"/>
            <a:ext cx="2571840" cy="1285920"/>
          </a:xfrm>
          <a:prstGeom prst="pie">
            <a:avLst/>
          </a:prstGeom>
          <a:solidFill>
            <a:srgbClr val="f01c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HY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uble Wave 12"/>
          <p:cNvSpPr/>
          <p:nvPr/>
        </p:nvSpPr>
        <p:spPr>
          <a:xfrm rot="20547000">
            <a:off x="5021280" y="3022200"/>
            <a:ext cx="2262240" cy="1428840"/>
          </a:xfrm>
          <a:custGeom>
            <a:avLst/>
            <a:gdLst>
              <a:gd name="textAreaLeft" fmla="*/ 0 w 2262240"/>
              <a:gd name="textAreaRight" fmla="*/ 2262600 w 2262240"/>
              <a:gd name="textAreaTop" fmla="*/ 178560 h 1428840"/>
              <a:gd name="textAreaBottom" fmla="*/ 12502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19de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HOMO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uble Wave 14"/>
          <p:cNvSpPr/>
          <p:nvPr/>
        </p:nvSpPr>
        <p:spPr>
          <a:xfrm rot="595800">
            <a:off x="2595240" y="3056040"/>
            <a:ext cx="1643040" cy="2071440"/>
          </a:xfrm>
          <a:custGeom>
            <a:avLst/>
            <a:gdLst>
              <a:gd name="textAreaLeft" fmla="*/ 328680 w 1643040"/>
              <a:gd name="textAreaRight" fmla="*/ 1972080 w 1643040"/>
              <a:gd name="textAreaTop" fmla="*/ 258840 h 2071440"/>
              <a:gd name="textAreaBottom" fmla="*/ 1812600 h 2071440"/>
            </a:gdLst>
            <a:ahLst/>
            <a:rect l="textAreaLeft" t="textAreaTop" r="textAreaRight" b="textAreaBottom"/>
            <a:pathLst>
              <a:path w="21600" h="21600">
                <a:moveTo>
                  <a:pt x="4320" y="1350"/>
                </a:moveTo>
                <a:cubicBezTo>
                  <a:pt x="5760" y="-3433"/>
                  <a:pt x="11520" y="6133"/>
                  <a:pt x="12960" y="1350"/>
                </a:cubicBezTo>
                <a:cubicBezTo>
                  <a:pt x="14400" y="-3433"/>
                  <a:pt x="20160" y="6133"/>
                  <a:pt x="21600" y="1350"/>
                </a:cubicBezTo>
                <a:lnTo>
                  <a:pt x="17280" y="20250"/>
                </a:lnTo>
                <a:cubicBezTo>
                  <a:pt x="15840" y="25033"/>
                  <a:pt x="10080" y="15467"/>
                  <a:pt x="8640" y="20250"/>
                </a:cubicBezTo>
                <a:cubicBezTo>
                  <a:pt x="7200" y="25033"/>
                  <a:pt x="1440" y="15467"/>
                  <a:pt x="0" y="20250"/>
                </a:cubicBezTo>
                <a:close/>
              </a:path>
            </a:pathLst>
          </a:custGeom>
          <a:solidFill>
            <a:srgbClr val="10fc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VERB T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6-Point Star 15"/>
          <p:cNvSpPr/>
          <p:nvPr/>
        </p:nvSpPr>
        <p:spPr>
          <a:xfrm rot="20981400">
            <a:off x="111240" y="3890520"/>
            <a:ext cx="2101680" cy="1428840"/>
          </a:xfrm>
          <a:custGeom>
            <a:avLst/>
            <a:gdLst>
              <a:gd name="textAreaLeft" fmla="*/ 479520 w 2101680"/>
              <a:gd name="textAreaRight" fmla="*/ 1622160 w 2101680"/>
              <a:gd name="textAreaTop" fmla="*/ 326160 h 1428840"/>
              <a:gd name="textAreaBottom" fmla="*/ 11026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cdd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Horizontal Scroll 13"/>
          <p:cNvSpPr/>
          <p:nvPr/>
        </p:nvSpPr>
        <p:spPr>
          <a:xfrm>
            <a:off x="2571840" y="1571760"/>
            <a:ext cx="4357440" cy="1714320"/>
          </a:xfrm>
          <a:prstGeom prst="horizontalScroll">
            <a:avLst>
              <a:gd name="adj" fmla="val 24087"/>
            </a:avLst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Lucida Handwriting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Lucida Handwriting"/>
              </a:rPr>
              <a:t>TER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3357360" cy="642960"/>
          </a:xfrm>
          <a:prstGeom prst="rect">
            <a:avLst/>
          </a:prstGeom>
          <a:solidFill>
            <a:srgbClr val="a0f1f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MOPH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2"/>
          <p:cNvSpPr/>
          <p:nvPr/>
        </p:nvSpPr>
        <p:spPr>
          <a:xfrm>
            <a:off x="3857760" y="214200"/>
            <a:ext cx="5000400" cy="714600"/>
          </a:xfrm>
          <a:prstGeom prst="roundRect">
            <a:avLst>
              <a:gd name="adj" fmla="val 16667"/>
            </a:avLst>
          </a:prstGeom>
          <a:solidFill>
            <a:srgbClr val="19de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Homophones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 are words that sound the same but are spelt differently and have different mean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2920" y="1000080"/>
            <a:ext cx="3929040" cy="1189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oose the correct homophone to complete this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a) The  boy put shampoo on his (hare/hai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b) Mum put some (flower/flour) in the cake m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c) James didn't have a very good (nights/knights) sl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d) A rabbit is a bit like a (hare/hai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e) Tony got chased by a large (bare/bea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xplosion 1 8"/>
          <p:cNvSpPr/>
          <p:nvPr/>
        </p:nvSpPr>
        <p:spPr>
          <a:xfrm>
            <a:off x="4857840" y="357120"/>
            <a:ext cx="4286160" cy="4286160"/>
          </a:xfrm>
          <a:prstGeom prst="irregularSeal1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Calibri"/>
              </a:rPr>
              <a:t>Write the homophones for the following word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Calibri"/>
              </a:rPr>
              <a:t>plane, right, see, there, which, where, be, for, here, knew, no, s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nip Diagonal Corner Rectangle 10"/>
          <p:cNvSpPr/>
          <p:nvPr/>
        </p:nvSpPr>
        <p:spPr>
          <a:xfrm>
            <a:off x="214200" y="2214720"/>
            <a:ext cx="4643640" cy="3071520"/>
          </a:xfrm>
          <a:prstGeom prst="pie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Choose the correct homophone to complete the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a) Lucy couldn't wait to (meet/meat) her fri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b) Andrew (missed/mist) the bus.</a:t>
            </a:r>
            <a:r>
              <a:rPr b="0" lang="en-A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c) The mouse got his (tale/tail) cau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d) Glen has a long (wait/weight) for the b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e) The cat hurt its (pour/poor/pa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f) The old man had no money, he was (pour/poor/pa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g) "Could you (pour/poor/paw) the orange juice, please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(h) Mark got a letter in the (mail/m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ouble Wave 11"/>
          <p:cNvSpPr/>
          <p:nvPr/>
        </p:nvSpPr>
        <p:spPr>
          <a:xfrm>
            <a:off x="5000760" y="4643280"/>
            <a:ext cx="4000320" cy="1785960"/>
          </a:xfrm>
          <a:custGeom>
            <a:avLst/>
            <a:gdLst>
              <a:gd name="textAreaLeft" fmla="*/ 0 w 4000320"/>
              <a:gd name="textAreaRight" fmla="*/ 4000680 w 4000320"/>
              <a:gd name="textAreaTop" fmla="*/ 223200 h 1785960"/>
              <a:gd name="textAreaBottom" fmla="*/ 15627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plain the differences  between thes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or / oar    sail / sale      saw / s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maid / made   main / m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Ribbon 12"/>
          <p:cNvSpPr/>
          <p:nvPr/>
        </p:nvSpPr>
        <p:spPr>
          <a:xfrm>
            <a:off x="0" y="5500800"/>
            <a:ext cx="4929120" cy="1214280"/>
          </a:xfrm>
          <a:custGeom>
            <a:avLst/>
            <a:gdLst>
              <a:gd name="textAreaLeft" fmla="*/ 744480 w 4929120"/>
              <a:gd name="textAreaRight" fmla="*/ 4184640 w 4929120"/>
              <a:gd name="textAreaTop" fmla="*/ 20232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88" y="0"/>
                </a:lnTo>
                <a:arcTo wR="675" hR="900" stAng="16200000" swAng="5400000"/>
                <a:lnTo>
                  <a:pt x="5963" y="3600"/>
                </a:lnTo>
                <a:lnTo>
                  <a:pt x="15637" y="3600"/>
                </a:lnTo>
                <a:lnTo>
                  <a:pt x="15637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8337" y="18000"/>
                </a:lnTo>
                <a:lnTo>
                  <a:pt x="18337" y="20700"/>
                </a:lnTo>
                <a:arcTo wR="675" hR="900" stAng="0" swAng="5400000"/>
                <a:lnTo>
                  <a:pt x="3938" y="21600"/>
                </a:lnTo>
                <a:arcTo wR="675" hR="900" stAng="5400000" swAng="5400000"/>
                <a:lnTo>
                  <a:pt x="3263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5963" y="900"/>
                </a:moveTo>
                <a:arcTo wR="675" hR="900" stAng="0" swAng="5400000"/>
                <a:lnTo>
                  <a:pt x="3938" y="1800"/>
                </a:lnTo>
                <a:arcTo wR="675" hR="900" stAng="16200000" swAng="-5400000"/>
                <a:arcTo wR="675" hR="900" stAng="10800000" swAng="-5400000"/>
                <a:lnTo>
                  <a:pt x="5963" y="3600"/>
                </a:lnTo>
              </a:path>
              <a:path fill="none" w="21600" h="21600">
                <a:moveTo>
                  <a:pt x="15637" y="900"/>
                </a:moveTo>
                <a:arcTo wR="675" hR="900" stAng="10800000" swAng="-5400000"/>
                <a:lnTo>
                  <a:pt x="17662" y="1800"/>
                </a:lnTo>
                <a:arcTo wR="675" hR="900" stAng="16200000" swAng="5400000"/>
                <a:arcTo wR="675" hR="900" stAng="0" swAng="5400000"/>
                <a:lnTo>
                  <a:pt x="15637" y="3600"/>
                </a:lnTo>
              </a:path>
              <a:path fill="none" w="21600" h="21600">
                <a:moveTo>
                  <a:pt x="3263" y="2700"/>
                </a:moveTo>
                <a:lnTo>
                  <a:pt x="3263" y="18000"/>
                </a:lnTo>
              </a:path>
              <a:path fill="none" w="21600" h="21600">
                <a:moveTo>
                  <a:pt x="18337" y="2700"/>
                </a:moveTo>
                <a:lnTo>
                  <a:pt x="18337" y="18000"/>
                </a:lnTo>
              </a:path>
            </a:pathLst>
          </a:custGeom>
          <a:solidFill>
            <a:srgbClr val="ecdd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ttp://www.bbc.co.uk/skillswise/words/spelling/recognising/homophones/game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7"/>
          <p:cNvSpPr/>
          <p:nvPr/>
        </p:nvSpPr>
        <p:spPr>
          <a:xfrm>
            <a:off x="5072040" y="2143080"/>
            <a:ext cx="3857760" cy="456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nderline the error and rewrite the sentences in perfect tense. Use your workbo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1480" y="142560"/>
            <a:ext cx="3071880" cy="571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ERB T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2"/>
          <p:cNvSpPr/>
          <p:nvPr/>
        </p:nvSpPr>
        <p:spPr>
          <a:xfrm>
            <a:off x="214200" y="785880"/>
            <a:ext cx="4500720" cy="27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o form the 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ast tense of most verbs, add -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: jump - jump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o form the 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resent tense of most verbs, add -s or -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s: speak - speak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o form the 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uture tense of most verbs, add the helping verb 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will before the main ver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: fix -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will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ardrop 4"/>
          <p:cNvSpPr/>
          <p:nvPr/>
        </p:nvSpPr>
        <p:spPr>
          <a:xfrm>
            <a:off x="6072120" y="142920"/>
            <a:ext cx="2928960" cy="192888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Examples and rules for irregular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http://chompchomp.com/handouts/irregularrules0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1899" t="22461" r="50367" b="23829"/>
          <a:stretch/>
        </p:blipFill>
        <p:spPr>
          <a:xfrm>
            <a:off x="5572080" y="2714760"/>
            <a:ext cx="2714760" cy="3929040"/>
          </a:xfrm>
          <a:prstGeom prst="rect">
            <a:avLst/>
          </a:prstGeom>
          <a:ln w="0">
            <a:noFill/>
          </a:ln>
        </p:spPr>
      </p:pic>
      <p:sp>
        <p:nvSpPr>
          <p:cNvPr id="109" name="Flowchart: Magnetic Disk 9"/>
          <p:cNvSpPr/>
          <p:nvPr/>
        </p:nvSpPr>
        <p:spPr>
          <a:xfrm>
            <a:off x="214200" y="3571920"/>
            <a:ext cx="2500560" cy="2928960"/>
          </a:xfrm>
          <a:prstGeom prst="flowChartMagneticDisk">
            <a:avLst/>
          </a:prstGeom>
          <a:solidFill>
            <a:srgbClr val="fbb3d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ttp://www.bbc.co.uk/skillswise/words/grammar/tenses/getting_the_right_tense/game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Direct Access Storage 10"/>
          <p:cNvSpPr/>
          <p:nvPr/>
        </p:nvSpPr>
        <p:spPr>
          <a:xfrm>
            <a:off x="2857680" y="4000680"/>
            <a:ext cx="2500200" cy="2286000"/>
          </a:xfrm>
          <a:prstGeom prst="flowChartMagneticDrum">
            <a:avLst/>
          </a:prstGeom>
          <a:solidFill>
            <a:srgbClr val="12fab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ttp://www.arcademicskillbuilders.com/games/viper/vi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99880" y="274320"/>
            <a:ext cx="3071880" cy="654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AU" sz="3200" spc="-1" strike="noStrike">
                <a:solidFill>
                  <a:srgbClr val="558ed5"/>
                </a:solidFill>
                <a:latin typeface="Cooper Black"/>
              </a:rPr>
              <a:t>Synonym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643960" cy="500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Synonyms </a:t>
            </a:r>
            <a:r>
              <a:rPr b="0" lang="en-AU" sz="1400" spc="-1" strike="noStrike">
                <a:solidFill>
                  <a:srgbClr val="002060"/>
                </a:solidFill>
                <a:latin typeface="Calibri"/>
              </a:rPr>
              <a:t>are words with the same or similar meaning. For example, </a:t>
            </a:r>
            <a:r>
              <a:rPr b="1" lang="en-AU" sz="1400" spc="-1" strike="noStrike">
                <a:solidFill>
                  <a:srgbClr val="002060"/>
                </a:solidFill>
                <a:latin typeface="Calibri"/>
              </a:rPr>
              <a:t>joyful, elated, glad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840" y="1428840"/>
            <a:ext cx="2900160" cy="3357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View the PowerPoint  called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alibri"/>
              </a:rPr>
              <a:t>Synonym-ppt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listed on the  page with the following li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anguagearts.pppst.com/synonym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lete the activities on the PowerPo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0280" y="1428840"/>
            <a:ext cx="5429520" cy="3357360"/>
          </a:xfrm>
          <a:prstGeom prst="rect">
            <a:avLst/>
          </a:prstGeom>
          <a:solidFill>
            <a:srgbClr val="a0f1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Copy the sentences below into your Literacy books. Use a thesaurus (and your own knowledge!) to find three alternative words (synonyms) for the underlined word/s in each sentence. N.B. There may be </a:t>
            </a: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more than on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underlined word in a sentence. Set it out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The forest was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sc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In your books write: The forest was frightening/terrifying/petrif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1.) The girl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cri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lou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2.) She was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worri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that she would not be invited to the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3.) Fion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walk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to the park to meet he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4.) Peter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sai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, “No! I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hat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Brussels sprouts! I am not going to eat them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5.) Kim thought how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nic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her birthday cake was as s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at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it with her fam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6.) Jessica told her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friends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how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goo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the Black Hole at Alton Towers w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7.) I was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surpris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when I won first prize at the raff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8.) Toby’s Grandma was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very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pleased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with her birthday pres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9.)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large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bulldozer held up all the traf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10.) The school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trip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promised to be an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onstantia"/>
              </a:rPr>
              <a:t>exciting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5840" y="4857840"/>
          <a:ext cx="8643960" cy="1857240"/>
        </p:xfrm>
        <a:graphic>
          <a:graphicData uri="http://schemas.openxmlformats.org/drawingml/2006/table">
            <a:tbl>
              <a:tblPr/>
              <a:tblGrid>
                <a:gridCol w="2160360"/>
                <a:gridCol w="2162160"/>
                <a:gridCol w="2160720"/>
                <a:gridCol w="2160720"/>
              </a:tblGrid>
              <a:tr h="37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</a:t>
                      </a: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thesaurus.com/ 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mplete the table of SYNONY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a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ve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chie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ger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4572000" cy="439560"/>
          </a:xfrm>
          <a:prstGeom prst="rect">
            <a:avLst/>
          </a:prstGeom>
          <a:solidFill>
            <a:srgbClr val="c595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PITAL LETTERS – PROPER NOU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928800"/>
            <a:ext cx="3357360" cy="2284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hen do you use a capital le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. A sentence always begins with a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2. A proper noun, like a person’s 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begins with a capital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3. A proper noun, like a place, begins with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apital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4. Proper nouns, which are SPE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names, begin with a capital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(Christmas, Easter, June, Monday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3357720"/>
          <a:ext cx="8572320" cy="27860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847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ollowing table. In each box, give an example of a proper nouns for each category. (Don’t forget to use a capital let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vi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hopping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pecial hol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ate of 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ook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amily m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un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des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na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rand of chocol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ri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ake of 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e74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4">
            <a:hlinkClick r:id="rId2" action="ppaction://hlinksldjump"/>
          </p:cNvPr>
          <p:cNvSpPr/>
          <p:nvPr/>
        </p:nvSpPr>
        <p:spPr>
          <a:xfrm>
            <a:off x="4143240" y="928800"/>
            <a:ext cx="4643640" cy="2143080"/>
          </a:xfrm>
          <a:prstGeom prst="rect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harcourtschool.com/activity/basketball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14760" y="274320"/>
            <a:ext cx="3643200" cy="43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Wobbl 1"/>
              </a:rPr>
              <a:t>AD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Vertical Scroll 2"/>
          <p:cNvSpPr/>
          <p:nvPr/>
        </p:nvSpPr>
        <p:spPr>
          <a:xfrm>
            <a:off x="0" y="857160"/>
            <a:ext cx="3714840" cy="585792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Adjectives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are words that describe nouns or pronouns. They help make writing more interesting and clear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Adjectives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 often compare the qualities of things. These are </a:t>
            </a: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adjectives of deg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There are three adjectives of deg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Positive –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describes a quality of a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Will is a </a:t>
            </a:r>
            <a:r>
              <a:rPr b="1" i="1" lang="en-AU" sz="1200" spc="-1" strike="noStrike" u="sng">
                <a:solidFill>
                  <a:srgbClr val="002060"/>
                </a:solidFill>
                <a:uFillTx/>
                <a:latin typeface="Calibri"/>
              </a:rPr>
              <a:t>tall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 bo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Comparative –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makes a comparison between the qualities of two people or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Jack is </a:t>
            </a:r>
            <a:r>
              <a:rPr b="1" i="1" lang="en-AU" sz="1200" spc="-1" strike="noStrike" u="sng">
                <a:solidFill>
                  <a:srgbClr val="002060"/>
                </a:solidFill>
                <a:uFillTx/>
                <a:latin typeface="Calibri"/>
              </a:rPr>
              <a:t>taller</a:t>
            </a:r>
            <a:r>
              <a:rPr b="1" i="1" lang="en-A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than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2060"/>
                </a:solidFill>
                <a:latin typeface="Calibri"/>
              </a:rPr>
              <a:t>Superlative – </a:t>
            </a:r>
            <a:r>
              <a:rPr b="0" lang="en-AU" sz="1200" spc="-1" strike="noStrike">
                <a:solidFill>
                  <a:srgbClr val="002060"/>
                </a:solidFill>
                <a:latin typeface="Calibri"/>
              </a:rPr>
              <a:t>shows the highest degree of difference compared to all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Hamish is the </a:t>
            </a:r>
            <a:r>
              <a:rPr b="1" i="1" lang="en-AU" sz="1200" spc="-1" strike="noStrike" u="sng">
                <a:solidFill>
                  <a:srgbClr val="002060"/>
                </a:solidFill>
                <a:uFillTx/>
                <a:latin typeface="Calibri"/>
              </a:rPr>
              <a:t>tallest</a:t>
            </a:r>
            <a:r>
              <a:rPr b="0" i="1" lang="en-AU" sz="1200" spc="-1" strike="noStrike">
                <a:solidFill>
                  <a:srgbClr val="002060"/>
                </a:solidFill>
                <a:latin typeface="Calibri"/>
              </a:rPr>
              <a:t> boy in ou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929040" y="928800"/>
            <a:ext cx="5000760" cy="475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re's The Adje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n adjective is a word which modifies a noun. It describes the noun, or names one of the characteristics of a no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or example, the following adjectives are underlin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red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car,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wee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apple,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dirty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ircle the adjectives that describe the underlined noun or nouns in each sentence. (Words that you should circle are in italic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: The 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small red shiny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beetle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scampered down the 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green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leaf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. Ten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puppie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are playing in the tall, green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gras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2. Where is the small frying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pan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3. Sam has a blue racing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icycl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4. The black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kitten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was playing with a small red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all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5. Do you know the man in the black leather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jacke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6. I have seven coloured marking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pen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for schoo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7. The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city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is big, dirty, and nois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8. Three beautiful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ir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earching for worm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9. That is the biggest stuffed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toy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in the sho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0. He ran through the wet muddy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field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1. Hand me the yellow plastic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owl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2. The blue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vas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was broken by the naughty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boy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3. The black and white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ca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climbed the fen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4. David has a red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appl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, but Sam has a green 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5. Sam’s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appl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is sou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Horizontal Scroll 4"/>
          <p:cNvSpPr/>
          <p:nvPr/>
        </p:nvSpPr>
        <p:spPr>
          <a:xfrm>
            <a:off x="3357720" y="5857920"/>
            <a:ext cx="5643360" cy="1000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gfl-cymru.org.uk/vtc/ngfl/english/monmouthshire/choose_adj_monmouthshi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1960" cy="439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loud 2">
            <a:hlinkClick r:id="rId1" action="ppaction://hlinksldjump"/>
          </p:cNvPr>
          <p:cNvSpPr/>
          <p:nvPr/>
        </p:nvSpPr>
        <p:spPr>
          <a:xfrm rot="630600">
            <a:off x="4583160" y="674280"/>
            <a:ext cx="4429080" cy="1857600"/>
          </a:xfrm>
          <a:prstGeom prst="pie">
            <a:avLst/>
          </a:prstGeom>
          <a:solidFill>
            <a:srgbClr val="ecdd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bc.co.uk/skillswise/words/spelling/plurals/pluralrules/factsheet1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3"/>
          <p:cNvSpPr/>
          <p:nvPr/>
        </p:nvSpPr>
        <p:spPr>
          <a:xfrm rot="715800">
            <a:off x="4338360" y="2626920"/>
            <a:ext cx="4865760" cy="171144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lancsngfl.ac.uk/curriculum/literacy/lit_site/lit_sites/plurals/pl_6/plurals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 4"/>
          <p:cNvSpPr/>
          <p:nvPr/>
        </p:nvSpPr>
        <p:spPr>
          <a:xfrm rot="808800">
            <a:off x="4497120" y="4571640"/>
            <a:ext cx="4500360" cy="1785960"/>
          </a:xfrm>
          <a:prstGeom prst="pie">
            <a:avLst/>
          </a:prstGeom>
          <a:solidFill>
            <a:srgbClr val="f7e71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manythings.org/wbg/irr_plurals1-mw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8760" y="785880"/>
          <a:ext cx="3786120" cy="5857920"/>
        </p:xfrm>
        <a:graphic>
          <a:graphicData uri="http://schemas.openxmlformats.org/drawingml/2006/table">
            <a:tbl>
              <a:tblPr/>
              <a:tblGrid>
                <a:gridCol w="1893600"/>
                <a:gridCol w="1892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the plural in the column be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99880" y="274680"/>
            <a:ext cx="2357640" cy="511200"/>
          </a:xfrm>
          <a:prstGeom prst="rect">
            <a:avLst/>
          </a:prstGeom>
          <a:solidFill>
            <a:srgbClr val="ecdd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xplosion 2 2">
            <a:hlinkClick r:id="rId1" action="ppaction://hlinksldjump"/>
          </p:cNvPr>
          <p:cNvSpPr/>
          <p:nvPr/>
        </p:nvSpPr>
        <p:spPr>
          <a:xfrm rot="748800">
            <a:off x="137880" y="542520"/>
            <a:ext cx="5692680" cy="32241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tch the following PowerPoint: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bc.co.uk/skillswise/words/grammar/punctuation/commas/flash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ave 3"/>
          <p:cNvSpPr/>
          <p:nvPr/>
        </p:nvSpPr>
        <p:spPr>
          <a:xfrm>
            <a:off x="5715000" y="0"/>
            <a:ext cx="3214800" cy="1714680"/>
          </a:xfrm>
          <a:custGeom>
            <a:avLst/>
            <a:gdLst>
              <a:gd name="textAreaLeft" fmla="*/ 0 w 3214800"/>
              <a:gd name="textAreaRight" fmla="*/ 3215160 w 321480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We use commas in two main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ave 4"/>
          <p:cNvSpPr/>
          <p:nvPr/>
        </p:nvSpPr>
        <p:spPr>
          <a:xfrm>
            <a:off x="4143240" y="1428840"/>
            <a:ext cx="4786560" cy="3214440"/>
          </a:xfrm>
          <a:custGeom>
            <a:avLst/>
            <a:gdLst>
              <a:gd name="textAreaLeft" fmla="*/ 0 w 4786560"/>
              <a:gd name="textAreaRight" fmla="*/ 4786920 w 4786560"/>
              <a:gd name="textAreaTop" fmla="*/ 80352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mmas separate the items in a list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times these items are real things.</a:t>
            </a:r>
            <a:br>
              <a:rPr sz="1200"/>
            </a:br>
            <a:r>
              <a:rPr b="1" i="1" lang="en-AU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 I need some pens, pencils, paper and a calculator before I start my class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I must buy some eggs, milk, sugar and tea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times these items are things you do, or places you go.</a:t>
            </a:r>
            <a:br>
              <a:rPr sz="1200"/>
            </a:br>
            <a:r>
              <a:rPr b="1" i="1" lang="en-AU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 Yesterday I went to work, played badminton, went to the pub and then went to bed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I'm going to spend my holiday walking on the beach, sleeping in the sun and reading my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ave 5"/>
          <p:cNvSpPr/>
          <p:nvPr/>
        </p:nvSpPr>
        <p:spPr>
          <a:xfrm>
            <a:off x="2214720" y="4286160"/>
            <a:ext cx="6572160" cy="2357640"/>
          </a:xfrm>
          <a:custGeom>
            <a:avLst/>
            <a:gdLst>
              <a:gd name="textAreaLeft" fmla="*/ 0 w 6572160"/>
              <a:gd name="textAreaRight" fmla="*/ 6572520 w 6572160"/>
              <a:gd name="textAreaTop" fmla="*/ 589320 h 2357640"/>
              <a:gd name="textAreaBottom" fmla="*/ 176832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mmas mark out the less important part of a sentence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is a useful way to make your sentences more interesting by adding extra information.</a:t>
            </a:r>
            <a:br>
              <a:rPr sz="1200"/>
            </a:br>
            <a:r>
              <a:rPr b="1" i="1" lang="en-AU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 The car, which was parked by the light, had a dog in the back seat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sentence is about the car and the dog, it's not about where the car was parked.</a:t>
            </a:r>
            <a:br>
              <a:rPr sz="1200"/>
            </a:br>
            <a:br>
              <a:rPr sz="1200"/>
            </a:b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Tony, his mum's favourite, was given chocolate cake for tea.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sentence is about Tony eating chocolate cake. We don't need 'his mum's favourite' for the sentence to make sense, it's extra informat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lowchart: Process 7"/>
          <p:cNvSpPr/>
          <p:nvPr/>
        </p:nvSpPr>
        <p:spPr>
          <a:xfrm>
            <a:off x="214200" y="3143160"/>
            <a:ext cx="1857600" cy="3500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bri"/>
              </a:rPr>
              <a:t>Click on the links and complete the following workshe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bri"/>
              </a:rPr>
              <a:t>http://www.bbc.co.uk/skillswise/words/grammar/punctuation/commas/worksheet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bri"/>
              </a:rPr>
              <a:t>Copy into your workbook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57360" y="213840"/>
            <a:ext cx="2786040" cy="35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PO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lowchart: Punched Tape 2"/>
          <p:cNvSpPr/>
          <p:nvPr/>
        </p:nvSpPr>
        <p:spPr>
          <a:xfrm>
            <a:off x="214200" y="214200"/>
            <a:ext cx="3071880" cy="1571760"/>
          </a:xfrm>
          <a:prstGeom prst="flowChartPunchedTape">
            <a:avLst/>
          </a:prstGeom>
          <a:solidFill>
            <a:srgbClr val="10fc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bc.co.uk/skillswise/words/grammar/punctuation/apostrophes/game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Vertical Scroll 4"/>
          <p:cNvSpPr/>
          <p:nvPr/>
        </p:nvSpPr>
        <p:spPr>
          <a:xfrm>
            <a:off x="3857760" y="642960"/>
            <a:ext cx="5286240" cy="6000840"/>
          </a:xfrm>
          <a:prstGeom prst="verticalScroll">
            <a:avLst>
              <a:gd name="adj" fmla="val 12500"/>
            </a:avLst>
          </a:prstGeom>
          <a:solidFill>
            <a:srgbClr val="12fab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Calibri"/>
              </a:rPr>
              <a:t>Rules for Using The Apostro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apostrophe has 2 fun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ne is to show possession/ownership and the other is to show omission of letters or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1. An apostrophe shows owner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John’s new shoes are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1a. These are the student’s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Several books belonging to 1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1b. These are the students’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Books belonging to a group of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My 3 friends’ shirts are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More than 1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The lions’ 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(More than 1 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Amos’ books (instead of Amos’s boo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Sometimes a name ending on an s is given an apostrophe instead of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additional s and apostrophe as seen in the name Amos, typically both are cor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1c. Add an apostrophe to the end of plural nouns that end in 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Boys’ h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Players’ uni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2. An apostrophe is used in contractions when a word or letter(s)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58ed5"/>
                </a:solidFill>
                <a:latin typeface="Calibri"/>
              </a:rPr>
              <a:t>mis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2a. Don’t go outside. (Do n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0000"/>
                </a:solidFill>
                <a:latin typeface="Calibri"/>
              </a:rPr>
              <a:t>I’ll finish my homework later. (I will – I’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nip Same Side Corner Rectangle 5"/>
          <p:cNvSpPr/>
          <p:nvPr/>
        </p:nvSpPr>
        <p:spPr>
          <a:xfrm>
            <a:off x="357120" y="1857240"/>
            <a:ext cx="3143160" cy="4786560"/>
          </a:xfrm>
          <a:prstGeom prst="pie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Put in the appropriate apo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. I cant go with you to Colins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2. Lets go to the Bears game on the week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3. I dont think my dads hat will fi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4. The girls bathing suits need to be put in the dr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(several gir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5. Im going to head down to Clarks department stor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6. Wheres the book I was reading, Im really enjoying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7. I put the dogs bones in the lower  cup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(2 do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8. I put the dogs bones in the lower cup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(1 do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9. Im going to my friends house to work on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0. Jans clothes are always in sty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1. Buy your notebooks here and youll save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12. The cats whiskers are covered in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c82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4143600" cy="582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MPOUND W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oud 2"/>
          <p:cNvSpPr/>
          <p:nvPr/>
        </p:nvSpPr>
        <p:spPr>
          <a:xfrm>
            <a:off x="357120" y="857160"/>
            <a:ext cx="3571920" cy="34290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 word formed when two or more words are joined. Each of the words must be a word that can stand alone. For examp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sea + shore=seash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ain + coat=raincoat, son-in-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32226" t="25394" r="31886" b="10157"/>
          <a:stretch/>
        </p:blipFill>
        <p:spPr>
          <a:xfrm>
            <a:off x="4572000" y="500040"/>
            <a:ext cx="435600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Explosion 2 4"/>
          <p:cNvSpPr/>
          <p:nvPr/>
        </p:nvSpPr>
        <p:spPr>
          <a:xfrm rot="345600">
            <a:off x="-10800" y="4154400"/>
            <a:ext cx="4643640" cy="2857680"/>
          </a:xfrm>
          <a:prstGeom prst="irregularSeal2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rickweb.co.uk/assets/resources/flash.php?&amp;file=compound%20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57360" y="357120"/>
            <a:ext cx="2143080" cy="511200"/>
          </a:xfrm>
          <a:prstGeom prst="rect">
            <a:avLst/>
          </a:prstGeom>
          <a:solidFill>
            <a:srgbClr val="f01c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YPH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ardrop 2"/>
          <p:cNvSpPr/>
          <p:nvPr/>
        </p:nvSpPr>
        <p:spPr>
          <a:xfrm rot="20608800">
            <a:off x="7920" y="379080"/>
            <a:ext cx="2962440" cy="19908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 hyphen is used between parts of a compound word or  name. It is also used to  split a word by syllables to fit on a line of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ardrop 3"/>
          <p:cNvSpPr/>
          <p:nvPr/>
        </p:nvSpPr>
        <p:spPr>
          <a:xfrm>
            <a:off x="6143760" y="214200"/>
            <a:ext cx="2786040" cy="20718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A hyphen is used to make some compound words.</a:t>
            </a:r>
            <a:br>
              <a:rPr sz="1400"/>
            </a:b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Example: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 Matt was not well-known, even though he climbed Mt. Evere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000240" y="1285920"/>
            <a:ext cx="2857680" cy="5572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hyphen is used to form new words beginning with the prefixes self, ex, great, all, and half. A hyphen is also used with suffixes such as free and elect.</a:t>
            </a:r>
            <a:br>
              <a:rPr sz="1800"/>
            </a:b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at-grandfa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alf-bak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-purpo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lf-este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gar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85840" y="2714760"/>
            <a:ext cx="2571840" cy="400032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mbiguity – when the meaning of a sentence is not clear – is often caused by incor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nctuation. Explain why each sentence is ambiguous, then punctuate the sentences so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 meaning becomes cl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1. Man eating tiger destroy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2. For sale: a little used bo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3. Two week holidays to be w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4. Mountain holiday prices at rock bott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5. Beware of car chasing dog on M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215040" y="2714760"/>
            <a:ext cx="2643120" cy="392904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fine each of the following so that their meaning is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. yellow-bel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. even-temp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. tight-li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4. baby-f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. wide-e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6. light-fo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7. pig-h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8. heavy-ha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9. hard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0. long-wi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57:45Z</dcterms:created>
  <dc:creator>Lynette Cartisano</dc:creator>
  <dc:description/>
  <dc:language>en-US</dc:language>
  <cp:lastModifiedBy>Lynette Cartisano</cp:lastModifiedBy>
  <dcterms:modified xsi:type="dcterms:W3CDTF">2010-04-10T02:06:28Z</dcterms:modified>
  <cp:revision>84</cp:revision>
  <dc:subject/>
  <dc:title>Slide 1</dc:title>
</cp:coreProperties>
</file>